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0.gif" ContentType="image/gif"/>
  <Override PartName="/ppt/media/image60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8.wmf" ContentType="image/x-wmf"/>
  <Override PartName="/ppt/media/image61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26.jpeg" ContentType="image/jpeg"/>
  <Override PartName="/ppt/media/image42.png" ContentType="image/png"/>
  <Override PartName="/ppt/media/image25.wmf" ContentType="image/x-wmf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16.png" ContentType="image/png"/>
  <Override PartName="/ppt/media/image24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2.png" ContentType="image/png"/>
  <Override PartName="/ppt/media/image34.png" ContentType="image/png"/>
  <Override PartName="/ppt/media/image64.jpeg" ContentType="image/jpeg"/>
  <Override PartName="/ppt/media/image39.png" ContentType="image/png"/>
  <Override PartName="/ppt/media/image44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91F-6620-48EE-B5D6-E9C2FD52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D5D-8D84-48CC-8170-709A5F59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8DB-0701-47BC-AA6E-137D972F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02F-B21A-486E-8BF0-261BEC16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8D0E-3241-4B34-B367-A3FA1B7D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B713-1E96-481C-BEC4-EB753919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A373-901F-42FC-AFE9-81A938CA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2A08-29D3-4751-8E43-2640151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3E5-AD40-498C-8704-40BA594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AFBE-EDED-4CE1-9426-8CE0B2C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EE28-1874-4D2E-9E8A-66600FF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646-64FE-4622-83BB-5C3373B2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40D1-95C0-4FF1-89B8-9C57EAA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3A0-62AD-4D3E-9A0E-D334499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57F2-BE17-4A53-88EE-7D42E6AC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FB5-E2E4-4767-A433-EB9FFF98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040-85BE-4DF0-B1BA-94B32235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F13A-A3A2-4DE0-B5C8-8BBDFD40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D59A-8205-465D-9A64-D416AE46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16B7-C091-4F09-B483-DB21DD11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BAFC-48DA-418C-8602-9E5BDA54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FB78-A2BF-4A4D-9CEE-D627C77B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0CD-C316-4702-B860-8217B217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B566-5CA4-4C27-9189-1624735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4532-DC52-4D28-A7CA-1A57546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8B3F-09C1-412D-A3CD-CE36EC5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0003-943F-4A71-BADE-D038910B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CA2E-FD2A-4635-B33B-0492E31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E0D2-7951-4C01-8563-7D8D2B6E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3F01-3D33-4C98-BD68-FEA330C0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9684-4CF3-420D-9BD3-AC43E8F3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8D78-EE00-400C-804F-44E2FD7C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ADC5-F6DC-45C9-9522-34E6594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AB6-0A4E-4592-A6DC-FE4D269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FE92-F276-4629-9901-A0CE2C0F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7A68-FFF8-4228-AFD1-5AB4817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1AC6-FB9F-4C98-8143-87E217C3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F767-6F86-48A5-9FDA-CC09BA62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1DBC-00FC-4EA7-AD40-81C0F2E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E067-1F32-4041-85D3-7BC72209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E416-BBC2-44DF-85D4-B5D7E71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0A22-14CD-4179-8895-166D7A1D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37A3D-6A3A-4BFB-9150-5CD3C13B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8571-4934-478D-8FE5-7A9FE130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8B8-0BB4-45CA-A861-C8883835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C6CC-E081-4CE3-8E92-D8381F38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BA32-CC87-4BC7-9491-E217BBF1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BCC8-6A53-4936-A13F-54AA695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CCEF-6781-47DE-B1D8-E562380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F673-232C-48D7-A761-6BBCAFB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C08C-13E5-463E-8368-0A304E1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EA67-B09C-428B-A1CE-73A5F1A2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23670-E17C-4790-B096-ECB03D7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BB1D-503A-4B8F-82F5-C3D25E88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8D82-AF82-4ABB-9406-3FF68A96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56B-86D7-407D-93A3-7380140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B068-6AD9-4022-B7B7-CDD258EA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782F-9638-4EEC-9292-6A0E1011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8AFD-8DB2-4FC0-9BA8-A50B6D8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2C6AD-5A48-4F2C-AE36-A643B2F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DAC2A-BAD4-42F5-8353-7E0C77E8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61A8C-DE71-4C42-B469-3C0E01C7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C23F0-0397-4297-BE0D-4EFE323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8EA2-FDE0-4C2C-9B8C-5B96605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74918-2317-4379-9BD6-D2848ECC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7E1FE-11A0-4F98-87F5-0FBD5485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424-7274-4C1A-91D6-771BA28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5D55-8593-47B0-B3E9-8C8F6228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16BB-AA2F-49EC-BA1F-2D550408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5EB2-3368-487C-9451-46C9475C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D22D-8382-4540-ADD7-FDFD2FF5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3C62-5F8D-4DB4-B528-F68E0B5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95DA7-03A0-4F42-BD31-4BA40C4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749D-EB25-442A-9F21-ECE943A4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B894-DEC4-42F9-BD8C-205D894F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9E3BB-A4B8-4E1C-AF98-6651BF4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678B-D609-4E8B-9B84-A0D08BE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E1C-CBA7-462B-AE2B-3506847B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34540-D4CB-4C6A-B237-9AD4E0E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8C6DE-D5D3-4D11-BDE6-4BFEF14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28C5-AD4D-4BF1-A76F-2EF0B58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41BE-A861-4A40-BC37-F8F26D6F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A4C6C-8389-478E-9122-7AB21F62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A63-DCC9-49EC-87E3-6041B0F2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6CD4-3D65-4AAD-92F8-09B1AE56006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8171-52D0-4CD0-9A85-05B663E15CA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56F6-3501-4EDC-B8C8-4FAEDCCCFFA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B0F3-4A57-40C9-8B05-58FD63DD00B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C58-DF08-4EEE-9E19-3EF93AA12F3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301-1AEF-4CBC-983A-87F11F8DDC4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9797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5A35-D6AD-4D6E-A55A-5E3E2AE22DD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5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image" Target="../media/image26.jpe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6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7.png"/><Relationship Id="rId15" Type="http://schemas.openxmlformats.org/officeDocument/2006/relationships/image" Target="../media/image47.png"/><Relationship Id="rId16" Type="http://schemas.openxmlformats.org/officeDocument/2006/relationships/image" Target="../media/image47.png"/><Relationship Id="rId17" Type="http://schemas.openxmlformats.org/officeDocument/2006/relationships/image" Target="../media/image26.jpeg"/><Relationship Id="rId18" Type="http://schemas.openxmlformats.org/officeDocument/2006/relationships/image" Target="../media/image48.png"/><Relationship Id="rId19" Type="http://schemas.openxmlformats.org/officeDocument/2006/relationships/image" Target="../media/image49.png"/><Relationship Id="rId20" Type="http://schemas.openxmlformats.org/officeDocument/2006/relationships/image" Target="../media/image49.png"/><Relationship Id="rId21" Type="http://schemas.openxmlformats.org/officeDocument/2006/relationships/image" Target="../media/image48.png"/><Relationship Id="rId22" Type="http://schemas.openxmlformats.org/officeDocument/2006/relationships/image" Target="../media/image48.png"/><Relationship Id="rId23" Type="http://schemas.openxmlformats.org/officeDocument/2006/relationships/image" Target="../media/image26.jpeg"/><Relationship Id="rId24" Type="http://schemas.openxmlformats.org/officeDocument/2006/relationships/image" Target="../media/image48.png"/><Relationship Id="rId25" Type="http://schemas.openxmlformats.org/officeDocument/2006/relationships/image" Target="../media/image49.png"/><Relationship Id="rId26" Type="http://schemas.openxmlformats.org/officeDocument/2006/relationships/image" Target="../media/image49.png"/><Relationship Id="rId27" Type="http://schemas.openxmlformats.org/officeDocument/2006/relationships/image" Target="../media/image48.png"/><Relationship Id="rId28" Type="http://schemas.openxmlformats.org/officeDocument/2006/relationships/image" Target="../media/image48.png"/><Relationship Id="rId29" Type="http://schemas.openxmlformats.org/officeDocument/2006/relationships/image" Target="../media/image48.png"/><Relationship Id="rId30" Type="http://schemas.openxmlformats.org/officeDocument/2006/relationships/image" Target="../media/image47.png"/><Relationship Id="rId31" Type="http://schemas.openxmlformats.org/officeDocument/2006/relationships/image" Target="../media/image47.png"/><Relationship Id="rId32" Type="http://schemas.openxmlformats.org/officeDocument/2006/relationships/image" Target="../media/image47.png"/><Relationship Id="rId33" Type="http://schemas.openxmlformats.org/officeDocument/2006/relationships/image" Target="../media/image26.jpeg"/><Relationship Id="rId34" Type="http://schemas.openxmlformats.org/officeDocument/2006/relationships/image" Target="../media/image50.gif"/><Relationship Id="rId35" Type="http://schemas.openxmlformats.org/officeDocument/2006/relationships/image" Target="../media/image50.gif"/><Relationship Id="rId36" Type="http://schemas.openxmlformats.org/officeDocument/2006/relationships/image" Target="../media/image51.png"/><Relationship Id="rId37" Type="http://schemas.openxmlformats.org/officeDocument/2006/relationships/image" Target="../media/image51.png"/><Relationship Id="rId38" Type="http://schemas.openxmlformats.org/officeDocument/2006/relationships/image" Target="../media/image52.png"/><Relationship Id="rId39" Type="http://schemas.openxmlformats.org/officeDocument/2006/relationships/image" Target="../media/image53.png"/><Relationship Id="rId40" Type="http://schemas.openxmlformats.org/officeDocument/2006/relationships/image" Target="../media/image54.png"/><Relationship Id="rId41" Type="http://schemas.openxmlformats.org/officeDocument/2006/relationships/image" Target="../media/image55.png"/><Relationship Id="rId4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wmf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23.png"/><Relationship Id="rId17" Type="http://schemas.openxmlformats.org/officeDocument/2006/relationships/image" Target="../media/image34.png"/><Relationship Id="rId18" Type="http://schemas.openxmlformats.org/officeDocument/2006/relationships/image" Target="../media/image26.jpeg"/><Relationship Id="rId19" Type="http://schemas.openxmlformats.org/officeDocument/2006/relationships/image" Target="../media/image27.jpe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6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26.jpeg"/><Relationship Id="rId31" Type="http://schemas.openxmlformats.org/officeDocument/2006/relationships/image" Target="../media/image39.png"/><Relationship Id="rId3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-42840"/>
            <a:ext cx="801720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IMGP0677"/>
          <p:cNvPicPr/>
          <p:nvPr/>
        </p:nvPicPr>
        <p:blipFill>
          <a:blip r:embed="rId2"/>
          <a:stretch/>
        </p:blipFill>
        <p:spPr>
          <a:xfrm>
            <a:off x="642960" y="2357280"/>
            <a:ext cx="3981600" cy="4219560"/>
          </a:xfrm>
          <a:prstGeom prst="rect">
            <a:avLst/>
          </a:prstGeom>
          <a:ln w="0">
            <a:noFill/>
          </a:ln>
        </p:spPr>
      </p:pic>
      <p:grpSp>
        <p:nvGrpSpPr>
          <p:cNvPr id="303" name="TextBox 7"/>
          <p:cNvGrpSpPr/>
          <p:nvPr/>
        </p:nvGrpSpPr>
        <p:grpSpPr>
          <a:xfrm>
            <a:off x="4773600" y="4413240"/>
            <a:ext cx="3882960" cy="1743120"/>
            <a:chOff x="4773600" y="4413240"/>
            <a:chExt cx="3882960" cy="1743120"/>
          </a:xfrm>
        </p:grpSpPr>
        <p:pic>
          <p:nvPicPr>
            <p:cNvPr id="304" name="TextBox 7" descr=""/>
            <p:cNvPicPr/>
            <p:nvPr/>
          </p:nvPicPr>
          <p:blipFill>
            <a:blip r:embed="rId3"/>
            <a:stretch/>
          </p:blipFill>
          <p:spPr>
            <a:xfrm>
              <a:off x="4773600" y="4413240"/>
              <a:ext cx="38829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57840" y="4500720"/>
              <a:ext cx="371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Century Gothic"/>
                </a:rPr>
                <a:t>Выполнила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entury Gothic"/>
                </a:rPr>
                <a:t>студентка 412 груп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d0d0d"/>
                  </a:solidFill>
                  <a:latin typeface="Century Gothic"/>
                </a:rPr>
                <a:t>Воронина Екатерина Юрьев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E:\математика\Dec19#26.JPG"/>
          <p:cNvPicPr/>
          <p:nvPr/>
        </p:nvPicPr>
        <p:blipFill>
          <a:blip r:embed="rId1"/>
          <a:stretch/>
        </p:blipFill>
        <p:spPr>
          <a:xfrm>
            <a:off x="428760" y="357120"/>
            <a:ext cx="7962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Заголовок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077320" cy="931680"/>
          </a:xfrm>
          <a:prstGeom prst="rect">
            <a:avLst/>
          </a:prstGeom>
          <a:ln w="0">
            <a:noFill/>
          </a:ln>
        </p:spPr>
      </p:pic>
      <p:sp>
        <p:nvSpPr>
          <p:cNvPr id="758" name="TextBox 5"/>
          <p:cNvSpPr/>
          <p:nvPr/>
        </p:nvSpPr>
        <p:spPr>
          <a:xfrm>
            <a:off x="285840" y="78588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2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Во 2 классе учащиеся знакомятся с новой единицей массы – </a:t>
            </a:r>
            <a:r>
              <a:rPr b="1" lang="ru-RU" sz="2400" spc="-1" strike="noStrike" u="sng">
                <a:solidFill>
                  <a:srgbClr val="72002c"/>
                </a:solidFill>
                <a:uFillTx/>
                <a:latin typeface="Arial"/>
              </a:rPr>
              <a:t>граммом. 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Задача учителя  -  сформировать наглядное представление о грамме. С этой целью детям дают подержать гирьку в 1 г. Дети знакомятся с набором гирь, меньших кг, с помощью весов убеждаются, что 1кг равен 1000г. Затем приступают к упражнениям в отвешивании с точностью до грамма. Запись полученных масс, их чтение, сравнение помогает детям усваивать нумерацию чисел в пределах 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56"/>
          <p:cNvSpPr/>
          <p:nvPr/>
        </p:nvSpPr>
        <p:spPr>
          <a:xfrm>
            <a:off x="4071960" y="471492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56"/>
          <p:cNvSpPr/>
          <p:nvPr/>
        </p:nvSpPr>
        <p:spPr>
          <a:xfrm>
            <a:off x="3214800" y="471492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56"/>
          <p:cNvSpPr/>
          <p:nvPr/>
        </p:nvSpPr>
        <p:spPr>
          <a:xfrm>
            <a:off x="2214720" y="471492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56"/>
          <p:cNvSpPr/>
          <p:nvPr/>
        </p:nvSpPr>
        <p:spPr>
          <a:xfrm>
            <a:off x="1214280" y="4714920"/>
            <a:ext cx="64800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56"/>
          <p:cNvSpPr/>
          <p:nvPr/>
        </p:nvSpPr>
        <p:spPr>
          <a:xfrm>
            <a:off x="285840" y="471492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56"/>
          <p:cNvSpPr/>
          <p:nvPr/>
        </p:nvSpPr>
        <p:spPr>
          <a:xfrm>
            <a:off x="3429000" y="5786280"/>
            <a:ext cx="647640" cy="865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6"/>
          <p:cNvSpPr/>
          <p:nvPr/>
        </p:nvSpPr>
        <p:spPr>
          <a:xfrm>
            <a:off x="285840" y="5786280"/>
            <a:ext cx="647640" cy="865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56"/>
          <p:cNvSpPr/>
          <p:nvPr/>
        </p:nvSpPr>
        <p:spPr>
          <a:xfrm>
            <a:off x="1357200" y="5786280"/>
            <a:ext cx="647640" cy="865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0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56"/>
          <p:cNvSpPr/>
          <p:nvPr/>
        </p:nvSpPr>
        <p:spPr>
          <a:xfrm>
            <a:off x="2357280" y="5786280"/>
            <a:ext cx="648000" cy="865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Группа 27"/>
          <p:cNvGrpSpPr/>
          <p:nvPr/>
        </p:nvGrpSpPr>
        <p:grpSpPr>
          <a:xfrm>
            <a:off x="4632480" y="3786120"/>
            <a:ext cx="4011480" cy="2844720"/>
            <a:chOff x="4632480" y="3786120"/>
            <a:chExt cx="4011480" cy="2844720"/>
          </a:xfrm>
        </p:grpSpPr>
        <p:pic>
          <p:nvPicPr>
            <p:cNvPr id="769" name="Picture 4" descr="SY00642_"/>
            <p:cNvPicPr/>
            <p:nvPr/>
          </p:nvPicPr>
          <p:blipFill>
            <a:blip r:embed="rId2"/>
            <a:stretch/>
          </p:blipFill>
          <p:spPr>
            <a:xfrm>
              <a:off x="4632480" y="3786120"/>
              <a:ext cx="4011480" cy="28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Рисунок 7" descr="1 кг.GIF"/>
            <p:cNvPicPr/>
            <p:nvPr/>
          </p:nvPicPr>
          <p:blipFill>
            <a:blip r:embed="rId3"/>
            <a:stretch/>
          </p:blipFill>
          <p:spPr>
            <a:xfrm>
              <a:off x="4929120" y="5072040"/>
              <a:ext cx="8143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AutoShape 56"/>
            <p:cNvSpPr/>
            <p:nvPr/>
          </p:nvSpPr>
          <p:spPr>
            <a:xfrm>
              <a:off x="7572600" y="5357880"/>
              <a:ext cx="790560" cy="865080"/>
            </a:xfrm>
            <a:prstGeom prst="can">
              <a:avLst>
                <a:gd name="adj" fmla="val 30513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0000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000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9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0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0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1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1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2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2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3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3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4"/>
          <p:cNvSpPr/>
          <p:nvPr/>
        </p:nvSpPr>
        <p:spPr>
          <a:xfrm>
            <a:off x="714240" y="35712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Также взвешивают монеты и устанавливают, что масса монеты в 1 рубль – 1г, 2 рубля – 2г, 5 рублей – 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4" descr="SY00642_"/>
          <p:cNvPicPr/>
          <p:nvPr/>
        </p:nvPicPr>
        <p:blipFill>
          <a:blip r:embed="rId1"/>
          <a:stretch/>
        </p:blipFill>
        <p:spPr>
          <a:xfrm>
            <a:off x="4138560" y="1420920"/>
            <a:ext cx="4024440" cy="2859120"/>
          </a:xfrm>
          <a:prstGeom prst="rect">
            <a:avLst/>
          </a:prstGeom>
          <a:ln w="0">
            <a:noFill/>
          </a:ln>
        </p:spPr>
      </p:pic>
      <p:sp>
        <p:nvSpPr>
          <p:cNvPr id="774" name="Овал 6"/>
          <p:cNvSpPr/>
          <p:nvPr/>
        </p:nvSpPr>
        <p:spPr>
          <a:xfrm>
            <a:off x="714240" y="1857240"/>
            <a:ext cx="928800" cy="7858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d0d0d"/>
                </a:solidFill>
                <a:latin typeface="Century Gothic"/>
              </a:rPr>
              <a:t>руб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Овал 7"/>
          <p:cNvSpPr/>
          <p:nvPr/>
        </p:nvSpPr>
        <p:spPr>
          <a:xfrm>
            <a:off x="714240" y="2857680"/>
            <a:ext cx="928800" cy="7855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Gothi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d0d0d"/>
                </a:solidFill>
                <a:latin typeface="Century Gothic"/>
              </a:rPr>
              <a:t>руб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Овал 13"/>
          <p:cNvSpPr/>
          <p:nvPr/>
        </p:nvSpPr>
        <p:spPr>
          <a:xfrm>
            <a:off x="4357800" y="3071880"/>
            <a:ext cx="928440" cy="8571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entury Gothic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entury Gothic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6"/>
          <p:cNvSpPr/>
          <p:nvPr/>
        </p:nvSpPr>
        <p:spPr>
          <a:xfrm>
            <a:off x="7215120" y="307188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5"/>
          <p:cNvSpPr/>
          <p:nvPr/>
        </p:nvSpPr>
        <p:spPr>
          <a:xfrm>
            <a:off x="1785960" y="17146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6"/>
          <p:cNvSpPr/>
          <p:nvPr/>
        </p:nvSpPr>
        <p:spPr>
          <a:xfrm>
            <a:off x="1785960" y="271476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56"/>
          <p:cNvSpPr/>
          <p:nvPr/>
        </p:nvSpPr>
        <p:spPr>
          <a:xfrm>
            <a:off x="2714760" y="278604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6"/>
          <p:cNvSpPr/>
          <p:nvPr/>
        </p:nvSpPr>
        <p:spPr>
          <a:xfrm>
            <a:off x="2714760" y="1714680"/>
            <a:ext cx="64764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2"/>
          <p:cNvSpPr/>
          <p:nvPr/>
        </p:nvSpPr>
        <p:spPr>
          <a:xfrm>
            <a:off x="357120" y="442908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Начиная со 2 класса в процессе решения простых, а затем составных задач учащиеся устанавливают и используют взаимосвязь между величинами: масса одного предмета – количество предметов – их общая масса, учатся вычислять каждую из величин, если известны значения двух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20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20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4"/>
          <p:cNvSpPr/>
          <p:nvPr/>
        </p:nvSpPr>
        <p:spPr>
          <a:xfrm>
            <a:off x="285840" y="2858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44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Какие гири надо взять, чтобы получ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Arial"/>
              </a:rPr>
              <a:t>7г?  80г?  300 г?  600г ? 735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7" descr="1 кг.GIF"/>
          <p:cNvPicPr/>
          <p:nvPr/>
        </p:nvPicPr>
        <p:blipFill>
          <a:blip r:embed="rId1"/>
          <a:stretch/>
        </p:blipFill>
        <p:spPr>
          <a:xfrm>
            <a:off x="7000920" y="428760"/>
            <a:ext cx="479520" cy="714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56"/>
          <p:cNvSpPr/>
          <p:nvPr/>
        </p:nvSpPr>
        <p:spPr>
          <a:xfrm>
            <a:off x="7572240" y="428760"/>
            <a:ext cx="362160" cy="642960"/>
          </a:xfrm>
          <a:prstGeom prst="can">
            <a:avLst>
              <a:gd name="adj" fmla="val 18800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8"/>
          <p:cNvSpPr/>
          <p:nvPr/>
        </p:nvSpPr>
        <p:spPr>
          <a:xfrm>
            <a:off x="8072280" y="35712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5005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9"/>
          <p:cNvSpPr/>
          <p:nvPr/>
        </p:nvSpPr>
        <p:spPr>
          <a:xfrm>
            <a:off x="500040" y="20001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2. Девочка купила 2 пачки печенья, по 200 г каждая, и 2 пачки чая, по 50 г каждая. Поставь вопрос и реши за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Группа 23"/>
          <p:cNvGrpSpPr/>
          <p:nvPr/>
        </p:nvGrpSpPr>
        <p:grpSpPr>
          <a:xfrm>
            <a:off x="1071720" y="3595320"/>
            <a:ext cx="7072200" cy="2976840"/>
            <a:chOff x="1071720" y="3595320"/>
            <a:chExt cx="7072200" cy="2976840"/>
          </a:xfrm>
        </p:grpSpPr>
        <p:pic>
          <p:nvPicPr>
            <p:cNvPr id="789" name="Рисунок 10" descr="pic2a.gif"/>
            <p:cNvPicPr/>
            <p:nvPr/>
          </p:nvPicPr>
          <p:blipFill>
            <a:blip r:embed="rId2"/>
            <a:stretch/>
          </p:blipFill>
          <p:spPr>
            <a:xfrm>
              <a:off x="3885480" y="3643200"/>
              <a:ext cx="1027440" cy="26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Рисунок 7" descr="САХАР.GIF"/>
            <p:cNvPicPr/>
            <p:nvPr/>
          </p:nvPicPr>
          <p:blipFill>
            <a:blip r:embed="rId3"/>
            <a:stretch/>
          </p:blipFill>
          <p:spPr>
            <a:xfrm>
              <a:off x="1908000" y="3643200"/>
              <a:ext cx="126720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Рисунок 7" descr="САХАР.GIF"/>
            <p:cNvPicPr/>
            <p:nvPr/>
          </p:nvPicPr>
          <p:blipFill>
            <a:blip r:embed="rId4"/>
            <a:stretch/>
          </p:blipFill>
          <p:spPr>
            <a:xfrm>
              <a:off x="2060280" y="5063400"/>
              <a:ext cx="126720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Прямоугольник 13"/>
            <p:cNvSpPr/>
            <p:nvPr/>
          </p:nvSpPr>
          <p:spPr>
            <a:xfrm rot="19898400">
              <a:off x="2114280" y="3759480"/>
              <a:ext cx="868320" cy="7020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d0d0d"/>
                  </a:solidFill>
                  <a:latin typeface="Century Gothic"/>
                </a:rPr>
                <a:t>печень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Прямоугольник 14"/>
            <p:cNvSpPr/>
            <p:nvPr/>
          </p:nvSpPr>
          <p:spPr>
            <a:xfrm rot="19898400">
              <a:off x="2227320" y="5173920"/>
              <a:ext cx="868320" cy="702000"/>
            </a:xfrm>
            <a:prstGeom prst="rect">
              <a:avLst/>
            </a:prstGeom>
            <a:solidFill>
              <a:srgbClr val="ff388c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d0d0d"/>
                  </a:solidFill>
                  <a:latin typeface="Century Gothic"/>
                </a:rPr>
                <a:t>печень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56"/>
            <p:cNvSpPr/>
            <p:nvPr/>
          </p:nvSpPr>
          <p:spPr>
            <a:xfrm>
              <a:off x="1071720" y="4353120"/>
              <a:ext cx="765360" cy="1153800"/>
            </a:xfrm>
            <a:prstGeom prst="can">
              <a:avLst>
                <a:gd name="adj" fmla="val 25861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0000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00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Группа 22"/>
            <p:cNvGrpSpPr/>
            <p:nvPr/>
          </p:nvGrpSpPr>
          <p:grpSpPr>
            <a:xfrm>
              <a:off x="5406480" y="3820680"/>
              <a:ext cx="2737440" cy="2751480"/>
              <a:chOff x="5406480" y="3820680"/>
              <a:chExt cx="2737440" cy="2751480"/>
            </a:xfrm>
          </p:grpSpPr>
          <p:pic>
            <p:nvPicPr>
              <p:cNvPr id="796" name="Рисунок 5" descr="соль.GIF"/>
              <p:cNvPicPr/>
              <p:nvPr/>
            </p:nvPicPr>
            <p:blipFill>
              <a:blip r:embed="rId5"/>
              <a:stretch/>
            </p:blipFill>
            <p:spPr>
              <a:xfrm>
                <a:off x="5406480" y="3820680"/>
                <a:ext cx="816120" cy="133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Рисунок 5" descr="соль.GIF"/>
              <p:cNvPicPr/>
              <p:nvPr/>
            </p:nvPicPr>
            <p:blipFill>
              <a:blip r:embed="rId6"/>
              <a:stretch/>
            </p:blipFill>
            <p:spPr>
              <a:xfrm>
                <a:off x="5406480" y="5240880"/>
                <a:ext cx="816120" cy="13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Прямоугольник 17"/>
              <p:cNvSpPr/>
              <p:nvPr/>
            </p:nvSpPr>
            <p:spPr>
              <a:xfrm rot="21051000">
                <a:off x="5627160" y="4041000"/>
                <a:ext cx="532080" cy="1064880"/>
              </a:xfrm>
              <a:prstGeom prst="rect">
                <a:avLst/>
              </a:prstGeom>
              <a:solidFill>
                <a:srgbClr val="ff388c"/>
              </a:solidFill>
              <a:ln w="1908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d0d0d"/>
                    </a:solidFill>
                    <a:latin typeface="Century Gothic"/>
                  </a:rPr>
                  <a:t>ча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Прямоугольник 18"/>
              <p:cNvSpPr/>
              <p:nvPr/>
            </p:nvSpPr>
            <p:spPr>
              <a:xfrm rot="21051000">
                <a:off x="5627160" y="5461560"/>
                <a:ext cx="532080" cy="1064880"/>
              </a:xfrm>
              <a:prstGeom prst="rect">
                <a:avLst/>
              </a:prstGeom>
              <a:solidFill>
                <a:srgbClr val="ff388c"/>
              </a:solidFill>
              <a:ln w="1908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d0d0d"/>
                    </a:solidFill>
                    <a:latin typeface="Century Gothic"/>
                  </a:rPr>
                  <a:t>ча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Box 19"/>
              <p:cNvSpPr/>
              <p:nvPr/>
            </p:nvSpPr>
            <p:spPr>
              <a:xfrm>
                <a:off x="7079400" y="4086720"/>
                <a:ext cx="106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449e"/>
                    </a:solidFill>
                    <a:latin typeface="Arial"/>
                  </a:rPr>
                  <a:t>?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56"/>
              <p:cNvSpPr/>
              <p:nvPr/>
            </p:nvSpPr>
            <p:spPr>
              <a:xfrm>
                <a:off x="6546960" y="4885560"/>
                <a:ext cx="461160" cy="798840"/>
              </a:xfrm>
              <a:prstGeom prst="can">
                <a:avLst>
                  <a:gd name="adj" fmla="val 22509"/>
                </a:avLst>
              </a:prstGeom>
              <a:gradFill rotWithShape="0">
                <a:gsLst>
                  <a:gs pos="0">
                    <a:srgbClr val="0066ff"/>
                  </a:gs>
                  <a:gs pos="50000">
                    <a:srgbClr val="0000ff"/>
                  </a:gs>
                  <a:gs pos="100000">
                    <a:srgbClr val="0066ff"/>
                  </a:gs>
                </a:gsLst>
                <a:lin ang="5400000"/>
              </a:gra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50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30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Заголовок 1" descr=""/>
          <p:cNvPicPr/>
          <p:nvPr/>
        </p:nvPicPr>
        <p:blipFill>
          <a:blip r:embed="rId1"/>
          <a:stretch/>
        </p:blipFill>
        <p:spPr>
          <a:xfrm>
            <a:off x="566640" y="-133200"/>
            <a:ext cx="8070840" cy="925200"/>
          </a:xfrm>
          <a:prstGeom prst="rect">
            <a:avLst/>
          </a:prstGeom>
          <a:ln w="0">
            <a:noFill/>
          </a:ln>
        </p:spPr>
      </p:pic>
      <p:sp>
        <p:nvSpPr>
          <p:cNvPr id="803" name="Прямоугольник 3"/>
          <p:cNvSpPr/>
          <p:nvPr/>
        </p:nvSpPr>
        <p:spPr>
          <a:xfrm>
            <a:off x="2071800" y="571680"/>
            <a:ext cx="480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776"/>
                </a:solidFill>
                <a:latin typeface="Arial"/>
              </a:rPr>
              <a:t>центнер и тон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"/>
          <p:cNvSpPr/>
          <p:nvPr/>
        </p:nvSpPr>
        <p:spPr>
          <a:xfrm>
            <a:off x="428760" y="135720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В 3 – 4 классах учащиеся знакомятся с новыми единицами массы – </a:t>
            </a:r>
            <a:r>
              <a:rPr b="1" lang="ru-RU" sz="2400" spc="-1" strike="noStrike" u="sng">
                <a:solidFill>
                  <a:srgbClr val="72002c"/>
                </a:solidFill>
                <a:uFillTx/>
                <a:latin typeface="Arial"/>
              </a:rPr>
              <a:t>центнером и тонной, 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устанавливаются их соотношения с килограммом, составляется и заучивается таблица единиц массы. Чтобы дать конкретные  представления о новых единицах массы используют рисунки и иллюстративные таблицы единиц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Группа 72"/>
          <p:cNvGrpSpPr/>
          <p:nvPr/>
        </p:nvGrpSpPr>
        <p:grpSpPr>
          <a:xfrm>
            <a:off x="285480" y="4000680"/>
            <a:ext cx="3214800" cy="2490840"/>
            <a:chOff x="285480" y="4000680"/>
            <a:chExt cx="3214800" cy="2490840"/>
          </a:xfrm>
        </p:grpSpPr>
        <p:grpSp>
          <p:nvGrpSpPr>
            <p:cNvPr id="806" name="Group 542"/>
            <p:cNvGrpSpPr/>
            <p:nvPr/>
          </p:nvGrpSpPr>
          <p:grpSpPr>
            <a:xfrm>
              <a:off x="613800" y="4000680"/>
              <a:ext cx="1416600" cy="1574280"/>
              <a:chOff x="613800" y="4000680"/>
              <a:chExt cx="1416600" cy="1574280"/>
            </a:xfrm>
          </p:grpSpPr>
          <p:sp>
            <p:nvSpPr>
              <p:cNvPr id="807" name="Rectangle 543"/>
              <p:cNvSpPr/>
              <p:nvPr/>
            </p:nvSpPr>
            <p:spPr>
              <a:xfrm>
                <a:off x="1907280" y="4417200"/>
                <a:ext cx="123120" cy="56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8" name="Group 544"/>
              <p:cNvGrpSpPr/>
              <p:nvPr/>
            </p:nvGrpSpPr>
            <p:grpSpPr>
              <a:xfrm>
                <a:off x="613800" y="4000680"/>
                <a:ext cx="1174320" cy="1574280"/>
                <a:chOff x="613800" y="4000680"/>
                <a:chExt cx="1174320" cy="1574280"/>
              </a:xfrm>
            </p:grpSpPr>
            <p:sp>
              <p:nvSpPr>
                <p:cNvPr id="809" name="Freeform 545"/>
                <p:cNvSpPr/>
                <p:nvPr/>
              </p:nvSpPr>
              <p:spPr>
                <a:xfrm>
                  <a:off x="1226160" y="4185720"/>
                  <a:ext cx="255240" cy="2311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546"/>
                <p:cNvSpPr/>
                <p:nvPr/>
              </p:nvSpPr>
              <p:spPr>
                <a:xfrm>
                  <a:off x="869040" y="4185720"/>
                  <a:ext cx="357120" cy="18504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547"/>
                <p:cNvSpPr/>
                <p:nvPr/>
              </p:nvSpPr>
              <p:spPr>
                <a:xfrm>
                  <a:off x="1430640" y="4231800"/>
                  <a:ext cx="357120" cy="1850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48"/>
                <p:cNvSpPr/>
                <p:nvPr/>
              </p:nvSpPr>
              <p:spPr>
                <a:xfrm>
                  <a:off x="1073160" y="4139280"/>
                  <a:ext cx="255240" cy="2311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49"/>
                <p:cNvSpPr/>
                <p:nvPr/>
              </p:nvSpPr>
              <p:spPr>
                <a:xfrm>
                  <a:off x="1277280" y="4000680"/>
                  <a:ext cx="254880" cy="2311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50"/>
                <p:cNvSpPr/>
                <p:nvPr/>
              </p:nvSpPr>
              <p:spPr>
                <a:xfrm>
                  <a:off x="716040" y="4231800"/>
                  <a:ext cx="1072080" cy="1342800"/>
                </a:xfrm>
                <a:prstGeom prst="pi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5" name="Group 551"/>
                <p:cNvGrpSpPr/>
                <p:nvPr/>
              </p:nvGrpSpPr>
              <p:grpSpPr>
                <a:xfrm>
                  <a:off x="613800" y="5065560"/>
                  <a:ext cx="918720" cy="509400"/>
                  <a:chOff x="613800" y="5065560"/>
                  <a:chExt cx="918720" cy="509400"/>
                </a:xfrm>
              </p:grpSpPr>
              <p:sp>
                <p:nvSpPr>
                  <p:cNvPr id="816" name="Freeform 552"/>
                  <p:cNvSpPr/>
                  <p:nvPr/>
                </p:nvSpPr>
                <p:spPr>
                  <a:xfrm>
                    <a:off x="970920" y="5343480"/>
                    <a:ext cx="254880" cy="23148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Freeform 553"/>
                  <p:cNvSpPr/>
                  <p:nvPr/>
                </p:nvSpPr>
                <p:spPr>
                  <a:xfrm>
                    <a:off x="613800" y="5343480"/>
                    <a:ext cx="357120" cy="18504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554"/>
                  <p:cNvSpPr/>
                  <p:nvPr/>
                </p:nvSpPr>
                <p:spPr>
                  <a:xfrm>
                    <a:off x="1175400" y="5389560"/>
                    <a:ext cx="357120" cy="18504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555"/>
                  <p:cNvSpPr/>
                  <p:nvPr/>
                </p:nvSpPr>
                <p:spPr>
                  <a:xfrm>
                    <a:off x="817920" y="5250600"/>
                    <a:ext cx="254880" cy="23148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Freeform 556"/>
                  <p:cNvSpPr/>
                  <p:nvPr/>
                </p:nvSpPr>
                <p:spPr>
                  <a:xfrm>
                    <a:off x="1124280" y="5204520"/>
                    <a:ext cx="254880" cy="23148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Freeform 557"/>
                  <p:cNvSpPr/>
                  <p:nvPr/>
                </p:nvSpPr>
                <p:spPr>
                  <a:xfrm>
                    <a:off x="970920" y="5065560"/>
                    <a:ext cx="254880" cy="231480"/>
                  </a:xfrm>
                  <a:prstGeom prst="pie">
                    <a:avLst/>
                  </a:prstGeom>
                  <a:blipFill rotWithShape="0">
                    <a:blip r:embed="rId13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Freeform 558"/>
                <p:cNvSpPr/>
                <p:nvPr/>
              </p:nvSpPr>
              <p:spPr>
                <a:xfrm>
                  <a:off x="1022400" y="4093200"/>
                  <a:ext cx="203760" cy="13860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559"/>
                <p:cNvSpPr/>
                <p:nvPr/>
              </p:nvSpPr>
              <p:spPr>
                <a:xfrm>
                  <a:off x="1481760" y="4139280"/>
                  <a:ext cx="203760" cy="13860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560"/>
                <p:cNvSpPr/>
                <p:nvPr/>
              </p:nvSpPr>
              <p:spPr>
                <a:xfrm>
                  <a:off x="1124280" y="4000680"/>
                  <a:ext cx="204120" cy="13860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Freeform 561"/>
              <p:cNvSpPr/>
              <p:nvPr/>
            </p:nvSpPr>
            <p:spPr>
              <a:xfrm>
                <a:off x="716040" y="4247640"/>
                <a:ext cx="1216800" cy="347040"/>
              </a:xfrm>
              <a:prstGeom prst="pi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542"/>
            <p:cNvGrpSpPr/>
            <p:nvPr/>
          </p:nvGrpSpPr>
          <p:grpSpPr>
            <a:xfrm>
              <a:off x="1991520" y="4051440"/>
              <a:ext cx="1508760" cy="1509480"/>
              <a:chOff x="1991520" y="4051440"/>
              <a:chExt cx="1508760" cy="1509480"/>
            </a:xfrm>
          </p:grpSpPr>
          <p:sp>
            <p:nvSpPr>
              <p:cNvPr id="827" name="Rectangle 543"/>
              <p:cNvSpPr/>
              <p:nvPr/>
            </p:nvSpPr>
            <p:spPr>
              <a:xfrm>
                <a:off x="3294720" y="4451040"/>
                <a:ext cx="20556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Group 544"/>
              <p:cNvGrpSpPr/>
              <p:nvPr/>
            </p:nvGrpSpPr>
            <p:grpSpPr>
              <a:xfrm>
                <a:off x="1991520" y="4051440"/>
                <a:ext cx="1182960" cy="1509480"/>
                <a:chOff x="1991520" y="4051440"/>
                <a:chExt cx="1182960" cy="1509480"/>
              </a:xfrm>
            </p:grpSpPr>
            <p:sp>
              <p:nvSpPr>
                <p:cNvPr id="829" name="Freeform 545"/>
                <p:cNvSpPr/>
                <p:nvPr/>
              </p:nvSpPr>
              <p:spPr>
                <a:xfrm>
                  <a:off x="2608560" y="4228920"/>
                  <a:ext cx="257040" cy="2217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546"/>
                <p:cNvSpPr/>
                <p:nvPr/>
              </p:nvSpPr>
              <p:spPr>
                <a:xfrm>
                  <a:off x="2248560" y="4228920"/>
                  <a:ext cx="359640" cy="17748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547"/>
                <p:cNvSpPr/>
                <p:nvPr/>
              </p:nvSpPr>
              <p:spPr>
                <a:xfrm>
                  <a:off x="2814480" y="4273200"/>
                  <a:ext cx="360000" cy="1774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548"/>
                <p:cNvSpPr/>
                <p:nvPr/>
              </p:nvSpPr>
              <p:spPr>
                <a:xfrm>
                  <a:off x="2454120" y="4184640"/>
                  <a:ext cx="257040" cy="2217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549"/>
                <p:cNvSpPr/>
                <p:nvPr/>
              </p:nvSpPr>
              <p:spPr>
                <a:xfrm>
                  <a:off x="2660040" y="4051440"/>
                  <a:ext cx="257040" cy="2217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550"/>
                <p:cNvSpPr/>
                <p:nvPr/>
              </p:nvSpPr>
              <p:spPr>
                <a:xfrm>
                  <a:off x="2094480" y="4273200"/>
                  <a:ext cx="1080000" cy="1287720"/>
                </a:xfrm>
                <a:prstGeom prst="pi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5" name="Group 551"/>
                <p:cNvGrpSpPr/>
                <p:nvPr/>
              </p:nvGrpSpPr>
              <p:grpSpPr>
                <a:xfrm>
                  <a:off x="1991520" y="5072760"/>
                  <a:ext cx="925200" cy="488160"/>
                  <a:chOff x="1991520" y="5072760"/>
                  <a:chExt cx="925200" cy="488160"/>
                </a:xfrm>
              </p:grpSpPr>
              <p:sp>
                <p:nvSpPr>
                  <p:cNvPr id="836" name="Freeform 552"/>
                  <p:cNvSpPr/>
                  <p:nvPr/>
                </p:nvSpPr>
                <p:spPr>
                  <a:xfrm>
                    <a:off x="2351520" y="5339160"/>
                    <a:ext cx="257040" cy="221760"/>
                  </a:xfrm>
                  <a:prstGeom prst="pie">
                    <a:avLst/>
                  </a:prstGeom>
                  <a:blipFill rotWithShape="0">
                    <a:blip r:embed="rId24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553"/>
                  <p:cNvSpPr/>
                  <p:nvPr/>
                </p:nvSpPr>
                <p:spPr>
                  <a:xfrm>
                    <a:off x="1991520" y="5339160"/>
                    <a:ext cx="360000" cy="177480"/>
                  </a:xfrm>
                  <a:prstGeom prst="pie">
                    <a:avLst/>
                  </a:prstGeom>
                  <a:blipFill rotWithShape="0">
                    <a:blip r:embed="rId25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Freeform 554"/>
                  <p:cNvSpPr/>
                  <p:nvPr/>
                </p:nvSpPr>
                <p:spPr>
                  <a:xfrm>
                    <a:off x="2557080" y="5383440"/>
                    <a:ext cx="359640" cy="177480"/>
                  </a:xfrm>
                  <a:prstGeom prst="pie">
                    <a:avLst/>
                  </a:prstGeom>
                  <a:blipFill rotWithShape="0">
                    <a:blip r:embed="rId26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Freeform 555"/>
                  <p:cNvSpPr/>
                  <p:nvPr/>
                </p:nvSpPr>
                <p:spPr>
                  <a:xfrm>
                    <a:off x="2197080" y="5250240"/>
                    <a:ext cx="257040" cy="222120"/>
                  </a:xfrm>
                  <a:prstGeom prst="pie">
                    <a:avLst/>
                  </a:prstGeom>
                  <a:blipFill rotWithShape="0">
                    <a:blip r:embed="rId2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Freeform 556"/>
                  <p:cNvSpPr/>
                  <p:nvPr/>
                </p:nvSpPr>
                <p:spPr>
                  <a:xfrm>
                    <a:off x="2505600" y="5205960"/>
                    <a:ext cx="257040" cy="221760"/>
                  </a:xfrm>
                  <a:prstGeom prst="pie">
                    <a:avLst/>
                  </a:prstGeom>
                  <a:blipFill rotWithShape="0">
                    <a:blip r:embed="rId28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Freeform 557"/>
                  <p:cNvSpPr/>
                  <p:nvPr/>
                </p:nvSpPr>
                <p:spPr>
                  <a:xfrm>
                    <a:off x="2351520" y="5072760"/>
                    <a:ext cx="257040" cy="221760"/>
                  </a:xfrm>
                  <a:prstGeom prst="pie">
                    <a:avLst/>
                  </a:prstGeom>
                  <a:blipFill rotWithShape="0">
                    <a:blip r:embed="rId2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" name="Freeform 558"/>
                <p:cNvSpPr/>
                <p:nvPr/>
              </p:nvSpPr>
              <p:spPr>
                <a:xfrm>
                  <a:off x="2403000" y="4140000"/>
                  <a:ext cx="205560" cy="13320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559"/>
                <p:cNvSpPr/>
                <p:nvPr/>
              </p:nvSpPr>
              <p:spPr>
                <a:xfrm>
                  <a:off x="2865960" y="4184640"/>
                  <a:ext cx="205560" cy="13320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560"/>
                <p:cNvSpPr/>
                <p:nvPr/>
              </p:nvSpPr>
              <p:spPr>
                <a:xfrm>
                  <a:off x="2505600" y="4051440"/>
                  <a:ext cx="205560" cy="13320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Freeform 561"/>
              <p:cNvSpPr/>
              <p:nvPr/>
            </p:nvSpPr>
            <p:spPr>
              <a:xfrm>
                <a:off x="2094480" y="4287960"/>
                <a:ext cx="1225440" cy="332640"/>
              </a:xfrm>
              <a:prstGeom prst="pi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75"/>
            <p:cNvSpPr/>
            <p:nvPr/>
          </p:nvSpPr>
          <p:spPr>
            <a:xfrm rot="5400000">
              <a:off x="1770120" y="4089960"/>
              <a:ext cx="244800" cy="3214440"/>
            </a:xfrm>
            <a:custGeom>
              <a:avLst/>
              <a:gdLst>
                <a:gd name="textAreaLeft" fmla="*/ 0 w 244800"/>
                <a:gd name="textAreaRight" fmla="*/ 88200 w 244800"/>
                <a:gd name="textAreaTop" fmla="*/ 65520 h 3214440"/>
                <a:gd name="textAreaBottom" fmla="*/ 3148920 h 32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6"/>
                    <a:pt x="10800" y="1411"/>
                  </a:cubicBezTo>
                  <a:lnTo>
                    <a:pt x="10800" y="9389"/>
                  </a:lnTo>
                  <a:cubicBezTo>
                    <a:pt x="10800" y="10095"/>
                    <a:pt x="16200" y="10800"/>
                    <a:pt x="21600" y="10800"/>
                  </a:cubicBezTo>
                  <a:cubicBezTo>
                    <a:pt x="16200" y="10800"/>
                    <a:pt x="10800" y="11506"/>
                    <a:pt x="10800" y="12211"/>
                  </a:cubicBezTo>
                  <a:lnTo>
                    <a:pt x="10800" y="20189"/>
                  </a:lnTo>
                  <a:cubicBezTo>
                    <a:pt x="10800" y="2089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2c7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8"/>
            <p:cNvSpPr/>
            <p:nvPr/>
          </p:nvSpPr>
          <p:spPr>
            <a:xfrm>
              <a:off x="1138680" y="5727240"/>
              <a:ext cx="236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1 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Группа 75"/>
          <p:cNvGrpSpPr/>
          <p:nvPr/>
        </p:nvGrpSpPr>
        <p:grpSpPr>
          <a:xfrm>
            <a:off x="4714920" y="4003560"/>
            <a:ext cx="3301200" cy="2631600"/>
            <a:chOff x="4714920" y="4003560"/>
            <a:chExt cx="3301200" cy="2631600"/>
          </a:xfrm>
        </p:grpSpPr>
        <p:grpSp>
          <p:nvGrpSpPr>
            <p:cNvPr id="849" name="Group 673"/>
            <p:cNvGrpSpPr/>
            <p:nvPr/>
          </p:nvGrpSpPr>
          <p:grpSpPr>
            <a:xfrm>
              <a:off x="4736520" y="4003560"/>
              <a:ext cx="3279600" cy="1843920"/>
              <a:chOff x="4736520" y="4003560"/>
              <a:chExt cx="3279600" cy="1843920"/>
            </a:xfrm>
          </p:grpSpPr>
          <p:grpSp>
            <p:nvGrpSpPr>
              <p:cNvPr id="850" name="Group 674"/>
              <p:cNvGrpSpPr/>
              <p:nvPr/>
            </p:nvGrpSpPr>
            <p:grpSpPr>
              <a:xfrm>
                <a:off x="5249520" y="5189400"/>
                <a:ext cx="528840" cy="440280"/>
                <a:chOff x="5249520" y="5189400"/>
                <a:chExt cx="528840" cy="440280"/>
              </a:xfrm>
            </p:grpSpPr>
            <p:pic>
              <p:nvPicPr>
                <p:cNvPr id="851" name="Picture 675" descr="17b1"/>
                <p:cNvPicPr/>
                <p:nvPr/>
              </p:nvPicPr>
              <p:blipFill>
                <a:blip r:embed="rId34"/>
                <a:stretch/>
              </p:blipFill>
              <p:spPr>
                <a:xfrm flipH="1" rot="21111600">
                  <a:off x="5273640" y="5221440"/>
                  <a:ext cx="480240" cy="37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AutoShape 676"/>
                <p:cNvSpPr/>
                <p:nvPr/>
              </p:nvSpPr>
              <p:spPr>
                <a:xfrm flipH="1" rot="21112200">
                  <a:off x="5273280" y="5221440"/>
                  <a:ext cx="480240" cy="376200"/>
                </a:xfrm>
                <a:prstGeom prst="pie">
                  <a:avLst/>
                </a:prstGeom>
                <a:solidFill>
                  <a:srgbClr val="d2d2d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677"/>
              <p:cNvGrpSpPr/>
              <p:nvPr/>
            </p:nvGrpSpPr>
            <p:grpSpPr>
              <a:xfrm>
                <a:off x="6994440" y="5168520"/>
                <a:ext cx="528840" cy="440280"/>
                <a:chOff x="6994440" y="5168520"/>
                <a:chExt cx="528840" cy="440280"/>
              </a:xfrm>
            </p:grpSpPr>
            <p:pic>
              <p:nvPicPr>
                <p:cNvPr id="854" name="Picture 678" descr="17b1"/>
                <p:cNvPicPr/>
                <p:nvPr/>
              </p:nvPicPr>
              <p:blipFill>
                <a:blip r:embed="rId35"/>
                <a:stretch/>
              </p:blipFill>
              <p:spPr>
                <a:xfrm flipH="1" rot="21111600">
                  <a:off x="7018560" y="5200560"/>
                  <a:ext cx="480240" cy="37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AutoShape 679"/>
                <p:cNvSpPr/>
                <p:nvPr/>
              </p:nvSpPr>
              <p:spPr>
                <a:xfrm flipH="1" rot="21112200">
                  <a:off x="7018200" y="5200560"/>
                  <a:ext cx="480240" cy="376200"/>
                </a:xfrm>
                <a:prstGeom prst="pie">
                  <a:avLst/>
                </a:prstGeom>
                <a:solidFill>
                  <a:srgbClr val="d2d2d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" name="Freeform 680"/>
              <p:cNvSpPr/>
              <p:nvPr/>
            </p:nvSpPr>
            <p:spPr>
              <a:xfrm flipH="1" rot="21112200">
                <a:off x="4820760" y="4216320"/>
                <a:ext cx="3110400" cy="1418400"/>
              </a:xfrm>
              <a:prstGeom prst="pi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63504" dir="19383909" blurRad="0" rotWithShape="0">
                  <a:srgbClr val="e4005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Group 681"/>
              <p:cNvGrpSpPr/>
              <p:nvPr/>
            </p:nvGrpSpPr>
            <p:grpSpPr>
              <a:xfrm>
                <a:off x="6111360" y="4577400"/>
                <a:ext cx="605160" cy="372600"/>
                <a:chOff x="6111360" y="4577400"/>
                <a:chExt cx="605160" cy="372600"/>
              </a:xfrm>
            </p:grpSpPr>
            <p:sp>
              <p:nvSpPr>
                <p:cNvPr id="858" name="Freeform 682"/>
                <p:cNvSpPr/>
                <p:nvPr/>
              </p:nvSpPr>
              <p:spPr>
                <a:xfrm flipH="1" rot="21576000">
                  <a:off x="6112080" y="4579200"/>
                  <a:ext cx="602640" cy="3682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d2d2d2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683"/>
                <p:cNvSpPr/>
                <p:nvPr/>
              </p:nvSpPr>
              <p:spPr>
                <a:xfrm flipH="1" rot="21576000">
                  <a:off x="6399360" y="4579200"/>
                  <a:ext cx="45000" cy="354600"/>
                </a:xfrm>
                <a:prstGeom prst="pie">
                  <a:avLst/>
                </a:prstGeom>
                <a:solidFill>
                  <a:srgbClr val="ff388c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d2d2d2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Group 684"/>
              <p:cNvGrpSpPr/>
              <p:nvPr/>
            </p:nvGrpSpPr>
            <p:grpSpPr>
              <a:xfrm>
                <a:off x="5481360" y="4599360"/>
                <a:ext cx="605160" cy="372600"/>
                <a:chOff x="5481360" y="4599360"/>
                <a:chExt cx="605160" cy="372600"/>
              </a:xfrm>
            </p:grpSpPr>
            <p:sp>
              <p:nvSpPr>
                <p:cNvPr id="861" name="Freeform 685"/>
                <p:cNvSpPr/>
                <p:nvPr/>
              </p:nvSpPr>
              <p:spPr>
                <a:xfrm flipH="1" rot="21576000">
                  <a:off x="5482080" y="4601160"/>
                  <a:ext cx="602640" cy="36828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d2d2d2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686"/>
                <p:cNvSpPr/>
                <p:nvPr/>
              </p:nvSpPr>
              <p:spPr>
                <a:xfrm flipH="1" rot="21576000">
                  <a:off x="5769360" y="4601520"/>
                  <a:ext cx="45000" cy="353880"/>
                </a:xfrm>
                <a:prstGeom prst="pie">
                  <a:avLst/>
                </a:prstGeom>
                <a:solidFill>
                  <a:srgbClr val="ff388c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  <a:effectLst>
                  <a:outerShdw dist="38160" dir="16200000" blurRad="0" rotWithShape="0">
                    <a:srgbClr val="d2d2d2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Freeform 687"/>
              <p:cNvSpPr/>
              <p:nvPr/>
            </p:nvSpPr>
            <p:spPr>
              <a:xfrm flipH="1" rot="21576000">
                <a:off x="4846680" y="4583880"/>
                <a:ext cx="590760" cy="426600"/>
              </a:xfrm>
              <a:prstGeom prst="pie">
                <a:avLst/>
              </a:prstGeom>
              <a:blipFill rotWithShape="0">
                <a:blip r:embed="rId3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688"/>
              <p:cNvSpPr/>
              <p:nvPr/>
            </p:nvSpPr>
            <p:spPr>
              <a:xfrm flipH="1" rot="21576000">
                <a:off x="5128560" y="4628520"/>
                <a:ext cx="43920" cy="354600"/>
              </a:xfrm>
              <a:prstGeom prst="pie">
                <a:avLst/>
              </a:prstGeom>
              <a:solidFill>
                <a:srgbClr val="ff388c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689"/>
              <p:cNvSpPr/>
              <p:nvPr/>
            </p:nvSpPr>
            <p:spPr>
              <a:xfrm flipH="1" rot="21576000">
                <a:off x="7226640" y="4456440"/>
                <a:ext cx="502560" cy="478440"/>
              </a:xfrm>
              <a:prstGeom prst="pie">
                <a:avLst/>
              </a:prstGeom>
              <a:blipFill rotWithShape="0">
                <a:blip r:embed="rId3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690"/>
              <p:cNvSpPr/>
              <p:nvPr/>
            </p:nvSpPr>
            <p:spPr>
              <a:xfrm flipH="1" rot="21576000">
                <a:off x="7461360" y="4543200"/>
                <a:ext cx="33840" cy="354600"/>
              </a:xfrm>
              <a:prstGeom prst="pie">
                <a:avLst/>
              </a:prstGeom>
              <a:solidFill>
                <a:srgbClr val="ff388c"/>
              </a:solid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691"/>
              <p:cNvSpPr/>
              <p:nvPr/>
            </p:nvSpPr>
            <p:spPr>
              <a:xfrm flipH="1" rot="21576000">
                <a:off x="5257800" y="5193720"/>
                <a:ext cx="534240" cy="265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692"/>
              <p:cNvSpPr/>
              <p:nvPr/>
            </p:nvSpPr>
            <p:spPr>
              <a:xfrm flipH="1" rot="21576000">
                <a:off x="7016400" y="5172840"/>
                <a:ext cx="534240" cy="26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693"/>
              <p:cNvSpPr/>
              <p:nvPr/>
            </p:nvSpPr>
            <p:spPr>
              <a:xfrm flipH="1" rot="21576000">
                <a:off x="7896600" y="5013000"/>
                <a:ext cx="87840" cy="109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694"/>
              <p:cNvSpPr/>
              <p:nvPr/>
            </p:nvSpPr>
            <p:spPr>
              <a:xfrm flipH="1" rot="21576000">
                <a:off x="6708960" y="4442040"/>
                <a:ext cx="534240" cy="989640"/>
              </a:xfrm>
              <a:prstGeom prst="pie">
                <a:avLst/>
              </a:prstGeom>
              <a:blipFill rotWithShape="0">
                <a:blip r:embed="rId4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695"/>
              <p:cNvSpPr/>
              <p:nvPr/>
            </p:nvSpPr>
            <p:spPr>
              <a:xfrm flipH="1" rot="21576000">
                <a:off x="6744240" y="4558680"/>
                <a:ext cx="470160" cy="368280"/>
              </a:xfrm>
              <a:prstGeom prst="pie">
                <a:avLst/>
              </a:prstGeom>
              <a:blipFill rotWithShape="0">
                <a:blip r:embed="rId4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696"/>
              <p:cNvSpPr/>
              <p:nvPr/>
            </p:nvSpPr>
            <p:spPr>
              <a:xfrm flipH="1" rot="21576000">
                <a:off x="6761520" y="4943520"/>
                <a:ext cx="29880" cy="90720"/>
              </a:xfrm>
              <a:prstGeom prst="pie">
                <a:avLst/>
              </a:prstGeom>
              <a:solidFill>
                <a:srgbClr val="ff388c"/>
              </a:solidFill>
              <a:ln w="19080">
                <a:solidFill>
                  <a:srgbClr val="4d4d4d"/>
                </a:solidFill>
                <a:round/>
              </a:ln>
              <a:effectLst>
                <a:outerShdw dist="38160" dir="16200000" blurRad="0" rotWithShape="0">
                  <a:srgbClr val="d2d2d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AutoShape 75"/>
            <p:cNvSpPr/>
            <p:nvPr/>
          </p:nvSpPr>
          <p:spPr>
            <a:xfrm rot="5400000">
              <a:off x="6224040" y="4195080"/>
              <a:ext cx="267480" cy="3286080"/>
            </a:xfrm>
            <a:custGeom>
              <a:avLst/>
              <a:gdLst>
                <a:gd name="textAreaLeft" fmla="*/ 0 w 267480"/>
                <a:gd name="textAreaRight" fmla="*/ 96480 w 267480"/>
                <a:gd name="textAreaTop" fmla="*/ 66960 h 3286080"/>
                <a:gd name="textAreaBottom" fmla="*/ 3219120 h 32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06"/>
                    <a:pt x="10800" y="1411"/>
                  </a:cubicBezTo>
                  <a:lnTo>
                    <a:pt x="10800" y="9389"/>
                  </a:lnTo>
                  <a:cubicBezTo>
                    <a:pt x="10800" y="10095"/>
                    <a:pt x="16200" y="10800"/>
                    <a:pt x="21600" y="10800"/>
                  </a:cubicBezTo>
                  <a:cubicBezTo>
                    <a:pt x="16200" y="10800"/>
                    <a:pt x="10800" y="11506"/>
                    <a:pt x="10800" y="12211"/>
                  </a:cubicBezTo>
                  <a:lnTo>
                    <a:pt x="10800" y="20189"/>
                  </a:lnTo>
                  <a:cubicBezTo>
                    <a:pt x="10800" y="2089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Box 74"/>
            <p:cNvSpPr/>
            <p:nvPr/>
          </p:nvSpPr>
          <p:spPr>
            <a:xfrm>
              <a:off x="5519520" y="5870880"/>
              <a:ext cx="228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1 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2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Box 3"/>
          <p:cNvSpPr/>
          <p:nvPr/>
        </p:nvSpPr>
        <p:spPr>
          <a:xfrm>
            <a:off x="571680" y="2142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На данном этапе приступают к преобразованию величин, выраженных в единицах массы (заменяя мелкие единицы крупными и обратно), а также сравнивают массы и выполняют арифметические действия над ними. В процессе этих упражнений закрепляются знания таблицы единиц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Группа 20"/>
          <p:cNvGrpSpPr/>
          <p:nvPr/>
        </p:nvGrpSpPr>
        <p:grpSpPr>
          <a:xfrm>
            <a:off x="357120" y="2884320"/>
            <a:ext cx="7215120" cy="1758960"/>
            <a:chOff x="357120" y="2884320"/>
            <a:chExt cx="7215120" cy="1758960"/>
          </a:xfrm>
        </p:grpSpPr>
        <p:pic>
          <p:nvPicPr>
            <p:cNvPr id="87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06200" y="2884320"/>
              <a:ext cx="6566040" cy="8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57120" y="3648240"/>
              <a:ext cx="652392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57120" y="4062960"/>
              <a:ext cx="6722280" cy="58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Прямоугольник 7"/>
          <p:cNvSpPr/>
          <p:nvPr/>
        </p:nvSpPr>
        <p:spPr>
          <a:xfrm>
            <a:off x="0" y="45007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Прямоугольник 11"/>
          <p:cNvSpPr/>
          <p:nvPr/>
        </p:nvSpPr>
        <p:spPr>
          <a:xfrm>
            <a:off x="1931040" y="60721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214200" y="459900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449e"/>
                </a:solidFill>
                <a:uFillTx/>
                <a:latin typeface="Arial"/>
              </a:rPr>
              <a:t>Выбери пару равных вели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14"/>
          <p:cNvSpPr/>
          <p:nvPr/>
        </p:nvSpPr>
        <p:spPr>
          <a:xfrm>
            <a:off x="357120" y="60721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Arial"/>
              </a:rPr>
              <a:t>3 кг 4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2286000" y="6072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Arial"/>
              </a:rPr>
              <a:t>3040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16"/>
          <p:cNvSpPr/>
          <p:nvPr/>
        </p:nvSpPr>
        <p:spPr>
          <a:xfrm>
            <a:off x="285840" y="53341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Arial"/>
              </a:rPr>
              <a:t>5 т 80 кг  и  580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7"/>
          <p:cNvSpPr/>
          <p:nvPr/>
        </p:nvSpPr>
        <p:spPr>
          <a:xfrm>
            <a:off x="285840" y="56912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Arial"/>
              </a:rPr>
              <a:t>13 т  и  13000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8"/>
          <p:cNvSpPr/>
          <p:nvPr/>
        </p:nvSpPr>
        <p:spPr>
          <a:xfrm>
            <a:off x="5286240" y="469116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8007f"/>
                </a:solidFill>
                <a:uFillTx/>
                <a:latin typeface="Arial"/>
              </a:rPr>
              <a:t>Сра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9"/>
          <p:cNvSpPr/>
          <p:nvPr/>
        </p:nvSpPr>
        <p:spPr>
          <a:xfrm>
            <a:off x="4286160" y="51436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8007f"/>
                </a:solidFill>
                <a:latin typeface="Arial"/>
              </a:rPr>
              <a:t>2700 кг и  72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2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6480"/>
            <a:ext cx="8101080" cy="1493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4"/>
          <p:cNvSpPr/>
          <p:nvPr/>
        </p:nvSpPr>
        <p:spPr>
          <a:xfrm>
            <a:off x="500040" y="171468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449e"/>
                </a:solidFill>
                <a:uFillTx/>
                <a:latin typeface="Arial"/>
              </a:rPr>
              <a:t>1. Выполни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5"/>
          <p:cNvSpPr/>
          <p:nvPr/>
        </p:nvSpPr>
        <p:spPr>
          <a:xfrm>
            <a:off x="500040" y="207180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0043"/>
                </a:solidFill>
                <a:latin typeface="Arial"/>
              </a:rPr>
              <a:t>38 кг  20 г  +  732 кг  486 г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6"/>
          <p:cNvSpPr/>
          <p:nvPr/>
        </p:nvSpPr>
        <p:spPr>
          <a:xfrm>
            <a:off x="500040" y="2714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449e"/>
                </a:solidFill>
                <a:uFillTx/>
                <a:latin typeface="Arial"/>
              </a:rPr>
              <a:t>2.Не вычисляя, выбери д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такие величины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одна была в 26 раз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7"/>
          <p:cNvSpPr/>
          <p:nvPr/>
        </p:nvSpPr>
        <p:spPr>
          <a:xfrm>
            <a:off x="3991680" y="278604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619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8"/>
          <p:cNvSpPr/>
          <p:nvPr/>
        </p:nvSpPr>
        <p:spPr>
          <a:xfrm>
            <a:off x="5134680" y="278604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347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9"/>
          <p:cNvSpPr/>
          <p:nvPr/>
        </p:nvSpPr>
        <p:spPr>
          <a:xfrm>
            <a:off x="6281640" y="278604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19 т 838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10"/>
          <p:cNvSpPr/>
          <p:nvPr/>
        </p:nvSpPr>
        <p:spPr>
          <a:xfrm>
            <a:off x="3852720" y="335772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15 т 926 к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1"/>
          <p:cNvSpPr/>
          <p:nvPr/>
        </p:nvSpPr>
        <p:spPr>
          <a:xfrm>
            <a:off x="5795640" y="335772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16 т 94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Прямоугольник 12" descr=""/>
          <p:cNvPicPr/>
          <p:nvPr/>
        </p:nvPicPr>
        <p:blipFill>
          <a:blip r:embed="rId2"/>
          <a:stretch/>
        </p:blipFill>
        <p:spPr>
          <a:xfrm>
            <a:off x="476280" y="4170240"/>
            <a:ext cx="5467320" cy="12495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13"/>
          <p:cNvSpPr/>
          <p:nvPr/>
        </p:nvSpPr>
        <p:spPr>
          <a:xfrm>
            <a:off x="642960" y="542916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3f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4e003f"/>
                </a:solidFill>
                <a:uFillTx/>
                <a:latin typeface="Arial"/>
              </a:rPr>
              <a:t>Вставь пропущен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4"/>
          <p:cNvSpPr/>
          <p:nvPr/>
        </p:nvSpPr>
        <p:spPr>
          <a:xfrm>
            <a:off x="3857760" y="528624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86553 кг =        т      ц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г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=          ц       к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E:\математика\матем 4.JPG"/>
          <p:cNvPicPr/>
          <p:nvPr/>
        </p:nvPicPr>
        <p:blipFill>
          <a:blip r:embed="rId1"/>
          <a:stretch/>
        </p:blipFill>
        <p:spPr>
          <a:xfrm>
            <a:off x="357120" y="428760"/>
            <a:ext cx="81010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2" descr="C:\Documents and Settings\Admin\Рабочий стол\длина масса объем 2.jpg"/>
          <p:cNvPicPr/>
          <p:nvPr/>
        </p:nvPicPr>
        <p:blipFill>
          <a:blip r:embed="rId1"/>
          <a:srcRect l="3969" t="5215" r="3898" b="62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C:\Documents and Settings\Admin\Рабочий стол\все меры 2.jpg"/>
          <p:cNvPicPr/>
          <p:nvPr/>
        </p:nvPicPr>
        <p:blipFill>
          <a:blip r:embed="rId1"/>
          <a:srcRect l="4751" t="7290" r="4698" b="8336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F:\ELENA\PowerPoint\Materiali dla prezentacij\STRANI\Afrika raznije\map1.JPG"/>
          <p:cNvPicPr/>
          <p:nvPr/>
        </p:nvPicPr>
        <p:blipFill>
          <a:blip r:embed="rId1"/>
          <a:stretch/>
        </p:blipFill>
        <p:spPr>
          <a:xfrm>
            <a:off x="5786280" y="3786120"/>
            <a:ext cx="2900520" cy="27306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3"/>
          <p:cNvSpPr/>
          <p:nvPr/>
        </p:nvSpPr>
        <p:spPr>
          <a:xfrm>
            <a:off x="571680" y="357120"/>
            <a:ext cx="7429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0042"/>
                </a:solidFill>
                <a:latin typeface="Arial"/>
              </a:rPr>
              <a:t>Изучение величин имеет большое значение, так как понятие величины является важнейшим понятием математики. Каждая изучаемая величина – это некоторое обобщенное свойство реальных объектов окружающего мира. Упражнения в измерениях развивают пространственные представления, вооружают учащихся важными практическими навыками, которые широко применяются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0042"/>
                </a:solidFill>
                <a:latin typeface="Arial"/>
              </a:rPr>
              <a:t>Следовательно, из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0042"/>
                </a:solidFill>
                <a:latin typeface="Arial"/>
              </a:rPr>
              <a:t>величин – это одно из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0042"/>
                </a:solidFill>
                <a:latin typeface="Arial"/>
              </a:rPr>
              <a:t>связи обучения с жиз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2" descr="C:\Documents and Settings\Admin\Рабочий стол\сложение и вычитание величин.jpg"/>
          <p:cNvPicPr/>
          <p:nvPr/>
        </p:nvPicPr>
        <p:blipFill>
          <a:blip r:embed="rId1"/>
          <a:srcRect l="4094" t="6262" r="3911" b="6262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C:\Documents and Settings\Admin\Рабочий стол\умножение и деление величин.jpg"/>
          <p:cNvPicPr/>
          <p:nvPr/>
        </p:nvPicPr>
        <p:blipFill>
          <a:blip r:embed="rId1"/>
          <a:srcRect l="6562" t="3123" r="5624" b="51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93560" y="182520"/>
            <a:ext cx="8077320" cy="9270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642960" y="1500120"/>
            <a:ext cx="735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42"/>
                </a:solidFill>
                <a:latin typeface="Arial"/>
              </a:rPr>
              <a:t>Сформировать конкретные представления о массе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42"/>
                </a:solidFill>
                <a:latin typeface="Arial"/>
              </a:rPr>
              <a:t>Познакомить учащихся с единицами массы ( кг, г, т, ц) и их соотнош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42"/>
                </a:solidFill>
                <a:latin typeface="Arial"/>
              </a:rPr>
              <a:t>Сформировать умение переводить массы, выраженные в единицах одних наименований, в единицы других наиме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c004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0042"/>
                </a:solidFill>
                <a:latin typeface="Arial"/>
              </a:rPr>
              <a:t>Сформировать умение складывать и вычитать массы, выраженные в единицах двух различных наименований , а также умножать и делить массу на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4"/>
          <p:cNvSpPr/>
          <p:nvPr/>
        </p:nvSpPr>
        <p:spPr>
          <a:xfrm>
            <a:off x="428760" y="500040"/>
            <a:ext cx="757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Первые представления о том, что предметы имеют массу, дети получают в жизненной практике до школы. Взяв в руки предметы, дети на основе ощущений устанавливают, какой предмет тяжелее, какой легче или по массе они одинак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7" descr="Вова.gif"/>
          <p:cNvPicPr/>
          <p:nvPr/>
        </p:nvPicPr>
        <p:blipFill>
          <a:blip r:embed="rId1"/>
          <a:stretch/>
        </p:blipFill>
        <p:spPr>
          <a:xfrm>
            <a:off x="1643040" y="2454120"/>
            <a:ext cx="3492360" cy="411804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2"/>
          <a:stretch/>
        </p:blipFill>
        <p:spPr>
          <a:xfrm>
            <a:off x="4705200" y="1809720"/>
            <a:ext cx="3743640" cy="3152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картинки\Clipart\Праздник\Шары\BALLOON.WMF"/>
          <p:cNvPicPr/>
          <p:nvPr/>
        </p:nvPicPr>
        <p:blipFill>
          <a:blip r:embed="rId3"/>
          <a:stretch/>
        </p:blipFill>
        <p:spPr>
          <a:xfrm rot="7638000">
            <a:off x="2395800" y="4450320"/>
            <a:ext cx="1084320" cy="1714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картинки\Clipart\Еда\Ягоды\BD08890_.WMF"/>
          <p:cNvPicPr/>
          <p:nvPr/>
        </p:nvPicPr>
        <p:blipFill>
          <a:blip r:embed="rId4"/>
          <a:stretch/>
        </p:blipFill>
        <p:spPr>
          <a:xfrm>
            <a:off x="3929040" y="4429080"/>
            <a:ext cx="1386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3" descr="Вова 2.gif"/>
          <p:cNvPicPr/>
          <p:nvPr/>
        </p:nvPicPr>
        <p:blipFill>
          <a:blip r:embed="rId1"/>
          <a:stretch/>
        </p:blipFill>
        <p:spPr>
          <a:xfrm>
            <a:off x="1643040" y="3681360"/>
            <a:ext cx="1446120" cy="272592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3" descr="7.gif"/>
          <p:cNvPicPr/>
          <p:nvPr/>
        </p:nvPicPr>
        <p:blipFill>
          <a:blip r:embed="rId2"/>
          <a:stretch/>
        </p:blipFill>
        <p:spPr>
          <a:xfrm>
            <a:off x="5786280" y="3214800"/>
            <a:ext cx="1857600" cy="3240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5"/>
          <p:cNvSpPr/>
          <p:nvPr/>
        </p:nvSpPr>
        <p:spPr>
          <a:xfrm>
            <a:off x="571680" y="35712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Однако чувственный опыт младших школьников недостаточно велик, поэтому сравнить массу двух предметов на руку дети могут лишь в том случае, если предметы по данному свойству очень отличаются друг от друга, а по другим свойствам сходны. Сильное влияние на оценку массы оказывают размеры предмета ( большой по объему предмет кажется им всегда большим по масс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3643200" y="3429000"/>
            <a:ext cx="1714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0" spc="-1" strike="noStrike">
                <a:solidFill>
                  <a:srgbClr val="72002c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714240" y="500040"/>
            <a:ext cx="514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2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Чтобы помочь детям выделить массу среди других свойств, следует для сравнения давать предметы, имеющие различную массу, но сходные по размеру (например, два одинаковых кубика: один пластмассовый, другой металличес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7"/>
          <p:cNvGrpSpPr/>
          <p:nvPr/>
        </p:nvGrpSpPr>
        <p:grpSpPr>
          <a:xfrm>
            <a:off x="5715000" y="2714760"/>
            <a:ext cx="2857680" cy="3714480"/>
            <a:chOff x="5715000" y="2714760"/>
            <a:chExt cx="2857680" cy="3714480"/>
          </a:xfrm>
        </p:grpSpPr>
        <p:pic>
          <p:nvPicPr>
            <p:cNvPr id="321" name="Рисунок 4" descr="Вова 2.gif"/>
            <p:cNvPicPr/>
            <p:nvPr/>
          </p:nvPicPr>
          <p:blipFill>
            <a:blip r:embed="rId1"/>
            <a:stretch/>
          </p:blipFill>
          <p:spPr>
            <a:xfrm>
              <a:off x="5987160" y="2714760"/>
              <a:ext cx="244944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Куб 5"/>
            <p:cNvSpPr/>
            <p:nvPr/>
          </p:nvSpPr>
          <p:spPr>
            <a:xfrm>
              <a:off x="5715000" y="4666320"/>
              <a:ext cx="1088640" cy="881280"/>
            </a:xfrm>
            <a:prstGeom prst="cube">
              <a:avLst>
                <a:gd name="adj" fmla="val 25000"/>
              </a:avLst>
            </a:prstGeom>
            <a:solidFill>
              <a:srgbClr val="2c71ff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72002c"/>
                  </a:solidFill>
                  <a:latin typeface="Century Gothic"/>
                </a:rPr>
                <a:t>М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Куб 6"/>
            <p:cNvSpPr/>
            <p:nvPr/>
          </p:nvSpPr>
          <p:spPr>
            <a:xfrm>
              <a:off x="7416000" y="4666320"/>
              <a:ext cx="1156680" cy="8406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1908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72002c"/>
                  </a:solidFill>
                  <a:latin typeface="Century Gothic"/>
                </a:rPr>
                <a:t>П</a:t>
              </a:r>
              <a:r>
                <a:rPr b="0" lang="ru-RU" sz="6000" spc="-1" strike="noStrike">
                  <a:solidFill>
                    <a:srgbClr val="72002c"/>
                  </a:solidFill>
                  <a:latin typeface="Century Gothic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566640" y="19080"/>
            <a:ext cx="8070840" cy="9255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1428840" y="928800"/>
            <a:ext cx="61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776"/>
                </a:solidFill>
                <a:latin typeface="Arial"/>
              </a:rPr>
              <a:t>килограм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357120" y="18572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2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Первая единица массы, с которой знакомятся дети, - </a:t>
            </a:r>
            <a:r>
              <a:rPr b="1" lang="ru-RU" sz="2400" spc="-1" strike="noStrike" u="sng">
                <a:solidFill>
                  <a:srgbClr val="72002c"/>
                </a:solidFill>
                <a:uFillTx/>
                <a:latin typeface="Arial"/>
              </a:rPr>
              <a:t>килограмм.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 Учитель приносит на урок несколько предметов, масса каждого из которых равна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5" descr="соль.GIF"/>
          <p:cNvPicPr/>
          <p:nvPr/>
        </p:nvPicPr>
        <p:blipFill>
          <a:blip r:embed="rId2"/>
          <a:stretch/>
        </p:blipFill>
        <p:spPr>
          <a:xfrm>
            <a:off x="1500120" y="4214880"/>
            <a:ext cx="1482840" cy="20718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6" descr="gerkules.jpg"/>
          <p:cNvPicPr/>
          <p:nvPr/>
        </p:nvPicPr>
        <p:blipFill>
          <a:blip r:embed="rId3"/>
          <a:stretch/>
        </p:blipFill>
        <p:spPr>
          <a:xfrm>
            <a:off x="3714840" y="3214800"/>
            <a:ext cx="1287360" cy="15001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7" descr="САХАР.GIF"/>
          <p:cNvPicPr/>
          <p:nvPr/>
        </p:nvPicPr>
        <p:blipFill>
          <a:blip r:embed="rId4"/>
          <a:stretch/>
        </p:blipFill>
        <p:spPr>
          <a:xfrm>
            <a:off x="5500800" y="4286160"/>
            <a:ext cx="2149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3"/>
          <p:cNvSpPr/>
          <p:nvPr/>
        </p:nvSpPr>
        <p:spPr>
          <a:xfrm>
            <a:off x="285840" y="21420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2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Чтобы сформировать конкретные</a:t>
            </a:r>
            <a:r>
              <a:rPr b="1" lang="en-US" sz="2400" spc="-1" strike="noStrike">
                <a:solidFill>
                  <a:srgbClr val="72002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представления о массе в 1 кг, детям дают подержать в руках предметы с такой массой и сравнить их с предметами, которые тяжелее или легче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9"/>
          <p:cNvGrpSpPr/>
          <p:nvPr/>
        </p:nvGrpSpPr>
        <p:grpSpPr>
          <a:xfrm>
            <a:off x="6500880" y="1714680"/>
            <a:ext cx="1846080" cy="2334960"/>
            <a:chOff x="6500880" y="1714680"/>
            <a:chExt cx="1846080" cy="2334960"/>
          </a:xfrm>
        </p:grpSpPr>
        <p:pic>
          <p:nvPicPr>
            <p:cNvPr id="332" name="Рисунок 4" descr="Катя с яблоками.gif"/>
            <p:cNvPicPr/>
            <p:nvPr/>
          </p:nvPicPr>
          <p:blipFill>
            <a:blip r:embed="rId1"/>
            <a:srcRect l="0" t="0" r="0" b="5882"/>
            <a:stretch/>
          </p:blipFill>
          <p:spPr>
            <a:xfrm>
              <a:off x="6660720" y="1714680"/>
              <a:ext cx="168624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Рисунок 15" descr="gerkules.jpg"/>
            <p:cNvPicPr/>
            <p:nvPr/>
          </p:nvPicPr>
          <p:blipFill>
            <a:blip r:embed="rId2"/>
            <a:stretch/>
          </p:blipFill>
          <p:spPr>
            <a:xfrm rot="20475000">
              <a:off x="6572160" y="2556360"/>
              <a:ext cx="468720" cy="52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Group 41"/>
            <p:cNvGrpSpPr/>
            <p:nvPr/>
          </p:nvGrpSpPr>
          <p:grpSpPr>
            <a:xfrm>
              <a:off x="7874640" y="2539800"/>
              <a:ext cx="444960" cy="765360"/>
              <a:chOff x="7874640" y="2539800"/>
              <a:chExt cx="444960" cy="765360"/>
            </a:xfrm>
          </p:grpSpPr>
          <p:sp>
            <p:nvSpPr>
              <p:cNvPr id="335" name="Freeform 42"/>
              <p:cNvSpPr/>
              <p:nvPr/>
            </p:nvSpPr>
            <p:spPr>
              <a:xfrm rot="20829600">
                <a:off x="7919640" y="2688480"/>
                <a:ext cx="354600" cy="4460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e400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3"/>
              <p:cNvSpPr/>
              <p:nvPr/>
            </p:nvSpPr>
            <p:spPr>
              <a:xfrm rot="20829600">
                <a:off x="8123400" y="2556360"/>
                <a:ext cx="169920" cy="17964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e400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4"/>
              <p:cNvSpPr/>
              <p:nvPr/>
            </p:nvSpPr>
            <p:spPr>
              <a:xfrm flipH="1" flipV="1" rot="20829600">
                <a:off x="7903080" y="3108600"/>
                <a:ext cx="169560" cy="179640"/>
              </a:xfrm>
              <a:prstGeom prst="pie">
                <a:avLst/>
              </a:prstGeom>
              <a:solidFill>
                <a:srgbClr val="ff0000"/>
              </a:solidFill>
              <a:ln w="3240">
                <a:solidFill>
                  <a:srgbClr val="e400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17"/>
          <p:cNvGrpSpPr/>
          <p:nvPr/>
        </p:nvGrpSpPr>
        <p:grpSpPr>
          <a:xfrm>
            <a:off x="857160" y="1928880"/>
            <a:ext cx="1303560" cy="2338200"/>
            <a:chOff x="857160" y="1928880"/>
            <a:chExt cx="1303560" cy="2338200"/>
          </a:xfrm>
        </p:grpSpPr>
        <p:pic>
          <p:nvPicPr>
            <p:cNvPr id="339" name="Рисунок 20" descr="Вова 2.gif"/>
            <p:cNvPicPr/>
            <p:nvPr/>
          </p:nvPicPr>
          <p:blipFill>
            <a:blip r:embed="rId4"/>
            <a:stretch/>
          </p:blipFill>
          <p:spPr>
            <a:xfrm>
              <a:off x="857160" y="1928880"/>
              <a:ext cx="130356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Рисунок 21" descr="соль.GIF"/>
            <p:cNvPicPr/>
            <p:nvPr/>
          </p:nvPicPr>
          <p:blipFill>
            <a:blip r:embed="rId5"/>
            <a:stretch/>
          </p:blipFill>
          <p:spPr>
            <a:xfrm>
              <a:off x="1652040" y="2900160"/>
              <a:ext cx="39060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Группа 18"/>
          <p:cNvGrpSpPr/>
          <p:nvPr/>
        </p:nvGrpSpPr>
        <p:grpSpPr>
          <a:xfrm>
            <a:off x="3786120" y="2071800"/>
            <a:ext cx="1837440" cy="2646360"/>
            <a:chOff x="3786120" y="2071800"/>
            <a:chExt cx="1837440" cy="2646360"/>
          </a:xfrm>
        </p:grpSpPr>
        <p:pic>
          <p:nvPicPr>
            <p:cNvPr id="342" name="Рисунок 22" descr="Вова 2.gif"/>
            <p:cNvPicPr/>
            <p:nvPr/>
          </p:nvPicPr>
          <p:blipFill>
            <a:blip r:embed="rId6"/>
            <a:stretch/>
          </p:blipFill>
          <p:spPr>
            <a:xfrm>
              <a:off x="4067640" y="2071800"/>
              <a:ext cx="1456200" cy="26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Рисунок 23" descr="САХАР.GIF"/>
            <p:cNvPicPr/>
            <p:nvPr/>
          </p:nvPicPr>
          <p:blipFill>
            <a:blip r:embed="rId7"/>
            <a:stretch/>
          </p:blipFill>
          <p:spPr>
            <a:xfrm>
              <a:off x="3786120" y="2590200"/>
              <a:ext cx="706680" cy="6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Freeform 328"/>
            <p:cNvSpPr/>
            <p:nvPr/>
          </p:nvSpPr>
          <p:spPr>
            <a:xfrm rot="600000">
              <a:off x="5056200" y="3152520"/>
              <a:ext cx="512280" cy="6786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26"/>
          <p:cNvSpPr/>
          <p:nvPr/>
        </p:nvSpPr>
        <p:spPr>
          <a:xfrm>
            <a:off x="285840" y="442908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2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2002c"/>
                </a:solidFill>
                <a:latin typeface="Arial"/>
              </a:rPr>
              <a:t>Когда дети отберут 2-3 предмета одинаковой массы, учитель сообщает, что каждый предмет имеет массу в 1 кг – такую же, как и килограммовая ги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20"/>
          <p:cNvGrpSpPr/>
          <p:nvPr/>
        </p:nvGrpSpPr>
        <p:grpSpPr>
          <a:xfrm>
            <a:off x="5929200" y="4286160"/>
            <a:ext cx="2813040" cy="2214720"/>
            <a:chOff x="5929200" y="4286160"/>
            <a:chExt cx="2813040" cy="2214720"/>
          </a:xfrm>
        </p:grpSpPr>
        <p:pic>
          <p:nvPicPr>
            <p:cNvPr id="347" name="Рисунок 28" descr="весы с фруктами.GIF"/>
            <p:cNvPicPr/>
            <p:nvPr/>
          </p:nvPicPr>
          <p:blipFill>
            <a:blip r:embed="rId8"/>
            <a:stretch/>
          </p:blipFill>
          <p:spPr>
            <a:xfrm>
              <a:off x="5929200" y="4286160"/>
              <a:ext cx="2813040" cy="22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Рисунок 29" descr="1 кг.GIF"/>
            <p:cNvPicPr/>
            <p:nvPr/>
          </p:nvPicPr>
          <p:blipFill>
            <a:blip r:embed="rId9"/>
            <a:stretch/>
          </p:blipFill>
          <p:spPr>
            <a:xfrm>
              <a:off x="8072280" y="5572080"/>
              <a:ext cx="5745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Рисунок 30" descr="gerkules.jpg"/>
            <p:cNvPicPr/>
            <p:nvPr/>
          </p:nvPicPr>
          <p:blipFill>
            <a:blip r:embed="rId10"/>
            <a:stretch/>
          </p:blipFill>
          <p:spPr>
            <a:xfrm>
              <a:off x="6071760" y="5572080"/>
              <a:ext cx="61272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5"/>
          <p:cNvSpPr/>
          <p:nvPr/>
        </p:nvSpPr>
        <p:spPr>
          <a:xfrm>
            <a:off x="428760" y="35712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1. На одной чаше весов стоит ящик с яблоками, на другой – две гири по 5 кг. Весы находятся в равновесии. Какова масса яблок, если масса пустого ящика 1 к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Рисунок 7" descr="1 кг.GIF"/>
          <p:cNvPicPr/>
          <p:nvPr/>
        </p:nvPicPr>
        <p:blipFill>
          <a:blip r:embed="rId1"/>
          <a:stretch/>
        </p:blipFill>
        <p:spPr>
          <a:xfrm>
            <a:off x="7572240" y="2143080"/>
            <a:ext cx="574920" cy="85716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8" descr="1 кг.GIF"/>
          <p:cNvPicPr/>
          <p:nvPr/>
        </p:nvPicPr>
        <p:blipFill>
          <a:blip r:embed="rId2"/>
          <a:stretch/>
        </p:blipFill>
        <p:spPr>
          <a:xfrm>
            <a:off x="7072200" y="2143080"/>
            <a:ext cx="568440" cy="84780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736"/>
          <p:cNvGrpSpPr/>
          <p:nvPr/>
        </p:nvGrpSpPr>
        <p:grpSpPr>
          <a:xfrm>
            <a:off x="5000400" y="1983240"/>
            <a:ext cx="509400" cy="638280"/>
            <a:chOff x="5000400" y="1983240"/>
            <a:chExt cx="509400" cy="638280"/>
          </a:xfrm>
        </p:grpSpPr>
        <p:sp>
          <p:nvSpPr>
            <p:cNvPr id="354" name="Freeform 737"/>
            <p:cNvSpPr/>
            <p:nvPr/>
          </p:nvSpPr>
          <p:spPr>
            <a:xfrm rot="1657800">
              <a:off x="5346720" y="2182320"/>
              <a:ext cx="114120" cy="151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38"/>
            <p:cNvSpPr/>
            <p:nvPr/>
          </p:nvSpPr>
          <p:spPr>
            <a:xfrm flipH="1" rot="1657200">
              <a:off x="5052960" y="2217960"/>
              <a:ext cx="403200" cy="3286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39"/>
            <p:cNvSpPr/>
            <p:nvPr/>
          </p:nvSpPr>
          <p:spPr>
            <a:xfrm rot="1657800">
              <a:off x="5106240" y="2220120"/>
              <a:ext cx="235080" cy="20376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40"/>
            <p:cNvSpPr/>
            <p:nvPr/>
          </p:nvSpPr>
          <p:spPr>
            <a:xfrm flipH="1" rot="1657200">
              <a:off x="5151240" y="2472840"/>
              <a:ext cx="28440" cy="1404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41"/>
            <p:cNvGrpSpPr/>
            <p:nvPr/>
          </p:nvGrpSpPr>
          <p:grpSpPr>
            <a:xfrm>
              <a:off x="5206680" y="1983240"/>
              <a:ext cx="266760" cy="312840"/>
              <a:chOff x="5206680" y="1983240"/>
              <a:chExt cx="266760" cy="312840"/>
            </a:xfrm>
          </p:grpSpPr>
          <p:grpSp>
            <p:nvGrpSpPr>
              <p:cNvPr id="359" name="Group 742"/>
              <p:cNvGrpSpPr/>
              <p:nvPr/>
            </p:nvGrpSpPr>
            <p:grpSpPr>
              <a:xfrm>
                <a:off x="5206680" y="1983240"/>
                <a:ext cx="266760" cy="312840"/>
                <a:chOff x="5206680" y="1983240"/>
                <a:chExt cx="266760" cy="312840"/>
              </a:xfrm>
            </p:grpSpPr>
            <p:sp>
              <p:nvSpPr>
                <p:cNvPr id="360" name="Freeform 743"/>
                <p:cNvSpPr/>
                <p:nvPr/>
              </p:nvSpPr>
              <p:spPr>
                <a:xfrm rot="3454800">
                  <a:off x="5233320" y="2082240"/>
                  <a:ext cx="273960" cy="702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744"/>
                <p:cNvSpPr/>
                <p:nvPr/>
              </p:nvSpPr>
              <p:spPr>
                <a:xfrm rot="3454800">
                  <a:off x="5180760" y="2106360"/>
                  <a:ext cx="280080" cy="92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Freeform 745"/>
              <p:cNvSpPr/>
              <p:nvPr/>
            </p:nvSpPr>
            <p:spPr>
              <a:xfrm rot="3454800">
                <a:off x="5361840" y="2189520"/>
                <a:ext cx="28080" cy="658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746"/>
              <p:cNvSpPr/>
              <p:nvPr/>
            </p:nvSpPr>
            <p:spPr>
              <a:xfrm rot="3454800">
                <a:off x="5340960" y="2156760"/>
                <a:ext cx="28080" cy="6588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747"/>
              <p:cNvSpPr/>
              <p:nvPr/>
            </p:nvSpPr>
            <p:spPr>
              <a:xfrm rot="3454800">
                <a:off x="5324040" y="2132280"/>
                <a:ext cx="23040" cy="417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748"/>
              <p:cNvSpPr/>
              <p:nvPr/>
            </p:nvSpPr>
            <p:spPr>
              <a:xfrm rot="3454800">
                <a:off x="5378400" y="2139840"/>
                <a:ext cx="36000" cy="327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749"/>
              <p:cNvSpPr/>
              <p:nvPr/>
            </p:nvSpPr>
            <p:spPr>
              <a:xfrm rot="3454800">
                <a:off x="5396040" y="2164320"/>
                <a:ext cx="38520" cy="36360"/>
              </a:xfrm>
              <a:prstGeom prst="pie">
                <a:avLst/>
              </a:pr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Группа 407"/>
          <p:cNvGrpSpPr/>
          <p:nvPr/>
        </p:nvGrpSpPr>
        <p:grpSpPr>
          <a:xfrm>
            <a:off x="4544640" y="857160"/>
            <a:ext cx="3610440" cy="2440080"/>
            <a:chOff x="4544640" y="857160"/>
            <a:chExt cx="3610440" cy="2440080"/>
          </a:xfrm>
        </p:grpSpPr>
        <p:pic>
          <p:nvPicPr>
            <p:cNvPr id="368" name="Picture 4" descr="SY00642_"/>
            <p:cNvPicPr/>
            <p:nvPr/>
          </p:nvPicPr>
          <p:blipFill>
            <a:blip r:embed="rId7"/>
            <a:stretch/>
          </p:blipFill>
          <p:spPr>
            <a:xfrm>
              <a:off x="4714920" y="857160"/>
              <a:ext cx="3440160" cy="24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Group 663"/>
            <p:cNvGrpSpPr/>
            <p:nvPr/>
          </p:nvGrpSpPr>
          <p:grpSpPr>
            <a:xfrm>
              <a:off x="4786200" y="2032560"/>
              <a:ext cx="1000080" cy="967680"/>
              <a:chOff x="4786200" y="2032560"/>
              <a:chExt cx="1000080" cy="967680"/>
            </a:xfrm>
          </p:grpSpPr>
          <p:sp>
            <p:nvSpPr>
              <p:cNvPr id="370" name="Freeform 664"/>
              <p:cNvSpPr/>
              <p:nvPr/>
            </p:nvSpPr>
            <p:spPr>
              <a:xfrm>
                <a:off x="4800960" y="2410920"/>
                <a:ext cx="973800" cy="58932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65"/>
              <p:cNvSpPr/>
              <p:nvPr/>
            </p:nvSpPr>
            <p:spPr>
              <a:xfrm>
                <a:off x="4794480" y="2280960"/>
                <a:ext cx="991800" cy="259920"/>
              </a:xfrm>
              <a:prstGeom prst="pi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666"/>
              <p:cNvGrpSpPr/>
              <p:nvPr/>
            </p:nvGrpSpPr>
            <p:grpSpPr>
              <a:xfrm>
                <a:off x="4786200" y="2032560"/>
                <a:ext cx="988200" cy="431280"/>
                <a:chOff x="4786200" y="2032560"/>
                <a:chExt cx="988200" cy="431280"/>
              </a:xfrm>
            </p:grpSpPr>
            <p:sp>
              <p:nvSpPr>
                <p:cNvPr id="373" name="Freeform 667"/>
                <p:cNvSpPr/>
                <p:nvPr/>
              </p:nvSpPr>
              <p:spPr>
                <a:xfrm rot="5135400">
                  <a:off x="5609520" y="2303280"/>
                  <a:ext cx="173520" cy="35640"/>
                </a:xfrm>
                <a:prstGeom prst="pi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Group 668"/>
                <p:cNvGrpSpPr/>
                <p:nvPr/>
              </p:nvGrpSpPr>
              <p:grpSpPr>
                <a:xfrm>
                  <a:off x="4786200" y="2032560"/>
                  <a:ext cx="988200" cy="431280"/>
                  <a:chOff x="4786200" y="2032560"/>
                  <a:chExt cx="988200" cy="431280"/>
                </a:xfrm>
              </p:grpSpPr>
              <p:sp>
                <p:nvSpPr>
                  <p:cNvPr id="375" name="Freeform 669"/>
                  <p:cNvSpPr/>
                  <p:nvPr/>
                </p:nvSpPr>
                <p:spPr>
                  <a:xfrm rot="20575800">
                    <a:off x="4790160" y="2342160"/>
                    <a:ext cx="135720" cy="43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92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670"/>
                  <p:cNvSpPr/>
                  <p:nvPr/>
                </p:nvSpPr>
                <p:spPr>
                  <a:xfrm rot="20575800">
                    <a:off x="4825440" y="2283480"/>
                    <a:ext cx="133200" cy="5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92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671"/>
                  <p:cNvSpPr/>
                  <p:nvPr/>
                </p:nvSpPr>
                <p:spPr>
                  <a:xfrm rot="21009600">
                    <a:off x="4856760" y="2234520"/>
                    <a:ext cx="133200" cy="5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48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8" name="Group 672"/>
                  <p:cNvGrpSpPr/>
                  <p:nvPr/>
                </p:nvGrpSpPr>
                <p:grpSpPr>
                  <a:xfrm>
                    <a:off x="4900680" y="2108880"/>
                    <a:ext cx="231840" cy="132120"/>
                    <a:chOff x="4900680" y="2108880"/>
                    <a:chExt cx="231840" cy="132120"/>
                  </a:xfrm>
                </p:grpSpPr>
                <p:sp>
                  <p:nvSpPr>
                    <p:cNvPr id="379" name="Freeform 673"/>
                    <p:cNvSpPr/>
                    <p:nvPr/>
                  </p:nvSpPr>
                  <p:spPr>
                    <a:xfrm rot="319200">
                      <a:off x="4902120" y="2191680"/>
                      <a:ext cx="135720" cy="43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674"/>
                    <p:cNvSpPr/>
                    <p:nvPr/>
                  </p:nvSpPr>
                  <p:spPr>
                    <a:xfrm rot="319200">
                      <a:off x="4950720" y="2152440"/>
                      <a:ext cx="13320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675"/>
                    <p:cNvSpPr/>
                    <p:nvPr/>
                  </p:nvSpPr>
                  <p:spPr>
                    <a:xfrm rot="753000">
                      <a:off x="4995000" y="2122560"/>
                      <a:ext cx="13320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676"/>
                  <p:cNvGrpSpPr/>
                  <p:nvPr/>
                </p:nvGrpSpPr>
                <p:grpSpPr>
                  <a:xfrm>
                    <a:off x="5041800" y="2039760"/>
                    <a:ext cx="248760" cy="136080"/>
                    <a:chOff x="5041800" y="2039760"/>
                    <a:chExt cx="248760" cy="136080"/>
                  </a:xfrm>
                </p:grpSpPr>
                <p:sp>
                  <p:nvSpPr>
                    <p:cNvPr id="383" name="Freeform 677"/>
                    <p:cNvSpPr/>
                    <p:nvPr/>
                  </p:nvSpPr>
                  <p:spPr>
                    <a:xfrm rot="1402200">
                      <a:off x="5044680" y="2107080"/>
                      <a:ext cx="135720" cy="43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678"/>
                    <p:cNvSpPr/>
                    <p:nvPr/>
                  </p:nvSpPr>
                  <p:spPr>
                    <a:xfrm rot="1402200">
                      <a:off x="5101560" y="2084760"/>
                      <a:ext cx="13320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679"/>
                    <p:cNvSpPr/>
                    <p:nvPr/>
                  </p:nvSpPr>
                  <p:spPr>
                    <a:xfrm rot="1836000">
                      <a:off x="5153040" y="2069640"/>
                      <a:ext cx="13320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680"/>
                  <p:cNvGrpSpPr/>
                  <p:nvPr/>
                </p:nvGrpSpPr>
                <p:grpSpPr>
                  <a:xfrm>
                    <a:off x="5199840" y="2032560"/>
                    <a:ext cx="241560" cy="133560"/>
                    <a:chOff x="5199840" y="2032560"/>
                    <a:chExt cx="241560" cy="133560"/>
                  </a:xfrm>
                </p:grpSpPr>
                <p:sp>
                  <p:nvSpPr>
                    <p:cNvPr id="387" name="Freeform 681"/>
                    <p:cNvSpPr/>
                    <p:nvPr/>
                  </p:nvSpPr>
                  <p:spPr>
                    <a:xfrm rot="2232600">
                      <a:off x="5200200" y="2085840"/>
                      <a:ext cx="129960" cy="45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682"/>
                    <p:cNvSpPr/>
                    <p:nvPr/>
                  </p:nvSpPr>
                  <p:spPr>
                    <a:xfrm rot="2232600">
                      <a:off x="5259240" y="2073960"/>
                      <a:ext cx="127440" cy="5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683"/>
                    <p:cNvSpPr/>
                    <p:nvPr/>
                  </p:nvSpPr>
                  <p:spPr>
                    <a:xfrm rot="2667000">
                      <a:off x="5312160" y="2068920"/>
                      <a:ext cx="127440" cy="5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684"/>
                  <p:cNvGrpSpPr/>
                  <p:nvPr/>
                </p:nvGrpSpPr>
                <p:grpSpPr>
                  <a:xfrm>
                    <a:off x="5348520" y="2035080"/>
                    <a:ext cx="234360" cy="218880"/>
                    <a:chOff x="5348520" y="2035080"/>
                    <a:chExt cx="234360" cy="218880"/>
                  </a:xfrm>
                </p:grpSpPr>
                <p:sp>
                  <p:nvSpPr>
                    <p:cNvPr id="391" name="Freeform 685"/>
                    <p:cNvSpPr/>
                    <p:nvPr/>
                  </p:nvSpPr>
                  <p:spPr>
                    <a:xfrm rot="3226200">
                      <a:off x="5326560" y="2098080"/>
                      <a:ext cx="173520" cy="33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686"/>
                    <p:cNvSpPr/>
                    <p:nvPr/>
                  </p:nvSpPr>
                  <p:spPr>
                    <a:xfrm rot="3226200">
                      <a:off x="5385600" y="2121120"/>
                      <a:ext cx="170280" cy="4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687"/>
                    <p:cNvSpPr/>
                    <p:nvPr/>
                  </p:nvSpPr>
                  <p:spPr>
                    <a:xfrm rot="3660000">
                      <a:off x="5437800" y="2148120"/>
                      <a:ext cx="170280" cy="4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Group 688"/>
                  <p:cNvGrpSpPr/>
                  <p:nvPr/>
                </p:nvGrpSpPr>
                <p:grpSpPr>
                  <a:xfrm>
                    <a:off x="5509440" y="2106720"/>
                    <a:ext cx="184320" cy="253800"/>
                    <a:chOff x="5509440" y="2106720"/>
                    <a:chExt cx="184320" cy="253800"/>
                  </a:xfrm>
                </p:grpSpPr>
                <p:sp>
                  <p:nvSpPr>
                    <p:cNvPr id="395" name="Freeform 689"/>
                    <p:cNvSpPr/>
                    <p:nvPr/>
                  </p:nvSpPr>
                  <p:spPr>
                    <a:xfrm rot="4068600">
                      <a:off x="5470920" y="2176200"/>
                      <a:ext cx="173520" cy="33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Freeform 690"/>
                    <p:cNvSpPr/>
                    <p:nvPr/>
                  </p:nvSpPr>
                  <p:spPr>
                    <a:xfrm rot="4068600">
                      <a:off x="5521680" y="2212560"/>
                      <a:ext cx="170280" cy="4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691"/>
                    <p:cNvSpPr/>
                    <p:nvPr/>
                  </p:nvSpPr>
                  <p:spPr>
                    <a:xfrm rot="4502400">
                      <a:off x="5566320" y="2251800"/>
                      <a:ext cx="170280" cy="4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8" name="Freeform 692"/>
                  <p:cNvSpPr/>
                  <p:nvPr/>
                </p:nvSpPr>
                <p:spPr>
                  <a:xfrm rot="5135400">
                    <a:off x="5637240" y="2344320"/>
                    <a:ext cx="170280" cy="41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376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693"/>
                  <p:cNvSpPr/>
                  <p:nvPr/>
                </p:nvSpPr>
                <p:spPr>
                  <a:xfrm>
                    <a:off x="5713560" y="2328840"/>
                    <a:ext cx="60840" cy="12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4"/>
                  <p:cNvSpPr/>
                  <p:nvPr/>
                </p:nvSpPr>
                <p:spPr>
                  <a:xfrm>
                    <a:off x="4786200" y="2383920"/>
                    <a:ext cx="95760" cy="7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1" name="Group 736"/>
            <p:cNvGrpSpPr/>
            <p:nvPr/>
          </p:nvGrpSpPr>
          <p:grpSpPr>
            <a:xfrm>
              <a:off x="5164200" y="2130480"/>
              <a:ext cx="644760" cy="553680"/>
              <a:chOff x="5164200" y="2130480"/>
              <a:chExt cx="644760" cy="553680"/>
            </a:xfrm>
          </p:grpSpPr>
          <p:sp>
            <p:nvSpPr>
              <p:cNvPr id="402" name="Freeform 737"/>
              <p:cNvSpPr/>
              <p:nvPr/>
            </p:nvSpPr>
            <p:spPr>
              <a:xfrm rot="17550000">
                <a:off x="5384520" y="2189520"/>
                <a:ext cx="133200" cy="144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738"/>
              <p:cNvSpPr/>
              <p:nvPr/>
            </p:nvSpPr>
            <p:spPr>
              <a:xfrm flipH="1" rot="17550000">
                <a:off x="5339520" y="2250720"/>
                <a:ext cx="469800" cy="3124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739"/>
              <p:cNvSpPr/>
              <p:nvPr/>
            </p:nvSpPr>
            <p:spPr>
              <a:xfrm rot="17550000">
                <a:off x="5378760" y="2355840"/>
                <a:ext cx="273960" cy="1936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740"/>
              <p:cNvSpPr/>
              <p:nvPr/>
            </p:nvSpPr>
            <p:spPr>
              <a:xfrm flipH="1" rot="17550000">
                <a:off x="5654880" y="2482920"/>
                <a:ext cx="33120" cy="1332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Group 741"/>
              <p:cNvGrpSpPr/>
              <p:nvPr/>
            </p:nvGrpSpPr>
            <p:grpSpPr>
              <a:xfrm>
                <a:off x="5164200" y="2203920"/>
                <a:ext cx="340920" cy="301680"/>
                <a:chOff x="5164200" y="2203920"/>
                <a:chExt cx="340920" cy="301680"/>
              </a:xfrm>
            </p:grpSpPr>
            <p:grpSp>
              <p:nvGrpSpPr>
                <p:cNvPr id="407" name="Group 742"/>
                <p:cNvGrpSpPr/>
                <p:nvPr/>
              </p:nvGrpSpPr>
              <p:grpSpPr>
                <a:xfrm>
                  <a:off x="5164200" y="2203920"/>
                  <a:ext cx="340920" cy="301680"/>
                  <a:chOff x="5164200" y="2203920"/>
                  <a:chExt cx="340920" cy="301680"/>
                </a:xfrm>
              </p:grpSpPr>
              <p:sp>
                <p:nvSpPr>
                  <p:cNvPr id="408" name="Freeform 743"/>
                  <p:cNvSpPr/>
                  <p:nvPr/>
                </p:nvSpPr>
                <p:spPr>
                  <a:xfrm rot="19347000">
                    <a:off x="5151240" y="2294280"/>
                    <a:ext cx="319680" cy="6660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Freeform 744"/>
                  <p:cNvSpPr/>
                  <p:nvPr/>
                </p:nvSpPr>
                <p:spPr>
                  <a:xfrm rot="19347000">
                    <a:off x="5185440" y="2327040"/>
                    <a:ext cx="326520" cy="88200"/>
                  </a:xfrm>
                  <a:prstGeom prst="pie">
                    <a:avLst/>
                  </a:prstGeom>
                  <a:blipFill rotWithShape="0">
                    <a:blip r:embed="rId1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0" name="Freeform 745"/>
                <p:cNvSpPr/>
                <p:nvPr/>
              </p:nvSpPr>
              <p:spPr>
                <a:xfrm rot="19347000">
                  <a:off x="5409360" y="2270160"/>
                  <a:ext cx="32760" cy="62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746"/>
                <p:cNvSpPr/>
                <p:nvPr/>
              </p:nvSpPr>
              <p:spPr>
                <a:xfrm rot="19347000">
                  <a:off x="5373360" y="2297520"/>
                  <a:ext cx="32760" cy="62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747"/>
                <p:cNvSpPr/>
                <p:nvPr/>
              </p:nvSpPr>
              <p:spPr>
                <a:xfrm rot="19347000">
                  <a:off x="5336280" y="2335680"/>
                  <a:ext cx="27000" cy="396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748"/>
                <p:cNvSpPr/>
                <p:nvPr/>
              </p:nvSpPr>
              <p:spPr>
                <a:xfrm rot="19347000">
                  <a:off x="5331960" y="2277360"/>
                  <a:ext cx="42120" cy="309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749"/>
                <p:cNvSpPr/>
                <p:nvPr/>
              </p:nvSpPr>
              <p:spPr>
                <a:xfrm rot="19347000">
                  <a:off x="5359680" y="2251800"/>
                  <a:ext cx="45000" cy="345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Group 736"/>
            <p:cNvGrpSpPr/>
            <p:nvPr/>
          </p:nvGrpSpPr>
          <p:grpSpPr>
            <a:xfrm>
              <a:off x="4544640" y="2129040"/>
              <a:ext cx="598680" cy="491040"/>
              <a:chOff x="4544640" y="2129040"/>
              <a:chExt cx="598680" cy="491040"/>
            </a:xfrm>
          </p:grpSpPr>
          <p:sp>
            <p:nvSpPr>
              <p:cNvPr id="416" name="Freeform 737"/>
              <p:cNvSpPr/>
              <p:nvPr/>
            </p:nvSpPr>
            <p:spPr>
              <a:xfrm rot="17550000">
                <a:off x="4745880" y="2172240"/>
                <a:ext cx="115200" cy="139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38"/>
              <p:cNvSpPr/>
              <p:nvPr/>
            </p:nvSpPr>
            <p:spPr>
              <a:xfrm flipH="1" rot="17550000">
                <a:off x="4722840" y="2223360"/>
                <a:ext cx="406440" cy="30168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39"/>
              <p:cNvSpPr/>
              <p:nvPr/>
            </p:nvSpPr>
            <p:spPr>
              <a:xfrm rot="17550000">
                <a:off x="4753440" y="2319120"/>
                <a:ext cx="236880" cy="1872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40"/>
              <p:cNvSpPr/>
              <p:nvPr/>
            </p:nvSpPr>
            <p:spPr>
              <a:xfrm flipH="1" rot="17550000">
                <a:off x="5007600" y="2443680"/>
                <a:ext cx="28800" cy="1296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Group 741"/>
              <p:cNvGrpSpPr/>
              <p:nvPr/>
            </p:nvGrpSpPr>
            <p:grpSpPr>
              <a:xfrm>
                <a:off x="4544640" y="2183400"/>
                <a:ext cx="303840" cy="272160"/>
                <a:chOff x="4544640" y="2183400"/>
                <a:chExt cx="303840" cy="272160"/>
              </a:xfrm>
            </p:grpSpPr>
            <p:grpSp>
              <p:nvGrpSpPr>
                <p:cNvPr id="421" name="Group 742"/>
                <p:cNvGrpSpPr/>
                <p:nvPr/>
              </p:nvGrpSpPr>
              <p:grpSpPr>
                <a:xfrm>
                  <a:off x="4544640" y="2183400"/>
                  <a:ext cx="303840" cy="272160"/>
                  <a:chOff x="4544640" y="2183400"/>
                  <a:chExt cx="303840" cy="272160"/>
                </a:xfrm>
              </p:grpSpPr>
              <p:sp>
                <p:nvSpPr>
                  <p:cNvPr id="422" name="Freeform 743"/>
                  <p:cNvSpPr/>
                  <p:nvPr/>
                </p:nvSpPr>
                <p:spPr>
                  <a:xfrm rot="19347000">
                    <a:off x="4535280" y="2260800"/>
                    <a:ext cx="276480" cy="6444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744"/>
                  <p:cNvSpPr/>
                  <p:nvPr/>
                </p:nvSpPr>
                <p:spPr>
                  <a:xfrm rot="19347000">
                    <a:off x="4568760" y="2292840"/>
                    <a:ext cx="282600" cy="8532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Freeform 745"/>
                <p:cNvSpPr/>
                <p:nvPr/>
              </p:nvSpPr>
              <p:spPr>
                <a:xfrm rot="19347000">
                  <a:off x="4761720" y="2244240"/>
                  <a:ext cx="28080" cy="60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746"/>
                <p:cNvSpPr/>
                <p:nvPr/>
              </p:nvSpPr>
              <p:spPr>
                <a:xfrm rot="19347000">
                  <a:off x="4730760" y="2268000"/>
                  <a:ext cx="28080" cy="60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747"/>
                <p:cNvSpPr/>
                <p:nvPr/>
              </p:nvSpPr>
              <p:spPr>
                <a:xfrm rot="19347000">
                  <a:off x="4698720" y="2302560"/>
                  <a:ext cx="23400" cy="385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48"/>
                <p:cNvSpPr/>
                <p:nvPr/>
              </p:nvSpPr>
              <p:spPr>
                <a:xfrm rot="19347000">
                  <a:off x="4691880" y="2248200"/>
                  <a:ext cx="36360" cy="30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49"/>
                <p:cNvSpPr/>
                <p:nvPr/>
              </p:nvSpPr>
              <p:spPr>
                <a:xfrm rot="19347000">
                  <a:off x="4715280" y="2225520"/>
                  <a:ext cx="38880" cy="33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9" name="TextBox 94"/>
            <p:cNvSpPr/>
            <p:nvPr/>
          </p:nvSpPr>
          <p:spPr>
            <a:xfrm>
              <a:off x="7072560" y="2357280"/>
              <a:ext cx="3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1a4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95"/>
            <p:cNvSpPr/>
            <p:nvPr/>
          </p:nvSpPr>
          <p:spPr>
            <a:xfrm>
              <a:off x="7572600" y="2357280"/>
              <a:ext cx="3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1a4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96"/>
          <p:cNvSpPr/>
          <p:nvPr/>
        </p:nvSpPr>
        <p:spPr>
          <a:xfrm>
            <a:off x="4857840" y="364320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2. Купили 9 кг клубники, а винограда на 2 кг меньше. Сколько кг винограда куп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65"/>
          <p:cNvGrpSpPr/>
          <p:nvPr/>
        </p:nvGrpSpPr>
        <p:grpSpPr>
          <a:xfrm>
            <a:off x="642960" y="3463920"/>
            <a:ext cx="1653120" cy="1382400"/>
            <a:chOff x="642960" y="3463920"/>
            <a:chExt cx="1653120" cy="1382400"/>
          </a:xfrm>
        </p:grpSpPr>
        <p:grpSp>
          <p:nvGrpSpPr>
            <p:cNvPr id="433" name="Group 766"/>
            <p:cNvGrpSpPr/>
            <p:nvPr/>
          </p:nvGrpSpPr>
          <p:grpSpPr>
            <a:xfrm>
              <a:off x="642960" y="3463920"/>
              <a:ext cx="1629000" cy="1241280"/>
              <a:chOff x="642960" y="3463920"/>
              <a:chExt cx="1629000" cy="1241280"/>
            </a:xfrm>
          </p:grpSpPr>
          <p:sp>
            <p:nvSpPr>
              <p:cNvPr id="434" name="Freeform 767"/>
              <p:cNvSpPr/>
              <p:nvPr/>
            </p:nvSpPr>
            <p:spPr>
              <a:xfrm>
                <a:off x="667440" y="3953160"/>
                <a:ext cx="1586520" cy="752040"/>
              </a:xfrm>
              <a:prstGeom prst="pi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768"/>
              <p:cNvSpPr/>
              <p:nvPr/>
            </p:nvSpPr>
            <p:spPr>
              <a:xfrm>
                <a:off x="656280" y="3787200"/>
                <a:ext cx="1615680" cy="331920"/>
              </a:xfrm>
              <a:prstGeom prst="pi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Group 769"/>
              <p:cNvGrpSpPr/>
              <p:nvPr/>
            </p:nvGrpSpPr>
            <p:grpSpPr>
              <a:xfrm>
                <a:off x="642960" y="3463920"/>
                <a:ext cx="1609920" cy="556560"/>
                <a:chOff x="642960" y="3463920"/>
                <a:chExt cx="1609920" cy="556560"/>
              </a:xfrm>
            </p:grpSpPr>
            <p:sp>
              <p:nvSpPr>
                <p:cNvPr id="437" name="Freeform 770"/>
                <p:cNvSpPr/>
                <p:nvPr/>
              </p:nvSpPr>
              <p:spPr>
                <a:xfrm rot="5135400">
                  <a:off x="2015640" y="3809160"/>
                  <a:ext cx="221400" cy="58320"/>
                </a:xfrm>
                <a:prstGeom prst="pie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Group 771"/>
                <p:cNvGrpSpPr/>
                <p:nvPr/>
              </p:nvGrpSpPr>
              <p:grpSpPr>
                <a:xfrm>
                  <a:off x="642960" y="3463920"/>
                  <a:ext cx="1609920" cy="556560"/>
                  <a:chOff x="642960" y="3463920"/>
                  <a:chExt cx="1609920" cy="556560"/>
                </a:xfrm>
              </p:grpSpPr>
              <p:sp>
                <p:nvSpPr>
                  <p:cNvPr id="439" name="Freeform 772"/>
                  <p:cNvSpPr/>
                  <p:nvPr/>
                </p:nvSpPr>
                <p:spPr>
                  <a:xfrm rot="20575800">
                    <a:off x="649440" y="3865680"/>
                    <a:ext cx="221400" cy="55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92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773"/>
                  <p:cNvSpPr/>
                  <p:nvPr/>
                </p:nvSpPr>
                <p:spPr>
                  <a:xfrm rot="20575800">
                    <a:off x="707400" y="3790440"/>
                    <a:ext cx="21708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92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774"/>
                  <p:cNvSpPr/>
                  <p:nvPr/>
                </p:nvSpPr>
                <p:spPr>
                  <a:xfrm rot="21009600">
                    <a:off x="758160" y="3727800"/>
                    <a:ext cx="21708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948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Group 775"/>
                  <p:cNvGrpSpPr/>
                  <p:nvPr/>
                </p:nvGrpSpPr>
                <p:grpSpPr>
                  <a:xfrm>
                    <a:off x="831240" y="3564360"/>
                    <a:ext cx="372240" cy="172800"/>
                    <a:chOff x="831240" y="3564360"/>
                    <a:chExt cx="372240" cy="172800"/>
                  </a:xfrm>
                </p:grpSpPr>
                <p:sp>
                  <p:nvSpPr>
                    <p:cNvPr id="443" name="Freeform 776"/>
                    <p:cNvSpPr/>
                    <p:nvPr/>
                  </p:nvSpPr>
                  <p:spPr>
                    <a:xfrm rot="319200">
                      <a:off x="833040" y="3672000"/>
                      <a:ext cx="221040" cy="5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777"/>
                    <p:cNvSpPr/>
                    <p:nvPr/>
                  </p:nvSpPr>
                  <p:spPr>
                    <a:xfrm rot="319200">
                      <a:off x="910800" y="3623400"/>
                      <a:ext cx="216720" cy="6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778"/>
                    <p:cNvSpPr/>
                    <p:nvPr/>
                  </p:nvSpPr>
                  <p:spPr>
                    <a:xfrm rot="753000">
                      <a:off x="981720" y="3587040"/>
                      <a:ext cx="216720" cy="6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779"/>
                  <p:cNvGrpSpPr/>
                  <p:nvPr/>
                </p:nvGrpSpPr>
                <p:grpSpPr>
                  <a:xfrm>
                    <a:off x="1068120" y="3473640"/>
                    <a:ext cx="386640" cy="182880"/>
                    <a:chOff x="1068120" y="3473640"/>
                    <a:chExt cx="386640" cy="182880"/>
                  </a:xfrm>
                </p:grpSpPr>
                <p:sp>
                  <p:nvSpPr>
                    <p:cNvPr id="447" name="Freeform 780"/>
                    <p:cNvSpPr/>
                    <p:nvPr/>
                  </p:nvSpPr>
                  <p:spPr>
                    <a:xfrm rot="1402200">
                      <a:off x="1069920" y="3559680"/>
                      <a:ext cx="221040" cy="5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781"/>
                    <p:cNvSpPr/>
                    <p:nvPr/>
                  </p:nvSpPr>
                  <p:spPr>
                    <a:xfrm rot="1402200">
                      <a:off x="1156680" y="3537000"/>
                      <a:ext cx="216720" cy="6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Freeform 782"/>
                    <p:cNvSpPr/>
                    <p:nvPr/>
                  </p:nvSpPr>
                  <p:spPr>
                    <a:xfrm rot="1836000">
                      <a:off x="1235520" y="3524040"/>
                      <a:ext cx="216720" cy="6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783"/>
                  <p:cNvGrpSpPr/>
                  <p:nvPr/>
                </p:nvGrpSpPr>
                <p:grpSpPr>
                  <a:xfrm>
                    <a:off x="1330200" y="3463920"/>
                    <a:ext cx="365400" cy="196560"/>
                    <a:chOff x="1330200" y="3463920"/>
                    <a:chExt cx="365400" cy="196560"/>
                  </a:xfrm>
                </p:grpSpPr>
                <p:sp>
                  <p:nvSpPr>
                    <p:cNvPr id="451" name="Freeform 784"/>
                    <p:cNvSpPr/>
                    <p:nvPr/>
                  </p:nvSpPr>
                  <p:spPr>
                    <a:xfrm rot="2232600">
                      <a:off x="1325880" y="3529440"/>
                      <a:ext cx="211680" cy="5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Freeform 785"/>
                    <p:cNvSpPr/>
                    <p:nvPr/>
                  </p:nvSpPr>
                  <p:spPr>
                    <a:xfrm rot="2232600">
                      <a:off x="1413720" y="3523320"/>
                      <a:ext cx="207720" cy="7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786"/>
                    <p:cNvSpPr/>
                    <p:nvPr/>
                  </p:nvSpPr>
                  <p:spPr>
                    <a:xfrm rot="2667000">
                      <a:off x="1492200" y="3526200"/>
                      <a:ext cx="207720" cy="7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787"/>
                  <p:cNvGrpSpPr/>
                  <p:nvPr/>
                </p:nvGrpSpPr>
                <p:grpSpPr>
                  <a:xfrm>
                    <a:off x="1588320" y="3476520"/>
                    <a:ext cx="326880" cy="274680"/>
                    <a:chOff x="1588320" y="3476520"/>
                    <a:chExt cx="326880" cy="274680"/>
                  </a:xfrm>
                </p:grpSpPr>
                <p:sp>
                  <p:nvSpPr>
                    <p:cNvPr id="455" name="Freeform 788"/>
                    <p:cNvSpPr/>
                    <p:nvPr/>
                  </p:nvSpPr>
                  <p:spPr>
                    <a:xfrm rot="3226200">
                      <a:off x="1565280" y="3554280"/>
                      <a:ext cx="221400" cy="5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89"/>
                    <p:cNvSpPr/>
                    <p:nvPr/>
                  </p:nvSpPr>
                  <p:spPr>
                    <a:xfrm rot="3226200">
                      <a:off x="1649160" y="3576600"/>
                      <a:ext cx="217080" cy="6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790"/>
                    <p:cNvSpPr/>
                    <p:nvPr/>
                  </p:nvSpPr>
                  <p:spPr>
                    <a:xfrm rot="3660000">
                      <a:off x="1724040" y="3605040"/>
                      <a:ext cx="217080" cy="6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791"/>
                  <p:cNvGrpSpPr/>
                  <p:nvPr/>
                </p:nvGrpSpPr>
                <p:grpSpPr>
                  <a:xfrm>
                    <a:off x="1839960" y="3566520"/>
                    <a:ext cx="267120" cy="320400"/>
                    <a:chOff x="1839960" y="3566520"/>
                    <a:chExt cx="267120" cy="320400"/>
                  </a:xfrm>
                </p:grpSpPr>
                <p:sp>
                  <p:nvSpPr>
                    <p:cNvPr id="459" name="Freeform 792"/>
                    <p:cNvSpPr/>
                    <p:nvPr/>
                  </p:nvSpPr>
                  <p:spPr>
                    <a:xfrm rot="4068600">
                      <a:off x="1796760" y="3651480"/>
                      <a:ext cx="221400" cy="5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793"/>
                    <p:cNvSpPr/>
                    <p:nvPr/>
                  </p:nvSpPr>
                  <p:spPr>
                    <a:xfrm rot="4068600">
                      <a:off x="1871280" y="3692520"/>
                      <a:ext cx="217080" cy="6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Freeform 794"/>
                    <p:cNvSpPr/>
                    <p:nvPr/>
                  </p:nvSpPr>
                  <p:spPr>
                    <a:xfrm rot="4502400">
                      <a:off x="1937160" y="3738600"/>
                      <a:ext cx="217080" cy="6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18468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Freeform 795"/>
                  <p:cNvSpPr/>
                  <p:nvPr/>
                </p:nvSpPr>
                <p:spPr>
                  <a:xfrm rot="5135400">
                    <a:off x="2059560" y="3860280"/>
                    <a:ext cx="217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376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796"/>
                  <p:cNvSpPr/>
                  <p:nvPr/>
                </p:nvSpPr>
                <p:spPr>
                  <a:xfrm>
                    <a:off x="2153520" y="3848400"/>
                    <a:ext cx="9936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797"/>
                  <p:cNvSpPr/>
                  <p:nvPr/>
                </p:nvSpPr>
                <p:spPr>
                  <a:xfrm>
                    <a:off x="642960" y="3918600"/>
                    <a:ext cx="156240" cy="10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5" name="Group 798"/>
            <p:cNvGrpSpPr/>
            <p:nvPr/>
          </p:nvGrpSpPr>
          <p:grpSpPr>
            <a:xfrm>
              <a:off x="956880" y="3780720"/>
              <a:ext cx="256680" cy="328680"/>
              <a:chOff x="956880" y="3780720"/>
              <a:chExt cx="256680" cy="328680"/>
            </a:xfrm>
          </p:grpSpPr>
          <p:sp>
            <p:nvSpPr>
              <p:cNvPr id="466" name="Freeform 799"/>
              <p:cNvSpPr/>
              <p:nvPr/>
            </p:nvSpPr>
            <p:spPr>
              <a:xfrm>
                <a:off x="956880" y="3795840"/>
                <a:ext cx="256680" cy="3135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plant"/>
              <p:cNvSpPr/>
              <p:nvPr/>
            </p:nvSpPr>
            <p:spPr>
              <a:xfrm>
                <a:off x="970200" y="3780720"/>
                <a:ext cx="213120" cy="8640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801"/>
            <p:cNvGrpSpPr/>
            <p:nvPr/>
          </p:nvGrpSpPr>
          <p:grpSpPr>
            <a:xfrm>
              <a:off x="1723320" y="3813120"/>
              <a:ext cx="389880" cy="293400"/>
              <a:chOff x="1723320" y="3813120"/>
              <a:chExt cx="389880" cy="293400"/>
            </a:xfrm>
          </p:grpSpPr>
          <p:sp>
            <p:nvSpPr>
              <p:cNvPr id="469" name="Freeform 802"/>
              <p:cNvSpPr/>
              <p:nvPr/>
            </p:nvSpPr>
            <p:spPr>
              <a:xfrm rot="4780200">
                <a:off x="1794600" y="3788640"/>
                <a:ext cx="235800" cy="3416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plant"/>
              <p:cNvSpPr/>
              <p:nvPr/>
            </p:nvSpPr>
            <p:spPr>
              <a:xfrm rot="4780200">
                <a:off x="1950840" y="3879720"/>
                <a:ext cx="195840" cy="9432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804"/>
            <p:cNvGrpSpPr/>
            <p:nvPr/>
          </p:nvGrpSpPr>
          <p:grpSpPr>
            <a:xfrm>
              <a:off x="1393920" y="3626280"/>
              <a:ext cx="389880" cy="293400"/>
              <a:chOff x="1393920" y="3626280"/>
              <a:chExt cx="389880" cy="293400"/>
            </a:xfrm>
          </p:grpSpPr>
          <p:sp>
            <p:nvSpPr>
              <p:cNvPr id="472" name="Freeform 805"/>
              <p:cNvSpPr/>
              <p:nvPr/>
            </p:nvSpPr>
            <p:spPr>
              <a:xfrm flipH="1" rot="16819800">
                <a:off x="1476360" y="3601800"/>
                <a:ext cx="235800" cy="34200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plant"/>
              <p:cNvSpPr/>
              <p:nvPr/>
            </p:nvSpPr>
            <p:spPr>
              <a:xfrm flipH="1" rot="16819800">
                <a:off x="1360080" y="3692880"/>
                <a:ext cx="195840" cy="9432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807"/>
            <p:cNvGrpSpPr/>
            <p:nvPr/>
          </p:nvGrpSpPr>
          <p:grpSpPr>
            <a:xfrm>
              <a:off x="1600560" y="3745440"/>
              <a:ext cx="397800" cy="408240"/>
              <a:chOff x="1600560" y="3745440"/>
              <a:chExt cx="397800" cy="408240"/>
            </a:xfrm>
          </p:grpSpPr>
          <p:sp>
            <p:nvSpPr>
              <p:cNvPr id="475" name="Freeform 808"/>
              <p:cNvSpPr/>
              <p:nvPr/>
            </p:nvSpPr>
            <p:spPr>
              <a:xfrm rot="2382000">
                <a:off x="1670760" y="3794040"/>
                <a:ext cx="256680" cy="31356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plant"/>
              <p:cNvSpPr/>
              <p:nvPr/>
            </p:nvSpPr>
            <p:spPr>
              <a:xfrm rot="2382000">
                <a:off x="1768320" y="3803400"/>
                <a:ext cx="213120" cy="8640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810"/>
            <p:cNvGrpSpPr/>
            <p:nvPr/>
          </p:nvGrpSpPr>
          <p:grpSpPr>
            <a:xfrm>
              <a:off x="1352520" y="3839760"/>
              <a:ext cx="389520" cy="293400"/>
              <a:chOff x="1352520" y="3839760"/>
              <a:chExt cx="389520" cy="293400"/>
            </a:xfrm>
          </p:grpSpPr>
          <p:sp>
            <p:nvSpPr>
              <p:cNvPr id="478" name="Freeform 811"/>
              <p:cNvSpPr/>
              <p:nvPr/>
            </p:nvSpPr>
            <p:spPr>
              <a:xfrm rot="4780200">
                <a:off x="1423440" y="3815640"/>
                <a:ext cx="235800" cy="3412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plant"/>
              <p:cNvSpPr/>
              <p:nvPr/>
            </p:nvSpPr>
            <p:spPr>
              <a:xfrm rot="4780200">
                <a:off x="1579680" y="3906720"/>
                <a:ext cx="195840" cy="9432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813"/>
            <p:cNvGrpSpPr/>
            <p:nvPr/>
          </p:nvGrpSpPr>
          <p:grpSpPr>
            <a:xfrm>
              <a:off x="760680" y="3754080"/>
              <a:ext cx="256680" cy="328680"/>
              <a:chOff x="760680" y="3754080"/>
              <a:chExt cx="256680" cy="328680"/>
            </a:xfrm>
          </p:grpSpPr>
          <p:sp>
            <p:nvSpPr>
              <p:cNvPr id="481" name="Freeform 814"/>
              <p:cNvSpPr/>
              <p:nvPr/>
            </p:nvSpPr>
            <p:spPr>
              <a:xfrm>
                <a:off x="760680" y="3769200"/>
                <a:ext cx="256680" cy="31356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plant"/>
              <p:cNvSpPr/>
              <p:nvPr/>
            </p:nvSpPr>
            <p:spPr>
              <a:xfrm>
                <a:off x="774000" y="3754080"/>
                <a:ext cx="213120" cy="8640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816"/>
            <p:cNvGrpSpPr/>
            <p:nvPr/>
          </p:nvGrpSpPr>
          <p:grpSpPr>
            <a:xfrm>
              <a:off x="1031040" y="3600720"/>
              <a:ext cx="403200" cy="404640"/>
              <a:chOff x="1031040" y="3600720"/>
              <a:chExt cx="403200" cy="404640"/>
            </a:xfrm>
          </p:grpSpPr>
          <p:sp>
            <p:nvSpPr>
              <p:cNvPr id="484" name="Freeform 817"/>
              <p:cNvSpPr/>
              <p:nvPr/>
            </p:nvSpPr>
            <p:spPr>
              <a:xfrm rot="2692800">
                <a:off x="1104120" y="3646800"/>
                <a:ext cx="256680" cy="31356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plant"/>
              <p:cNvSpPr/>
              <p:nvPr/>
            </p:nvSpPr>
            <p:spPr>
              <a:xfrm rot="2692800">
                <a:off x="1210680" y="3663000"/>
                <a:ext cx="213120" cy="8640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819"/>
            <p:cNvGrpSpPr/>
            <p:nvPr/>
          </p:nvGrpSpPr>
          <p:grpSpPr>
            <a:xfrm>
              <a:off x="1103400" y="3747600"/>
              <a:ext cx="403200" cy="404640"/>
              <a:chOff x="1103400" y="3747600"/>
              <a:chExt cx="403200" cy="404640"/>
            </a:xfrm>
          </p:grpSpPr>
          <p:sp>
            <p:nvSpPr>
              <p:cNvPr id="487" name="Freeform 820"/>
              <p:cNvSpPr/>
              <p:nvPr/>
            </p:nvSpPr>
            <p:spPr>
              <a:xfrm rot="2692800">
                <a:off x="1176480" y="3793680"/>
                <a:ext cx="256680" cy="31356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plant"/>
              <p:cNvSpPr/>
              <p:nvPr/>
            </p:nvSpPr>
            <p:spPr>
              <a:xfrm rot="2692800">
                <a:off x="1283040" y="3809880"/>
                <a:ext cx="213120" cy="8640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822"/>
            <p:cNvGrpSpPr/>
            <p:nvPr/>
          </p:nvGrpSpPr>
          <p:grpSpPr>
            <a:xfrm>
              <a:off x="1710720" y="4374000"/>
              <a:ext cx="457560" cy="448200"/>
              <a:chOff x="1710720" y="4374000"/>
              <a:chExt cx="457560" cy="448200"/>
            </a:xfrm>
          </p:grpSpPr>
          <p:sp>
            <p:nvSpPr>
              <p:cNvPr id="490" name="Freeform 823"/>
              <p:cNvSpPr/>
              <p:nvPr/>
            </p:nvSpPr>
            <p:spPr>
              <a:xfrm rot="3214800">
                <a:off x="1788480" y="4424760"/>
                <a:ext cx="301680" cy="34596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plant"/>
              <p:cNvSpPr/>
              <p:nvPr/>
            </p:nvSpPr>
            <p:spPr>
              <a:xfrm rot="3214800">
                <a:off x="1922400" y="4457880"/>
                <a:ext cx="250560" cy="9540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825"/>
            <p:cNvGrpSpPr/>
            <p:nvPr/>
          </p:nvGrpSpPr>
          <p:grpSpPr>
            <a:xfrm>
              <a:off x="1437480" y="4405680"/>
              <a:ext cx="443880" cy="440640"/>
              <a:chOff x="1437480" y="4405680"/>
              <a:chExt cx="443880" cy="440640"/>
            </a:xfrm>
          </p:grpSpPr>
          <p:sp>
            <p:nvSpPr>
              <p:cNvPr id="493" name="Freeform 826"/>
              <p:cNvSpPr/>
              <p:nvPr/>
            </p:nvSpPr>
            <p:spPr>
              <a:xfrm rot="19776000">
                <a:off x="1495080" y="4466880"/>
                <a:ext cx="328320" cy="31788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plant"/>
              <p:cNvSpPr/>
              <p:nvPr/>
            </p:nvSpPr>
            <p:spPr>
              <a:xfrm rot="19776000">
                <a:off x="1447560" y="4475160"/>
                <a:ext cx="272520" cy="87840"/>
              </a:xfrm>
              <a:prstGeom prst="pi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Freeform 828"/>
            <p:cNvSpPr/>
            <p:nvPr/>
          </p:nvSpPr>
          <p:spPr>
            <a:xfrm rot="11753400">
              <a:off x="1750680" y="4115520"/>
              <a:ext cx="170640" cy="28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71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29"/>
            <p:cNvSpPr/>
            <p:nvPr/>
          </p:nvSpPr>
          <p:spPr>
            <a:xfrm rot="11504400">
              <a:off x="1637280" y="4131000"/>
              <a:ext cx="171360" cy="28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739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30"/>
            <p:cNvSpPr/>
            <p:nvPr/>
          </p:nvSpPr>
          <p:spPr>
            <a:xfrm rot="12712200">
              <a:off x="1853280" y="4076280"/>
              <a:ext cx="123480" cy="424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618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831"/>
            <p:cNvGrpSpPr/>
            <p:nvPr/>
          </p:nvGrpSpPr>
          <p:grpSpPr>
            <a:xfrm>
              <a:off x="950760" y="4093920"/>
              <a:ext cx="266040" cy="124200"/>
              <a:chOff x="950760" y="4093920"/>
              <a:chExt cx="266040" cy="124200"/>
            </a:xfrm>
          </p:grpSpPr>
          <p:sp>
            <p:nvSpPr>
              <p:cNvPr id="499" name="Freeform 832"/>
              <p:cNvSpPr/>
              <p:nvPr/>
            </p:nvSpPr>
            <p:spPr>
              <a:xfrm rot="12498600">
                <a:off x="1053720" y="4155840"/>
                <a:ext cx="167040" cy="241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833"/>
              <p:cNvSpPr/>
              <p:nvPr/>
            </p:nvSpPr>
            <p:spPr>
              <a:xfrm rot="12498600">
                <a:off x="997560" y="4146480"/>
                <a:ext cx="163800" cy="2988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834"/>
              <p:cNvSpPr/>
              <p:nvPr/>
            </p:nvSpPr>
            <p:spPr>
              <a:xfrm rot="12932400">
                <a:off x="943920" y="4138560"/>
                <a:ext cx="163800" cy="2988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18468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Freeform 835"/>
            <p:cNvSpPr/>
            <p:nvPr/>
          </p:nvSpPr>
          <p:spPr>
            <a:xfrm rot="11753400">
              <a:off x="1797120" y="4100400"/>
              <a:ext cx="170640" cy="28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71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836"/>
            <p:cNvGrpSpPr/>
            <p:nvPr/>
          </p:nvGrpSpPr>
          <p:grpSpPr>
            <a:xfrm>
              <a:off x="666720" y="3963960"/>
              <a:ext cx="1629360" cy="255240"/>
              <a:chOff x="666720" y="3963960"/>
              <a:chExt cx="1629360" cy="255240"/>
            </a:xfrm>
          </p:grpSpPr>
          <p:sp>
            <p:nvSpPr>
              <p:cNvPr id="504" name="Freeform 837"/>
              <p:cNvSpPr/>
              <p:nvPr/>
            </p:nvSpPr>
            <p:spPr>
              <a:xfrm rot="11536200">
                <a:off x="1698120" y="4123800"/>
                <a:ext cx="174240" cy="223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362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Group 838"/>
              <p:cNvGrpSpPr/>
              <p:nvPr/>
            </p:nvGrpSpPr>
            <p:grpSpPr>
              <a:xfrm>
                <a:off x="1463400" y="4114080"/>
                <a:ext cx="286920" cy="85320"/>
                <a:chOff x="1463400" y="4114080"/>
                <a:chExt cx="286920" cy="85320"/>
              </a:xfrm>
            </p:grpSpPr>
            <p:sp>
              <p:nvSpPr>
                <p:cNvPr id="506" name="Freeform 839"/>
                <p:cNvSpPr/>
                <p:nvPr/>
              </p:nvSpPr>
              <p:spPr>
                <a:xfrm rot="11478600">
                  <a:off x="1575360" y="4130640"/>
                  <a:ext cx="173880" cy="2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40"/>
                <p:cNvSpPr/>
                <p:nvPr/>
              </p:nvSpPr>
              <p:spPr>
                <a:xfrm rot="11478600">
                  <a:off x="1518480" y="413676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841"/>
                <p:cNvSpPr/>
                <p:nvPr/>
              </p:nvSpPr>
              <p:spPr>
                <a:xfrm rot="11912400">
                  <a:off x="1463040" y="414396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842"/>
              <p:cNvGrpSpPr/>
              <p:nvPr/>
            </p:nvGrpSpPr>
            <p:grpSpPr>
              <a:xfrm>
                <a:off x="1278360" y="4115880"/>
                <a:ext cx="285480" cy="96840"/>
                <a:chOff x="1278360" y="4115880"/>
                <a:chExt cx="285480" cy="96840"/>
              </a:xfrm>
            </p:grpSpPr>
            <p:sp>
              <p:nvSpPr>
                <p:cNvPr id="510" name="Freeform 843"/>
                <p:cNvSpPr/>
                <p:nvPr/>
              </p:nvSpPr>
              <p:spPr>
                <a:xfrm rot="11832600">
                  <a:off x="1390320" y="4148280"/>
                  <a:ext cx="173880" cy="2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844"/>
                <p:cNvSpPr/>
                <p:nvPr/>
              </p:nvSpPr>
              <p:spPr>
                <a:xfrm rot="11832600">
                  <a:off x="1332360" y="414828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845"/>
                <p:cNvSpPr/>
                <p:nvPr/>
              </p:nvSpPr>
              <p:spPr>
                <a:xfrm rot="12267000">
                  <a:off x="1276560" y="414972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846"/>
              <p:cNvGrpSpPr/>
              <p:nvPr/>
            </p:nvGrpSpPr>
            <p:grpSpPr>
              <a:xfrm>
                <a:off x="1112760" y="4105800"/>
                <a:ext cx="269640" cy="113400"/>
                <a:chOff x="1112760" y="4105800"/>
                <a:chExt cx="269640" cy="113400"/>
              </a:xfrm>
            </p:grpSpPr>
            <p:sp>
              <p:nvSpPr>
                <p:cNvPr id="514" name="Freeform 847"/>
                <p:cNvSpPr/>
                <p:nvPr/>
              </p:nvSpPr>
              <p:spPr>
                <a:xfrm rot="12324000">
                  <a:off x="1217880" y="4158720"/>
                  <a:ext cx="167040" cy="241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848"/>
                <p:cNvSpPr/>
                <p:nvPr/>
              </p:nvSpPr>
              <p:spPr>
                <a:xfrm rot="12324000">
                  <a:off x="1161720" y="4152600"/>
                  <a:ext cx="163800" cy="2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849"/>
                <p:cNvSpPr/>
                <p:nvPr/>
              </p:nvSpPr>
              <p:spPr>
                <a:xfrm rot="12757800">
                  <a:off x="1107720" y="4147200"/>
                  <a:ext cx="163800" cy="2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850"/>
              <p:cNvGrpSpPr/>
              <p:nvPr/>
            </p:nvGrpSpPr>
            <p:grpSpPr>
              <a:xfrm>
                <a:off x="666720" y="3996720"/>
                <a:ext cx="388800" cy="205920"/>
                <a:chOff x="666720" y="3996720"/>
                <a:chExt cx="388800" cy="205920"/>
              </a:xfrm>
            </p:grpSpPr>
            <p:grpSp>
              <p:nvGrpSpPr>
                <p:cNvPr id="518" name="Group 851"/>
                <p:cNvGrpSpPr/>
                <p:nvPr/>
              </p:nvGrpSpPr>
              <p:grpSpPr>
                <a:xfrm>
                  <a:off x="743760" y="4026960"/>
                  <a:ext cx="311760" cy="175680"/>
                  <a:chOff x="743760" y="4026960"/>
                  <a:chExt cx="311760" cy="175680"/>
                </a:xfrm>
              </p:grpSpPr>
              <p:sp>
                <p:nvSpPr>
                  <p:cNvPr id="519" name="Freeform 852"/>
                  <p:cNvSpPr/>
                  <p:nvPr/>
                </p:nvSpPr>
                <p:spPr>
                  <a:xfrm rot="16189200">
                    <a:off x="720720" y="4050000"/>
                    <a:ext cx="92520" cy="46080"/>
                  </a:xfrm>
                  <a:prstGeom prst="pi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853"/>
                  <p:cNvSpPr/>
                  <p:nvPr/>
                </p:nvSpPr>
                <p:spPr>
                  <a:xfrm rot="14451600">
                    <a:off x="977760" y="4136040"/>
                    <a:ext cx="78840" cy="43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70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854"/>
                  <p:cNvSpPr/>
                  <p:nvPr/>
                </p:nvSpPr>
                <p:spPr>
                  <a:xfrm rot="14886000">
                    <a:off x="889200" y="4120560"/>
                    <a:ext cx="77400" cy="5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26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855"/>
                <p:cNvGrpSpPr/>
                <p:nvPr/>
              </p:nvGrpSpPr>
              <p:grpSpPr>
                <a:xfrm>
                  <a:off x="666720" y="3996720"/>
                  <a:ext cx="345960" cy="203040"/>
                  <a:chOff x="666720" y="3996720"/>
                  <a:chExt cx="345960" cy="203040"/>
                </a:xfrm>
              </p:grpSpPr>
              <p:grpSp>
                <p:nvGrpSpPr>
                  <p:cNvPr id="523" name="Group 856"/>
                  <p:cNvGrpSpPr/>
                  <p:nvPr/>
                </p:nvGrpSpPr>
                <p:grpSpPr>
                  <a:xfrm>
                    <a:off x="706680" y="4003200"/>
                    <a:ext cx="306000" cy="196560"/>
                    <a:chOff x="706680" y="4003200"/>
                    <a:chExt cx="306000" cy="196560"/>
                  </a:xfrm>
                </p:grpSpPr>
                <p:sp>
                  <p:nvSpPr>
                    <p:cNvPr id="524" name="Freeform 857"/>
                    <p:cNvSpPr/>
                    <p:nvPr/>
                  </p:nvSpPr>
                  <p:spPr>
                    <a:xfrm rot="14451600">
                      <a:off x="932400" y="4126320"/>
                      <a:ext cx="7668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5" name="Group 858"/>
                    <p:cNvGrpSpPr/>
                    <p:nvPr/>
                  </p:nvGrpSpPr>
                  <p:grpSpPr>
                    <a:xfrm>
                      <a:off x="763920" y="4051440"/>
                      <a:ext cx="157680" cy="133920"/>
                      <a:chOff x="763920" y="4051440"/>
                      <a:chExt cx="157680" cy="133920"/>
                    </a:xfrm>
                  </p:grpSpPr>
                  <p:sp>
                    <p:nvSpPr>
                      <p:cNvPr id="526" name="Freeform 859"/>
                      <p:cNvSpPr/>
                      <p:nvPr/>
                    </p:nvSpPr>
                    <p:spPr>
                      <a:xfrm rot="15122400">
                        <a:off x="840240" y="4113000"/>
                        <a:ext cx="92520" cy="4320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860"/>
                      <p:cNvSpPr/>
                      <p:nvPr/>
                    </p:nvSpPr>
                    <p:spPr>
                      <a:xfrm rot="15122400">
                        <a:off x="795240" y="409104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Freeform 861"/>
                      <p:cNvSpPr/>
                      <p:nvPr/>
                    </p:nvSpPr>
                    <p:spPr>
                      <a:xfrm rot="15556200">
                        <a:off x="753480" y="407376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36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9" name="Freeform 862"/>
                    <p:cNvSpPr/>
                    <p:nvPr/>
                  </p:nvSpPr>
                  <p:spPr>
                    <a:xfrm rot="16189200">
                      <a:off x="689040" y="4020840"/>
                      <a:ext cx="89640" cy="5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296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0" name="Freeform 863"/>
                  <p:cNvSpPr/>
                  <p:nvPr/>
                </p:nvSpPr>
                <p:spPr>
                  <a:xfrm rot="11053800">
                    <a:off x="668520" y="3999240"/>
                    <a:ext cx="77760" cy="6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1" name="Group 864"/>
              <p:cNvGrpSpPr/>
              <p:nvPr/>
            </p:nvGrpSpPr>
            <p:grpSpPr>
              <a:xfrm>
                <a:off x="1895760" y="3963960"/>
                <a:ext cx="400320" cy="217080"/>
                <a:chOff x="1895760" y="3963960"/>
                <a:chExt cx="400320" cy="217080"/>
              </a:xfrm>
            </p:grpSpPr>
            <p:grpSp>
              <p:nvGrpSpPr>
                <p:cNvPr id="532" name="Group 865"/>
                <p:cNvGrpSpPr/>
                <p:nvPr/>
              </p:nvGrpSpPr>
              <p:grpSpPr>
                <a:xfrm>
                  <a:off x="1967760" y="3963960"/>
                  <a:ext cx="328320" cy="200880"/>
                  <a:chOff x="1967760" y="3963960"/>
                  <a:chExt cx="328320" cy="200880"/>
                </a:xfrm>
              </p:grpSpPr>
              <p:sp>
                <p:nvSpPr>
                  <p:cNvPr id="533" name="Freeform 866"/>
                  <p:cNvSpPr/>
                  <p:nvPr/>
                </p:nvSpPr>
                <p:spPr>
                  <a:xfrm rot="13420800">
                    <a:off x="1970640" y="4092840"/>
                    <a:ext cx="92520" cy="46080"/>
                  </a:xfrm>
                  <a:prstGeom prst="pi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867"/>
                  <p:cNvSpPr/>
                  <p:nvPr/>
                </p:nvSpPr>
                <p:spPr>
                  <a:xfrm rot="11682600">
                    <a:off x="2212560" y="3973320"/>
                    <a:ext cx="79200" cy="43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70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868"/>
                  <p:cNvSpPr/>
                  <p:nvPr/>
                </p:nvSpPr>
                <p:spPr>
                  <a:xfrm rot="12117000">
                    <a:off x="2143800" y="4025160"/>
                    <a:ext cx="77400" cy="5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26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Group 869"/>
                <p:cNvGrpSpPr/>
                <p:nvPr/>
              </p:nvGrpSpPr>
              <p:grpSpPr>
                <a:xfrm>
                  <a:off x="1895760" y="3989160"/>
                  <a:ext cx="364680" cy="191880"/>
                  <a:chOff x="1895760" y="3989160"/>
                  <a:chExt cx="364680" cy="191880"/>
                </a:xfrm>
              </p:grpSpPr>
              <p:grpSp>
                <p:nvGrpSpPr>
                  <p:cNvPr id="537" name="Group 870"/>
                  <p:cNvGrpSpPr/>
                  <p:nvPr/>
                </p:nvGrpSpPr>
                <p:grpSpPr>
                  <a:xfrm>
                    <a:off x="1925280" y="3989160"/>
                    <a:ext cx="335160" cy="184680"/>
                    <a:chOff x="1925280" y="3989160"/>
                    <a:chExt cx="335160" cy="184680"/>
                  </a:xfrm>
                </p:grpSpPr>
                <p:sp>
                  <p:nvSpPr>
                    <p:cNvPr id="538" name="Freeform 871"/>
                    <p:cNvSpPr/>
                    <p:nvPr/>
                  </p:nvSpPr>
                  <p:spPr>
                    <a:xfrm rot="11682600">
                      <a:off x="2178000" y="3997800"/>
                      <a:ext cx="7668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39" name="Group 872"/>
                    <p:cNvGrpSpPr/>
                    <p:nvPr/>
                  </p:nvGrpSpPr>
                  <p:grpSpPr>
                    <a:xfrm>
                      <a:off x="2007360" y="4032720"/>
                      <a:ext cx="189360" cy="127080"/>
                      <a:chOff x="2007360" y="4032720"/>
                      <a:chExt cx="189360" cy="127080"/>
                    </a:xfrm>
                  </p:grpSpPr>
                  <p:sp>
                    <p:nvSpPr>
                      <p:cNvPr id="540" name="Freeform 873"/>
                      <p:cNvSpPr/>
                      <p:nvPr/>
                    </p:nvSpPr>
                    <p:spPr>
                      <a:xfrm rot="12353400">
                        <a:off x="2099160" y="4050360"/>
                        <a:ext cx="92520" cy="4356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Freeform 874"/>
                      <p:cNvSpPr/>
                      <p:nvPr/>
                    </p:nvSpPr>
                    <p:spPr>
                      <a:xfrm rot="12353400">
                        <a:off x="2055960" y="406728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Freeform 875"/>
                      <p:cNvSpPr/>
                      <p:nvPr/>
                    </p:nvSpPr>
                    <p:spPr>
                      <a:xfrm rot="12787200">
                        <a:off x="2014200" y="408600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36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3" name="Freeform 876"/>
                    <p:cNvSpPr/>
                    <p:nvPr/>
                  </p:nvSpPr>
                  <p:spPr>
                    <a:xfrm rot="13420800">
                      <a:off x="1931400" y="4095720"/>
                      <a:ext cx="90000" cy="5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296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Freeform 877"/>
                  <p:cNvSpPr/>
                  <p:nvPr/>
                </p:nvSpPr>
                <p:spPr>
                  <a:xfrm rot="8284800">
                    <a:off x="1907640" y="4097520"/>
                    <a:ext cx="77760" cy="6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5" name="Freeform 878"/>
            <p:cNvSpPr/>
            <p:nvPr/>
          </p:nvSpPr>
          <p:spPr>
            <a:xfrm rot="11753400">
              <a:off x="1750680" y="4115520"/>
              <a:ext cx="170640" cy="28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71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79"/>
            <p:cNvSpPr/>
            <p:nvPr/>
          </p:nvSpPr>
          <p:spPr>
            <a:xfrm rot="11504400">
              <a:off x="1637280" y="4131000"/>
              <a:ext cx="171360" cy="28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739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80"/>
            <p:cNvSpPr/>
            <p:nvPr/>
          </p:nvSpPr>
          <p:spPr>
            <a:xfrm rot="12712200">
              <a:off x="1853280" y="4076280"/>
              <a:ext cx="123480" cy="424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618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81"/>
            <p:cNvSpPr/>
            <p:nvPr/>
          </p:nvSpPr>
          <p:spPr>
            <a:xfrm rot="11753400">
              <a:off x="1797120" y="4100400"/>
              <a:ext cx="170640" cy="28080"/>
            </a:xfrm>
            <a:prstGeom prst="pie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996633"/>
                </a:gs>
                <a:gs pos="100000">
                  <a:srgbClr val="cc6600"/>
                </a:gs>
              </a:gsLst>
              <a:lin ang="71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882"/>
            <p:cNvGrpSpPr/>
            <p:nvPr/>
          </p:nvGrpSpPr>
          <p:grpSpPr>
            <a:xfrm>
              <a:off x="666720" y="3963960"/>
              <a:ext cx="1629360" cy="255240"/>
              <a:chOff x="666720" y="3963960"/>
              <a:chExt cx="1629360" cy="255240"/>
            </a:xfrm>
          </p:grpSpPr>
          <p:sp>
            <p:nvSpPr>
              <p:cNvPr id="550" name="Freeform 883"/>
              <p:cNvSpPr/>
              <p:nvPr/>
            </p:nvSpPr>
            <p:spPr>
              <a:xfrm rot="11536200">
                <a:off x="1698120" y="4123800"/>
                <a:ext cx="174240" cy="223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362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884"/>
              <p:cNvGrpSpPr/>
              <p:nvPr/>
            </p:nvGrpSpPr>
            <p:grpSpPr>
              <a:xfrm>
                <a:off x="1463400" y="4114080"/>
                <a:ext cx="286920" cy="85320"/>
                <a:chOff x="1463400" y="4114080"/>
                <a:chExt cx="286920" cy="85320"/>
              </a:xfrm>
            </p:grpSpPr>
            <p:sp>
              <p:nvSpPr>
                <p:cNvPr id="552" name="Freeform 885"/>
                <p:cNvSpPr/>
                <p:nvPr/>
              </p:nvSpPr>
              <p:spPr>
                <a:xfrm rot="11478600">
                  <a:off x="1575360" y="4130640"/>
                  <a:ext cx="173880" cy="2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886"/>
                <p:cNvSpPr/>
                <p:nvPr/>
              </p:nvSpPr>
              <p:spPr>
                <a:xfrm rot="11478600">
                  <a:off x="1518480" y="413676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887"/>
                <p:cNvSpPr/>
                <p:nvPr/>
              </p:nvSpPr>
              <p:spPr>
                <a:xfrm rot="11912400">
                  <a:off x="1463040" y="414396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Group 888"/>
              <p:cNvGrpSpPr/>
              <p:nvPr/>
            </p:nvGrpSpPr>
            <p:grpSpPr>
              <a:xfrm>
                <a:off x="1278360" y="4115880"/>
                <a:ext cx="285480" cy="96840"/>
                <a:chOff x="1278360" y="4115880"/>
                <a:chExt cx="285480" cy="96840"/>
              </a:xfrm>
            </p:grpSpPr>
            <p:sp>
              <p:nvSpPr>
                <p:cNvPr id="556" name="Freeform 889"/>
                <p:cNvSpPr/>
                <p:nvPr/>
              </p:nvSpPr>
              <p:spPr>
                <a:xfrm rot="11832600">
                  <a:off x="1390320" y="4148280"/>
                  <a:ext cx="173880" cy="2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890"/>
                <p:cNvSpPr/>
                <p:nvPr/>
              </p:nvSpPr>
              <p:spPr>
                <a:xfrm rot="11832600">
                  <a:off x="1332360" y="414828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891"/>
                <p:cNvSpPr/>
                <p:nvPr/>
              </p:nvSpPr>
              <p:spPr>
                <a:xfrm rot="12267000">
                  <a:off x="1276560" y="4149720"/>
                  <a:ext cx="170280" cy="28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Group 892"/>
              <p:cNvGrpSpPr/>
              <p:nvPr/>
            </p:nvGrpSpPr>
            <p:grpSpPr>
              <a:xfrm>
                <a:off x="1112760" y="4105800"/>
                <a:ext cx="269640" cy="113400"/>
                <a:chOff x="1112760" y="4105800"/>
                <a:chExt cx="269640" cy="113400"/>
              </a:xfrm>
            </p:grpSpPr>
            <p:sp>
              <p:nvSpPr>
                <p:cNvPr id="560" name="Freeform 893"/>
                <p:cNvSpPr/>
                <p:nvPr/>
              </p:nvSpPr>
              <p:spPr>
                <a:xfrm rot="12324000">
                  <a:off x="1217880" y="4158720"/>
                  <a:ext cx="167040" cy="241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894"/>
                <p:cNvSpPr/>
                <p:nvPr/>
              </p:nvSpPr>
              <p:spPr>
                <a:xfrm rot="12324000">
                  <a:off x="1161720" y="4152600"/>
                  <a:ext cx="163800" cy="2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895"/>
                <p:cNvSpPr/>
                <p:nvPr/>
              </p:nvSpPr>
              <p:spPr>
                <a:xfrm rot="12757800">
                  <a:off x="1107720" y="4147200"/>
                  <a:ext cx="163800" cy="2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896"/>
              <p:cNvGrpSpPr/>
              <p:nvPr/>
            </p:nvGrpSpPr>
            <p:grpSpPr>
              <a:xfrm>
                <a:off x="666720" y="3996720"/>
                <a:ext cx="388800" cy="205920"/>
                <a:chOff x="666720" y="3996720"/>
                <a:chExt cx="388800" cy="205920"/>
              </a:xfrm>
            </p:grpSpPr>
            <p:grpSp>
              <p:nvGrpSpPr>
                <p:cNvPr id="564" name="Group 897"/>
                <p:cNvGrpSpPr/>
                <p:nvPr/>
              </p:nvGrpSpPr>
              <p:grpSpPr>
                <a:xfrm>
                  <a:off x="743760" y="4026960"/>
                  <a:ext cx="311760" cy="175680"/>
                  <a:chOff x="743760" y="4026960"/>
                  <a:chExt cx="311760" cy="175680"/>
                </a:xfrm>
              </p:grpSpPr>
              <p:sp>
                <p:nvSpPr>
                  <p:cNvPr id="565" name="Freeform 898"/>
                  <p:cNvSpPr/>
                  <p:nvPr/>
                </p:nvSpPr>
                <p:spPr>
                  <a:xfrm rot="16189200">
                    <a:off x="720720" y="4050000"/>
                    <a:ext cx="92520" cy="46080"/>
                  </a:xfrm>
                  <a:prstGeom prst="pi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Freeform 899"/>
                  <p:cNvSpPr/>
                  <p:nvPr/>
                </p:nvSpPr>
                <p:spPr>
                  <a:xfrm rot="14451600">
                    <a:off x="977760" y="4136040"/>
                    <a:ext cx="78840" cy="43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70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Freeform 900"/>
                  <p:cNvSpPr/>
                  <p:nvPr/>
                </p:nvSpPr>
                <p:spPr>
                  <a:xfrm rot="14886000">
                    <a:off x="889200" y="4120560"/>
                    <a:ext cx="77400" cy="5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26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Group 901"/>
                <p:cNvGrpSpPr/>
                <p:nvPr/>
              </p:nvGrpSpPr>
              <p:grpSpPr>
                <a:xfrm>
                  <a:off x="666720" y="3996720"/>
                  <a:ext cx="345960" cy="203040"/>
                  <a:chOff x="666720" y="3996720"/>
                  <a:chExt cx="345960" cy="203040"/>
                </a:xfrm>
              </p:grpSpPr>
              <p:grpSp>
                <p:nvGrpSpPr>
                  <p:cNvPr id="569" name="Group 902"/>
                  <p:cNvGrpSpPr/>
                  <p:nvPr/>
                </p:nvGrpSpPr>
                <p:grpSpPr>
                  <a:xfrm>
                    <a:off x="706680" y="4003200"/>
                    <a:ext cx="306000" cy="196560"/>
                    <a:chOff x="706680" y="4003200"/>
                    <a:chExt cx="306000" cy="196560"/>
                  </a:xfrm>
                </p:grpSpPr>
                <p:sp>
                  <p:nvSpPr>
                    <p:cNvPr id="570" name="Freeform 903"/>
                    <p:cNvSpPr/>
                    <p:nvPr/>
                  </p:nvSpPr>
                  <p:spPr>
                    <a:xfrm rot="14451600">
                      <a:off x="932400" y="4126320"/>
                      <a:ext cx="7668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1" name="Group 904"/>
                    <p:cNvGrpSpPr/>
                    <p:nvPr/>
                  </p:nvGrpSpPr>
                  <p:grpSpPr>
                    <a:xfrm>
                      <a:off x="763920" y="4051440"/>
                      <a:ext cx="157680" cy="133920"/>
                      <a:chOff x="763920" y="4051440"/>
                      <a:chExt cx="157680" cy="133920"/>
                    </a:xfrm>
                  </p:grpSpPr>
                  <p:sp>
                    <p:nvSpPr>
                      <p:cNvPr id="572" name="Freeform 905"/>
                      <p:cNvSpPr/>
                      <p:nvPr/>
                    </p:nvSpPr>
                    <p:spPr>
                      <a:xfrm rot="15122400">
                        <a:off x="840240" y="4113000"/>
                        <a:ext cx="92520" cy="4320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Freeform 906"/>
                      <p:cNvSpPr/>
                      <p:nvPr/>
                    </p:nvSpPr>
                    <p:spPr>
                      <a:xfrm rot="15122400">
                        <a:off x="795240" y="409104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Freeform 907"/>
                      <p:cNvSpPr/>
                      <p:nvPr/>
                    </p:nvSpPr>
                    <p:spPr>
                      <a:xfrm rot="15556200">
                        <a:off x="753480" y="407376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36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5" name="Freeform 908"/>
                    <p:cNvSpPr/>
                    <p:nvPr/>
                  </p:nvSpPr>
                  <p:spPr>
                    <a:xfrm rot="16189200">
                      <a:off x="689040" y="4020840"/>
                      <a:ext cx="89640" cy="5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296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6" name="Freeform 909"/>
                  <p:cNvSpPr/>
                  <p:nvPr/>
                </p:nvSpPr>
                <p:spPr>
                  <a:xfrm rot="11053800">
                    <a:off x="668520" y="3999240"/>
                    <a:ext cx="77760" cy="6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7" name="Group 910"/>
              <p:cNvGrpSpPr/>
              <p:nvPr/>
            </p:nvGrpSpPr>
            <p:grpSpPr>
              <a:xfrm>
                <a:off x="1895760" y="3963960"/>
                <a:ext cx="400320" cy="217080"/>
                <a:chOff x="1895760" y="3963960"/>
                <a:chExt cx="400320" cy="217080"/>
              </a:xfrm>
            </p:grpSpPr>
            <p:grpSp>
              <p:nvGrpSpPr>
                <p:cNvPr id="578" name="Group 911"/>
                <p:cNvGrpSpPr/>
                <p:nvPr/>
              </p:nvGrpSpPr>
              <p:grpSpPr>
                <a:xfrm>
                  <a:off x="1967760" y="3963960"/>
                  <a:ext cx="328320" cy="200880"/>
                  <a:chOff x="1967760" y="3963960"/>
                  <a:chExt cx="328320" cy="200880"/>
                </a:xfrm>
              </p:grpSpPr>
              <p:sp>
                <p:nvSpPr>
                  <p:cNvPr id="579" name="Freeform 912"/>
                  <p:cNvSpPr/>
                  <p:nvPr/>
                </p:nvSpPr>
                <p:spPr>
                  <a:xfrm rot="13420800">
                    <a:off x="1970640" y="4092840"/>
                    <a:ext cx="92520" cy="46080"/>
                  </a:xfrm>
                  <a:prstGeom prst="pi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Freeform 913"/>
                  <p:cNvSpPr/>
                  <p:nvPr/>
                </p:nvSpPr>
                <p:spPr>
                  <a:xfrm rot="11682600">
                    <a:off x="2212560" y="3973320"/>
                    <a:ext cx="79200" cy="43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70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Freeform 914"/>
                  <p:cNvSpPr/>
                  <p:nvPr/>
                </p:nvSpPr>
                <p:spPr>
                  <a:xfrm rot="12117000">
                    <a:off x="2143800" y="4025160"/>
                    <a:ext cx="77400" cy="5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26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Group 915"/>
                <p:cNvGrpSpPr/>
                <p:nvPr/>
              </p:nvGrpSpPr>
              <p:grpSpPr>
                <a:xfrm>
                  <a:off x="1895760" y="3989160"/>
                  <a:ext cx="364680" cy="191880"/>
                  <a:chOff x="1895760" y="3989160"/>
                  <a:chExt cx="364680" cy="191880"/>
                </a:xfrm>
              </p:grpSpPr>
              <p:grpSp>
                <p:nvGrpSpPr>
                  <p:cNvPr id="583" name="Group 916"/>
                  <p:cNvGrpSpPr/>
                  <p:nvPr/>
                </p:nvGrpSpPr>
                <p:grpSpPr>
                  <a:xfrm>
                    <a:off x="1925280" y="3989160"/>
                    <a:ext cx="335160" cy="184680"/>
                    <a:chOff x="1925280" y="3989160"/>
                    <a:chExt cx="335160" cy="184680"/>
                  </a:xfrm>
                </p:grpSpPr>
                <p:sp>
                  <p:nvSpPr>
                    <p:cNvPr id="584" name="Freeform 917"/>
                    <p:cNvSpPr/>
                    <p:nvPr/>
                  </p:nvSpPr>
                  <p:spPr>
                    <a:xfrm rot="11682600">
                      <a:off x="2178000" y="3997800"/>
                      <a:ext cx="76680" cy="5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5" name="Group 918"/>
                    <p:cNvGrpSpPr/>
                    <p:nvPr/>
                  </p:nvGrpSpPr>
                  <p:grpSpPr>
                    <a:xfrm>
                      <a:off x="2007360" y="4032720"/>
                      <a:ext cx="189360" cy="127080"/>
                      <a:chOff x="2007360" y="4032720"/>
                      <a:chExt cx="189360" cy="127080"/>
                    </a:xfrm>
                  </p:grpSpPr>
                  <p:sp>
                    <p:nvSpPr>
                      <p:cNvPr id="586" name="Freeform 919"/>
                      <p:cNvSpPr/>
                      <p:nvPr/>
                    </p:nvSpPr>
                    <p:spPr>
                      <a:xfrm rot="12353400">
                        <a:off x="2099160" y="4050360"/>
                        <a:ext cx="92520" cy="4356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920"/>
                      <p:cNvSpPr/>
                      <p:nvPr/>
                    </p:nvSpPr>
                    <p:spPr>
                      <a:xfrm rot="12353400">
                        <a:off x="2055960" y="406728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Freeform 921"/>
                      <p:cNvSpPr/>
                      <p:nvPr/>
                    </p:nvSpPr>
                    <p:spPr>
                      <a:xfrm rot="12787200">
                        <a:off x="2014200" y="4086000"/>
                        <a:ext cx="90000" cy="5328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36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9" name="Freeform 922"/>
                    <p:cNvSpPr/>
                    <p:nvPr/>
                  </p:nvSpPr>
                  <p:spPr>
                    <a:xfrm rot="13420800">
                      <a:off x="1931400" y="4095720"/>
                      <a:ext cx="90000" cy="5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296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Freeform 923"/>
                  <p:cNvSpPr/>
                  <p:nvPr/>
                </p:nvSpPr>
                <p:spPr>
                  <a:xfrm rot="8284800">
                    <a:off x="1907640" y="4097520"/>
                    <a:ext cx="77760" cy="6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91" name="Group 178"/>
          <p:cNvGrpSpPr/>
          <p:nvPr/>
        </p:nvGrpSpPr>
        <p:grpSpPr>
          <a:xfrm>
            <a:off x="2717280" y="3379320"/>
            <a:ext cx="1684440" cy="1406520"/>
            <a:chOff x="2717280" y="3379320"/>
            <a:chExt cx="1684440" cy="1406520"/>
          </a:xfrm>
        </p:grpSpPr>
        <p:sp>
          <p:nvSpPr>
            <p:cNvPr id="592" name="Freeform 179"/>
            <p:cNvSpPr/>
            <p:nvPr/>
          </p:nvSpPr>
          <p:spPr>
            <a:xfrm>
              <a:off x="2781360" y="3985200"/>
              <a:ext cx="1595880" cy="8006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180"/>
            <p:cNvGrpSpPr/>
            <p:nvPr/>
          </p:nvGrpSpPr>
          <p:grpSpPr>
            <a:xfrm>
              <a:off x="2754000" y="3470760"/>
              <a:ext cx="1629720" cy="594000"/>
              <a:chOff x="2754000" y="3470760"/>
              <a:chExt cx="1629720" cy="594000"/>
            </a:xfrm>
          </p:grpSpPr>
          <p:sp>
            <p:nvSpPr>
              <p:cNvPr id="594" name="Freeform 181"/>
              <p:cNvSpPr/>
              <p:nvPr/>
            </p:nvSpPr>
            <p:spPr>
              <a:xfrm rot="5135400">
                <a:off x="4136760" y="3840480"/>
                <a:ext cx="237240" cy="5904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Group 182"/>
              <p:cNvGrpSpPr/>
              <p:nvPr/>
            </p:nvGrpSpPr>
            <p:grpSpPr>
              <a:xfrm>
                <a:off x="2754000" y="3470760"/>
                <a:ext cx="1629720" cy="594000"/>
                <a:chOff x="2754000" y="3470760"/>
                <a:chExt cx="1629720" cy="594000"/>
              </a:xfrm>
            </p:grpSpPr>
            <p:sp>
              <p:nvSpPr>
                <p:cNvPr id="596" name="Freeform 183"/>
                <p:cNvSpPr/>
                <p:nvPr/>
              </p:nvSpPr>
              <p:spPr>
                <a:xfrm rot="20575800">
                  <a:off x="2760840" y="3898440"/>
                  <a:ext cx="224280" cy="59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84"/>
                <p:cNvSpPr/>
                <p:nvPr/>
              </p:nvSpPr>
              <p:spPr>
                <a:xfrm rot="20575800">
                  <a:off x="2819160" y="3817800"/>
                  <a:ext cx="219600" cy="727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185"/>
                <p:cNvSpPr/>
                <p:nvPr/>
              </p:nvSpPr>
              <p:spPr>
                <a:xfrm rot="21009600">
                  <a:off x="2870640" y="3751560"/>
                  <a:ext cx="219960" cy="727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" name="Group 186"/>
                <p:cNvGrpSpPr/>
                <p:nvPr/>
              </p:nvGrpSpPr>
              <p:grpSpPr>
                <a:xfrm>
                  <a:off x="2944080" y="3577320"/>
                  <a:ext cx="378000" cy="183600"/>
                  <a:chOff x="2944080" y="3577320"/>
                  <a:chExt cx="378000" cy="183600"/>
                </a:xfrm>
              </p:grpSpPr>
              <p:sp>
                <p:nvSpPr>
                  <p:cNvPr id="600" name="Freeform 187"/>
                  <p:cNvSpPr/>
                  <p:nvPr/>
                </p:nvSpPr>
                <p:spPr>
                  <a:xfrm rot="319200">
                    <a:off x="2946240" y="3691800"/>
                    <a:ext cx="223920" cy="58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88"/>
                  <p:cNvSpPr/>
                  <p:nvPr/>
                </p:nvSpPr>
                <p:spPr>
                  <a:xfrm rot="319200">
                    <a:off x="3025440" y="3639600"/>
                    <a:ext cx="219240" cy="7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Freeform 189"/>
                  <p:cNvSpPr/>
                  <p:nvPr/>
                </p:nvSpPr>
                <p:spPr>
                  <a:xfrm rot="753000">
                    <a:off x="3097080" y="3600000"/>
                    <a:ext cx="219600" cy="7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Group 190"/>
                <p:cNvGrpSpPr/>
                <p:nvPr/>
              </p:nvGrpSpPr>
              <p:grpSpPr>
                <a:xfrm>
                  <a:off x="3182760" y="3480840"/>
                  <a:ext cx="395280" cy="192960"/>
                  <a:chOff x="3182760" y="3480840"/>
                  <a:chExt cx="395280" cy="192960"/>
                </a:xfrm>
              </p:grpSpPr>
              <p:sp>
                <p:nvSpPr>
                  <p:cNvPr id="604" name="Freeform 191"/>
                  <p:cNvSpPr/>
                  <p:nvPr/>
                </p:nvSpPr>
                <p:spPr>
                  <a:xfrm rot="1402200">
                    <a:off x="3185280" y="3573000"/>
                    <a:ext cx="223920" cy="58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192"/>
                  <p:cNvSpPr/>
                  <p:nvPr/>
                </p:nvSpPr>
                <p:spPr>
                  <a:xfrm rot="1402200">
                    <a:off x="3274200" y="3547080"/>
                    <a:ext cx="219240" cy="7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193"/>
                  <p:cNvSpPr/>
                  <p:nvPr/>
                </p:nvSpPr>
                <p:spPr>
                  <a:xfrm rot="1836000">
                    <a:off x="3355200" y="3531600"/>
                    <a:ext cx="219600" cy="7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Group 194"/>
                <p:cNvGrpSpPr/>
                <p:nvPr/>
              </p:nvGrpSpPr>
              <p:grpSpPr>
                <a:xfrm>
                  <a:off x="3447000" y="3470760"/>
                  <a:ext cx="375840" cy="201960"/>
                  <a:chOff x="3447000" y="3470760"/>
                  <a:chExt cx="375840" cy="201960"/>
                </a:xfrm>
              </p:grpSpPr>
              <p:sp>
                <p:nvSpPr>
                  <p:cNvPr id="608" name="Freeform 195"/>
                  <p:cNvSpPr/>
                  <p:nvPr/>
                </p:nvSpPr>
                <p:spPr>
                  <a:xfrm rot="2232600">
                    <a:off x="3443760" y="3541680"/>
                    <a:ext cx="214560" cy="61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196"/>
                  <p:cNvSpPr/>
                  <p:nvPr/>
                </p:nvSpPr>
                <p:spPr>
                  <a:xfrm rot="2232600">
                    <a:off x="3534120" y="3532320"/>
                    <a:ext cx="210240" cy="76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Freeform 197"/>
                  <p:cNvSpPr/>
                  <p:nvPr/>
                </p:nvSpPr>
                <p:spPr>
                  <a:xfrm rot="2667000">
                    <a:off x="3615480" y="3533040"/>
                    <a:ext cx="210240" cy="76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Group 198"/>
                <p:cNvGrpSpPr/>
                <p:nvPr/>
              </p:nvGrpSpPr>
              <p:grpSpPr>
                <a:xfrm>
                  <a:off x="3704040" y="3481920"/>
                  <a:ext cx="343080" cy="295560"/>
                  <a:chOff x="3704040" y="3481920"/>
                  <a:chExt cx="343080" cy="295560"/>
                </a:xfrm>
              </p:grpSpPr>
              <p:sp>
                <p:nvSpPr>
                  <p:cNvPr id="612" name="Freeform 199"/>
                  <p:cNvSpPr/>
                  <p:nvPr/>
                </p:nvSpPr>
                <p:spPr>
                  <a:xfrm rot="3226200">
                    <a:off x="3678120" y="3565800"/>
                    <a:ext cx="237240" cy="56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200"/>
                  <p:cNvSpPr/>
                  <p:nvPr/>
                </p:nvSpPr>
                <p:spPr>
                  <a:xfrm rot="3226200">
                    <a:off x="3765960" y="3591720"/>
                    <a:ext cx="232560" cy="6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Freeform 201"/>
                  <p:cNvSpPr/>
                  <p:nvPr/>
                </p:nvSpPr>
                <p:spPr>
                  <a:xfrm rot="3660000">
                    <a:off x="3844080" y="3623760"/>
                    <a:ext cx="232560" cy="6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Group 202"/>
                <p:cNvGrpSpPr/>
                <p:nvPr/>
              </p:nvGrpSpPr>
              <p:grpSpPr>
                <a:xfrm>
                  <a:off x="3961440" y="3578400"/>
                  <a:ext cx="277560" cy="344160"/>
                  <a:chOff x="3961440" y="3578400"/>
                  <a:chExt cx="277560" cy="344160"/>
                </a:xfrm>
              </p:grpSpPr>
              <p:sp>
                <p:nvSpPr>
                  <p:cNvPr id="616" name="Freeform 203"/>
                  <p:cNvSpPr/>
                  <p:nvPr/>
                </p:nvSpPr>
                <p:spPr>
                  <a:xfrm rot="4068600">
                    <a:off x="3913200" y="3670560"/>
                    <a:ext cx="237240" cy="56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Freeform 204"/>
                  <p:cNvSpPr/>
                  <p:nvPr/>
                </p:nvSpPr>
                <p:spPr>
                  <a:xfrm rot="4068600">
                    <a:off x="3990600" y="3715920"/>
                    <a:ext cx="232560" cy="6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Freeform 205"/>
                  <p:cNvSpPr/>
                  <p:nvPr/>
                </p:nvSpPr>
                <p:spPr>
                  <a:xfrm rot="4502400">
                    <a:off x="4059000" y="3766320"/>
                    <a:ext cx="232560" cy="6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9" name="Freeform 206"/>
                <p:cNvSpPr/>
                <p:nvPr/>
              </p:nvSpPr>
              <p:spPr>
                <a:xfrm rot="5135400">
                  <a:off x="4181760" y="3895200"/>
                  <a:ext cx="232200" cy="6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07"/>
                <p:cNvSpPr/>
                <p:nvPr/>
              </p:nvSpPr>
              <p:spPr>
                <a:xfrm>
                  <a:off x="4283280" y="3880440"/>
                  <a:ext cx="100440" cy="16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208"/>
                <p:cNvSpPr/>
                <p:nvPr/>
              </p:nvSpPr>
              <p:spPr>
                <a:xfrm>
                  <a:off x="2754000" y="3955680"/>
                  <a:ext cx="158040" cy="1090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209"/>
            <p:cNvGrpSpPr/>
            <p:nvPr/>
          </p:nvGrpSpPr>
          <p:grpSpPr>
            <a:xfrm>
              <a:off x="2717280" y="3923280"/>
              <a:ext cx="1680840" cy="288720"/>
              <a:chOff x="2717280" y="3923280"/>
              <a:chExt cx="1680840" cy="288720"/>
            </a:xfrm>
          </p:grpSpPr>
          <p:sp>
            <p:nvSpPr>
              <p:cNvPr id="623" name="Freeform 210"/>
              <p:cNvSpPr/>
              <p:nvPr/>
            </p:nvSpPr>
            <p:spPr>
              <a:xfrm rot="11536200">
                <a:off x="4038480" y="4087800"/>
                <a:ext cx="222840" cy="2880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362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11"/>
              <p:cNvSpPr/>
              <p:nvPr/>
            </p:nvSpPr>
            <p:spPr>
              <a:xfrm rot="11753400">
                <a:off x="4105800" y="4076640"/>
                <a:ext cx="218520" cy="367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14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12"/>
              <p:cNvSpPr/>
              <p:nvPr/>
            </p:nvSpPr>
            <p:spPr>
              <a:xfrm rot="11504400">
                <a:off x="3960720" y="4096440"/>
                <a:ext cx="219600" cy="367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398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213"/>
              <p:cNvGrpSpPr/>
              <p:nvPr/>
            </p:nvGrpSpPr>
            <p:grpSpPr>
              <a:xfrm>
                <a:off x="3737880" y="4074840"/>
                <a:ext cx="368280" cy="111240"/>
                <a:chOff x="3737880" y="4074840"/>
                <a:chExt cx="368280" cy="111240"/>
              </a:xfrm>
            </p:grpSpPr>
            <p:sp>
              <p:nvSpPr>
                <p:cNvPr id="627" name="Freeform 214"/>
                <p:cNvSpPr/>
                <p:nvPr/>
              </p:nvSpPr>
              <p:spPr>
                <a:xfrm rot="11478600">
                  <a:off x="3882600" y="4096440"/>
                  <a:ext cx="222840" cy="302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15"/>
                <p:cNvSpPr/>
                <p:nvPr/>
              </p:nvSpPr>
              <p:spPr>
                <a:xfrm rot="11478600">
                  <a:off x="3809160" y="4104720"/>
                  <a:ext cx="218160" cy="374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216"/>
                <p:cNvSpPr/>
                <p:nvPr/>
              </p:nvSpPr>
              <p:spPr>
                <a:xfrm rot="11912400">
                  <a:off x="3737880" y="4114800"/>
                  <a:ext cx="218520" cy="374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Group 217"/>
              <p:cNvGrpSpPr/>
              <p:nvPr/>
            </p:nvGrpSpPr>
            <p:grpSpPr>
              <a:xfrm>
                <a:off x="3501000" y="4078800"/>
                <a:ext cx="366480" cy="124560"/>
                <a:chOff x="3501000" y="4078800"/>
                <a:chExt cx="366480" cy="124560"/>
              </a:xfrm>
            </p:grpSpPr>
            <p:sp>
              <p:nvSpPr>
                <p:cNvPr id="631" name="Freeform 218"/>
                <p:cNvSpPr/>
                <p:nvPr/>
              </p:nvSpPr>
              <p:spPr>
                <a:xfrm rot="11832600">
                  <a:off x="3645000" y="4118760"/>
                  <a:ext cx="222840" cy="302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19"/>
                <p:cNvSpPr/>
                <p:nvPr/>
              </p:nvSpPr>
              <p:spPr>
                <a:xfrm rot="11832600">
                  <a:off x="3570840" y="4119480"/>
                  <a:ext cx="218160" cy="374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20"/>
                <p:cNvSpPr/>
                <p:nvPr/>
              </p:nvSpPr>
              <p:spPr>
                <a:xfrm rot="12267000">
                  <a:off x="3498840" y="4122360"/>
                  <a:ext cx="218520" cy="374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221"/>
              <p:cNvGrpSpPr/>
              <p:nvPr/>
            </p:nvGrpSpPr>
            <p:grpSpPr>
              <a:xfrm>
                <a:off x="3288600" y="4066200"/>
                <a:ext cx="345960" cy="145800"/>
                <a:chOff x="3288600" y="4066200"/>
                <a:chExt cx="345960" cy="145800"/>
              </a:xfrm>
            </p:grpSpPr>
            <p:sp>
              <p:nvSpPr>
                <p:cNvPr id="635" name="Freeform 222"/>
                <p:cNvSpPr/>
                <p:nvPr/>
              </p:nvSpPr>
              <p:spPr>
                <a:xfrm rot="12324000">
                  <a:off x="3423960" y="4133880"/>
                  <a:ext cx="214200" cy="31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23"/>
                <p:cNvSpPr/>
                <p:nvPr/>
              </p:nvSpPr>
              <p:spPr>
                <a:xfrm rot="12324000">
                  <a:off x="3351960" y="4125600"/>
                  <a:ext cx="209880" cy="3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24"/>
                <p:cNvSpPr/>
                <p:nvPr/>
              </p:nvSpPr>
              <p:spPr>
                <a:xfrm rot="12757800">
                  <a:off x="3282120" y="4119480"/>
                  <a:ext cx="210240" cy="3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225"/>
              <p:cNvGrpSpPr/>
              <p:nvPr/>
            </p:nvGrpSpPr>
            <p:grpSpPr>
              <a:xfrm>
                <a:off x="2717280" y="3923280"/>
                <a:ext cx="498600" cy="267480"/>
                <a:chOff x="2717280" y="3923280"/>
                <a:chExt cx="498600" cy="267480"/>
              </a:xfrm>
            </p:grpSpPr>
            <p:grpSp>
              <p:nvGrpSpPr>
                <p:cNvPr id="639" name="Group 226"/>
                <p:cNvGrpSpPr/>
                <p:nvPr/>
              </p:nvGrpSpPr>
              <p:grpSpPr>
                <a:xfrm>
                  <a:off x="2816280" y="3961800"/>
                  <a:ext cx="399600" cy="228960"/>
                  <a:chOff x="2816280" y="3961800"/>
                  <a:chExt cx="399600" cy="228960"/>
                </a:xfrm>
              </p:grpSpPr>
              <p:sp>
                <p:nvSpPr>
                  <p:cNvPr id="640" name="Freeform 227"/>
                  <p:cNvSpPr/>
                  <p:nvPr/>
                </p:nvSpPr>
                <p:spPr>
                  <a:xfrm rot="16189200">
                    <a:off x="2785680" y="3992400"/>
                    <a:ext cx="119880" cy="59040"/>
                  </a:xfrm>
                  <a:prstGeom prst="pie">
                    <a:avLst/>
                  </a:prstGeom>
                  <a:solidFill>
                    <a:srgbClr val="cc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228"/>
                  <p:cNvSpPr/>
                  <p:nvPr/>
                </p:nvSpPr>
                <p:spPr>
                  <a:xfrm rot="14451600">
                    <a:off x="3115440" y="4104720"/>
                    <a:ext cx="102600" cy="55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704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Freeform 229"/>
                  <p:cNvSpPr/>
                  <p:nvPr/>
                </p:nvSpPr>
                <p:spPr>
                  <a:xfrm rot="14886000">
                    <a:off x="3001680" y="4084560"/>
                    <a:ext cx="10044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4266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30"/>
                <p:cNvGrpSpPr/>
                <p:nvPr/>
              </p:nvGrpSpPr>
              <p:grpSpPr>
                <a:xfrm>
                  <a:off x="2717280" y="3923280"/>
                  <a:ext cx="444240" cy="263520"/>
                  <a:chOff x="2717280" y="3923280"/>
                  <a:chExt cx="444240" cy="263520"/>
                </a:xfrm>
              </p:grpSpPr>
              <p:grpSp>
                <p:nvGrpSpPr>
                  <p:cNvPr id="644" name="Group 231"/>
                  <p:cNvGrpSpPr/>
                  <p:nvPr/>
                </p:nvGrpSpPr>
                <p:grpSpPr>
                  <a:xfrm>
                    <a:off x="2769120" y="3931920"/>
                    <a:ext cx="392400" cy="254880"/>
                    <a:chOff x="2769120" y="3931920"/>
                    <a:chExt cx="392400" cy="254880"/>
                  </a:xfrm>
                </p:grpSpPr>
                <p:sp>
                  <p:nvSpPr>
                    <p:cNvPr id="645" name="Freeform 232"/>
                    <p:cNvSpPr/>
                    <p:nvPr/>
                  </p:nvSpPr>
                  <p:spPr>
                    <a:xfrm rot="14451600">
                      <a:off x="3057480" y="4092480"/>
                      <a:ext cx="99360" cy="68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470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6" name="Group 233"/>
                    <p:cNvGrpSpPr/>
                    <p:nvPr/>
                  </p:nvGrpSpPr>
                  <p:grpSpPr>
                    <a:xfrm>
                      <a:off x="2842560" y="3993840"/>
                      <a:ext cx="201960" cy="173880"/>
                      <a:chOff x="2842560" y="3993840"/>
                      <a:chExt cx="201960" cy="173880"/>
                    </a:xfrm>
                  </p:grpSpPr>
                  <p:sp>
                    <p:nvSpPr>
                      <p:cNvPr id="647" name="Freeform 234"/>
                      <p:cNvSpPr/>
                      <p:nvPr/>
                    </p:nvSpPr>
                    <p:spPr>
                      <a:xfrm rot="15122400">
                        <a:off x="2939760" y="4074120"/>
                        <a:ext cx="119880" cy="5544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Freeform 235"/>
                      <p:cNvSpPr/>
                      <p:nvPr/>
                    </p:nvSpPr>
                    <p:spPr>
                      <a:xfrm rot="15122400">
                        <a:off x="2882520" y="4045680"/>
                        <a:ext cx="116280" cy="6840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4032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Freeform 236"/>
                      <p:cNvSpPr/>
                      <p:nvPr/>
                    </p:nvSpPr>
                    <p:spPr>
                      <a:xfrm rot="15556200">
                        <a:off x="2828520" y="4023000"/>
                        <a:ext cx="116280" cy="6840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cc6600"/>
                          </a:gs>
                          <a:gs pos="50000">
                            <a:srgbClr val="996633"/>
                          </a:gs>
                          <a:gs pos="100000">
                            <a:srgbClr val="cc6600"/>
                          </a:gs>
                        </a:gsLst>
                        <a:lin ang="36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50" name="Freeform 237"/>
                    <p:cNvSpPr/>
                    <p:nvPr/>
                  </p:nvSpPr>
                  <p:spPr>
                    <a:xfrm rot="16189200">
                      <a:off x="2745720" y="3955320"/>
                      <a:ext cx="116280" cy="6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996633"/>
                        </a:gs>
                        <a:gs pos="100000">
                          <a:srgbClr val="cc6600"/>
                        </a:gs>
                      </a:gsLst>
                      <a:lin ang="2964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1" name="Freeform 238"/>
                  <p:cNvSpPr/>
                  <p:nvPr/>
                </p:nvSpPr>
                <p:spPr>
                  <a:xfrm rot="11053800">
                    <a:off x="2720160" y="3926880"/>
                    <a:ext cx="99720" cy="8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2" name="Freeform 239"/>
              <p:cNvSpPr/>
              <p:nvPr/>
            </p:nvSpPr>
            <p:spPr>
              <a:xfrm rot="12712200">
                <a:off x="4237920" y="4025880"/>
                <a:ext cx="157680" cy="547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618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240"/>
              <p:cNvGrpSpPr/>
              <p:nvPr/>
            </p:nvGrpSpPr>
            <p:grpSpPr>
              <a:xfrm>
                <a:off x="3081240" y="4049280"/>
                <a:ext cx="341280" cy="159120"/>
                <a:chOff x="3081240" y="4049280"/>
                <a:chExt cx="341280" cy="159120"/>
              </a:xfrm>
            </p:grpSpPr>
            <p:sp>
              <p:nvSpPr>
                <p:cNvPr id="654" name="Freeform 241"/>
                <p:cNvSpPr/>
                <p:nvPr/>
              </p:nvSpPr>
              <p:spPr>
                <a:xfrm rot="12498600">
                  <a:off x="3213720" y="4128120"/>
                  <a:ext cx="214200" cy="31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42"/>
                <p:cNvSpPr/>
                <p:nvPr/>
              </p:nvSpPr>
              <p:spPr>
                <a:xfrm rot="12498600">
                  <a:off x="3141720" y="4116240"/>
                  <a:ext cx="209880" cy="3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243"/>
                <p:cNvSpPr/>
                <p:nvPr/>
              </p:nvSpPr>
              <p:spPr>
                <a:xfrm rot="12932400">
                  <a:off x="3072600" y="4106520"/>
                  <a:ext cx="209880" cy="3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46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244"/>
              <p:cNvSpPr/>
              <p:nvPr/>
            </p:nvSpPr>
            <p:spPr>
              <a:xfrm rot="11753400">
                <a:off x="4164840" y="4056840"/>
                <a:ext cx="218520" cy="36720"/>
              </a:xfrm>
              <a:prstGeom prst="pie">
                <a:avLst/>
              </a:prstGeom>
              <a:gradFill rotWithShape="0">
                <a:gsLst>
                  <a:gs pos="0">
                    <a:srgbClr val="cc6600"/>
                  </a:gs>
                  <a:gs pos="50000">
                    <a:srgbClr val="996633"/>
                  </a:gs>
                  <a:gs pos="100000">
                    <a:srgbClr val="cc6600"/>
                  </a:gs>
                </a:gsLst>
                <a:lin ang="714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245"/>
            <p:cNvGrpSpPr/>
            <p:nvPr/>
          </p:nvGrpSpPr>
          <p:grpSpPr>
            <a:xfrm>
              <a:off x="2934000" y="3906720"/>
              <a:ext cx="239040" cy="204480"/>
              <a:chOff x="2934000" y="3906720"/>
              <a:chExt cx="239040" cy="204480"/>
            </a:xfrm>
          </p:grpSpPr>
          <p:sp>
            <p:nvSpPr>
              <p:cNvPr id="659" name="Oval 246"/>
              <p:cNvSpPr/>
              <p:nvPr/>
            </p:nvSpPr>
            <p:spPr>
              <a:xfrm rot="20605800">
                <a:off x="2950200" y="3951360"/>
                <a:ext cx="166320" cy="138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47"/>
              <p:cNvSpPr/>
              <p:nvPr/>
            </p:nvSpPr>
            <p:spPr>
              <a:xfrm flipV="1">
                <a:off x="3103560" y="3906720"/>
                <a:ext cx="6948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248"/>
            <p:cNvGrpSpPr/>
            <p:nvPr/>
          </p:nvGrpSpPr>
          <p:grpSpPr>
            <a:xfrm>
              <a:off x="3080160" y="3971520"/>
              <a:ext cx="239040" cy="204480"/>
              <a:chOff x="3080160" y="3971520"/>
              <a:chExt cx="239040" cy="204480"/>
            </a:xfrm>
          </p:grpSpPr>
          <p:sp>
            <p:nvSpPr>
              <p:cNvPr id="662" name="Oval 249"/>
              <p:cNvSpPr/>
              <p:nvPr/>
            </p:nvSpPr>
            <p:spPr>
              <a:xfrm rot="20605800">
                <a:off x="3096360" y="4016160"/>
                <a:ext cx="166320" cy="138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50"/>
              <p:cNvSpPr/>
              <p:nvPr/>
            </p:nvSpPr>
            <p:spPr>
              <a:xfrm flipV="1">
                <a:off x="3249720" y="3971520"/>
                <a:ext cx="6948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251"/>
            <p:cNvGrpSpPr/>
            <p:nvPr/>
          </p:nvGrpSpPr>
          <p:grpSpPr>
            <a:xfrm>
              <a:off x="3225960" y="3971520"/>
              <a:ext cx="239040" cy="204480"/>
              <a:chOff x="3225960" y="3971520"/>
              <a:chExt cx="239040" cy="204480"/>
            </a:xfrm>
          </p:grpSpPr>
          <p:sp>
            <p:nvSpPr>
              <p:cNvPr id="665" name="Oval 252"/>
              <p:cNvSpPr/>
              <p:nvPr/>
            </p:nvSpPr>
            <p:spPr>
              <a:xfrm rot="20605800">
                <a:off x="3242160" y="4016160"/>
                <a:ext cx="166320" cy="138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253"/>
              <p:cNvSpPr/>
              <p:nvPr/>
            </p:nvSpPr>
            <p:spPr>
              <a:xfrm flipV="1">
                <a:off x="3395520" y="3971520"/>
                <a:ext cx="6948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254"/>
            <p:cNvGrpSpPr/>
            <p:nvPr/>
          </p:nvGrpSpPr>
          <p:grpSpPr>
            <a:xfrm>
              <a:off x="2977200" y="3802320"/>
              <a:ext cx="210240" cy="270720"/>
              <a:chOff x="2977200" y="3802320"/>
              <a:chExt cx="210240" cy="270720"/>
            </a:xfrm>
          </p:grpSpPr>
          <p:sp>
            <p:nvSpPr>
              <p:cNvPr id="668" name="Oval 255"/>
              <p:cNvSpPr/>
              <p:nvPr/>
            </p:nvSpPr>
            <p:spPr>
              <a:xfrm rot="7267200">
                <a:off x="3008160" y="382752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256"/>
              <p:cNvSpPr/>
              <p:nvPr/>
            </p:nvSpPr>
            <p:spPr>
              <a:xfrm flipH="1">
                <a:off x="3073320" y="398988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257"/>
            <p:cNvGrpSpPr/>
            <p:nvPr/>
          </p:nvGrpSpPr>
          <p:grpSpPr>
            <a:xfrm>
              <a:off x="3060720" y="3672720"/>
              <a:ext cx="210240" cy="270720"/>
              <a:chOff x="3060720" y="3672720"/>
              <a:chExt cx="210240" cy="270720"/>
            </a:xfrm>
          </p:grpSpPr>
          <p:sp>
            <p:nvSpPr>
              <p:cNvPr id="671" name="Oval 258"/>
              <p:cNvSpPr/>
              <p:nvPr/>
            </p:nvSpPr>
            <p:spPr>
              <a:xfrm rot="7267200">
                <a:off x="3091680" y="369792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59"/>
              <p:cNvSpPr/>
              <p:nvPr/>
            </p:nvSpPr>
            <p:spPr>
              <a:xfrm flipH="1">
                <a:off x="3156840" y="386028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260"/>
            <p:cNvGrpSpPr/>
            <p:nvPr/>
          </p:nvGrpSpPr>
          <p:grpSpPr>
            <a:xfrm>
              <a:off x="3353040" y="3996720"/>
              <a:ext cx="210240" cy="270720"/>
              <a:chOff x="3353040" y="3996720"/>
              <a:chExt cx="210240" cy="270720"/>
            </a:xfrm>
          </p:grpSpPr>
          <p:sp>
            <p:nvSpPr>
              <p:cNvPr id="674" name="Oval 261"/>
              <p:cNvSpPr/>
              <p:nvPr/>
            </p:nvSpPr>
            <p:spPr>
              <a:xfrm rot="7267200">
                <a:off x="3384000" y="402192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62"/>
              <p:cNvSpPr/>
              <p:nvPr/>
            </p:nvSpPr>
            <p:spPr>
              <a:xfrm flipH="1">
                <a:off x="3449160" y="418428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263"/>
            <p:cNvGrpSpPr/>
            <p:nvPr/>
          </p:nvGrpSpPr>
          <p:grpSpPr>
            <a:xfrm>
              <a:off x="3206880" y="3867840"/>
              <a:ext cx="210600" cy="270720"/>
              <a:chOff x="3206880" y="3867840"/>
              <a:chExt cx="210600" cy="270720"/>
            </a:xfrm>
          </p:grpSpPr>
          <p:sp>
            <p:nvSpPr>
              <p:cNvPr id="677" name="Oval 264"/>
              <p:cNvSpPr/>
              <p:nvPr/>
            </p:nvSpPr>
            <p:spPr>
              <a:xfrm rot="7267200">
                <a:off x="3238200" y="3892680"/>
                <a:ext cx="147600" cy="156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65"/>
              <p:cNvSpPr/>
              <p:nvPr/>
            </p:nvSpPr>
            <p:spPr>
              <a:xfrm flipH="1">
                <a:off x="3303360" y="4055040"/>
                <a:ext cx="4680" cy="8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266"/>
            <p:cNvGrpSpPr/>
            <p:nvPr/>
          </p:nvGrpSpPr>
          <p:grpSpPr>
            <a:xfrm>
              <a:off x="3133800" y="3737520"/>
              <a:ext cx="210240" cy="270720"/>
              <a:chOff x="3133800" y="3737520"/>
              <a:chExt cx="210240" cy="270720"/>
            </a:xfrm>
          </p:grpSpPr>
          <p:sp>
            <p:nvSpPr>
              <p:cNvPr id="680" name="Oval 267"/>
              <p:cNvSpPr/>
              <p:nvPr/>
            </p:nvSpPr>
            <p:spPr>
              <a:xfrm rot="7267200">
                <a:off x="3164760" y="376272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68"/>
              <p:cNvSpPr/>
              <p:nvPr/>
            </p:nvSpPr>
            <p:spPr>
              <a:xfrm flipH="1">
                <a:off x="3229920" y="392508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269"/>
            <p:cNvGrpSpPr/>
            <p:nvPr/>
          </p:nvGrpSpPr>
          <p:grpSpPr>
            <a:xfrm>
              <a:off x="3571920" y="3996720"/>
              <a:ext cx="210240" cy="270720"/>
              <a:chOff x="3571920" y="3996720"/>
              <a:chExt cx="210240" cy="270720"/>
            </a:xfrm>
          </p:grpSpPr>
          <p:sp>
            <p:nvSpPr>
              <p:cNvPr id="683" name="Oval 270"/>
              <p:cNvSpPr/>
              <p:nvPr/>
            </p:nvSpPr>
            <p:spPr>
              <a:xfrm rot="7267200">
                <a:off x="3602880" y="402192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271"/>
              <p:cNvSpPr/>
              <p:nvPr/>
            </p:nvSpPr>
            <p:spPr>
              <a:xfrm flipH="1">
                <a:off x="3668040" y="418428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272"/>
            <p:cNvGrpSpPr/>
            <p:nvPr/>
          </p:nvGrpSpPr>
          <p:grpSpPr>
            <a:xfrm>
              <a:off x="3266280" y="3379320"/>
              <a:ext cx="1135440" cy="959040"/>
              <a:chOff x="3266280" y="3379320"/>
              <a:chExt cx="1135440" cy="959040"/>
            </a:xfrm>
          </p:grpSpPr>
          <p:sp>
            <p:nvSpPr>
              <p:cNvPr id="686" name="Freeform 273"/>
              <p:cNvSpPr/>
              <p:nvPr/>
            </p:nvSpPr>
            <p:spPr>
              <a:xfrm flipV="1" rot="673800">
                <a:off x="3853800" y="3715920"/>
                <a:ext cx="487080" cy="256680"/>
              </a:xfrm>
              <a:prstGeom prst="pi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2109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74"/>
              <p:cNvSpPr/>
              <p:nvPr/>
            </p:nvSpPr>
            <p:spPr>
              <a:xfrm flipV="1" rot="4688400">
                <a:off x="3624480" y="3886200"/>
                <a:ext cx="384840" cy="324000"/>
              </a:xfrm>
              <a:prstGeom prst="pi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351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75"/>
              <p:cNvSpPr/>
              <p:nvPr/>
            </p:nvSpPr>
            <p:spPr>
              <a:xfrm flipH="1" rot="20077800">
                <a:off x="3497760" y="3588120"/>
                <a:ext cx="746640" cy="61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276"/>
              <p:cNvGrpSpPr/>
              <p:nvPr/>
            </p:nvGrpSpPr>
            <p:grpSpPr>
              <a:xfrm>
                <a:off x="3811680" y="3727080"/>
                <a:ext cx="219960" cy="147960"/>
                <a:chOff x="3811680" y="3727080"/>
                <a:chExt cx="219960" cy="147960"/>
              </a:xfrm>
            </p:grpSpPr>
            <p:sp>
              <p:nvSpPr>
                <p:cNvPr id="690" name="Oval 277"/>
                <p:cNvSpPr/>
                <p:nvPr/>
              </p:nvSpPr>
              <p:spPr>
                <a:xfrm flipH="1" rot="20077800">
                  <a:off x="3885840" y="3749760"/>
                  <a:ext cx="129960" cy="10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Line 278"/>
                <p:cNvSpPr/>
                <p:nvPr/>
              </p:nvSpPr>
              <p:spPr>
                <a:xfrm flipH="1">
                  <a:off x="3811680" y="3805560"/>
                  <a:ext cx="69480" cy="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279"/>
              <p:cNvGrpSpPr/>
              <p:nvPr/>
            </p:nvGrpSpPr>
            <p:grpSpPr>
              <a:xfrm>
                <a:off x="3709800" y="3552480"/>
                <a:ext cx="232920" cy="189720"/>
                <a:chOff x="3709800" y="3552480"/>
                <a:chExt cx="232920" cy="189720"/>
              </a:xfrm>
            </p:grpSpPr>
            <p:sp>
              <p:nvSpPr>
                <p:cNvPr id="693" name="Oval 280"/>
                <p:cNvSpPr/>
                <p:nvPr/>
              </p:nvSpPr>
              <p:spPr>
                <a:xfrm flipH="1" rot="18563400">
                  <a:off x="3776760" y="3585960"/>
                  <a:ext cx="144720" cy="1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281"/>
                <p:cNvSpPr/>
                <p:nvPr/>
              </p:nvSpPr>
              <p:spPr>
                <a:xfrm flipH="1">
                  <a:off x="3709800" y="3683520"/>
                  <a:ext cx="69480" cy="3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282"/>
              <p:cNvGrpSpPr/>
              <p:nvPr/>
            </p:nvGrpSpPr>
            <p:grpSpPr>
              <a:xfrm>
                <a:off x="4189320" y="3938040"/>
                <a:ext cx="149760" cy="112680"/>
                <a:chOff x="4189320" y="3938040"/>
                <a:chExt cx="149760" cy="112680"/>
              </a:xfrm>
            </p:grpSpPr>
            <p:sp>
              <p:nvSpPr>
                <p:cNvPr id="696" name="Oval 283"/>
                <p:cNvSpPr/>
                <p:nvPr/>
              </p:nvSpPr>
              <p:spPr>
                <a:xfrm flipH="1" rot="19434000">
                  <a:off x="4237920" y="3956040"/>
                  <a:ext cx="86400" cy="7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284"/>
                <p:cNvSpPr/>
                <p:nvPr/>
              </p:nvSpPr>
              <p:spPr>
                <a:xfrm flipH="1">
                  <a:off x="4189320" y="4004280"/>
                  <a:ext cx="46080" cy="1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285"/>
              <p:cNvGrpSpPr/>
              <p:nvPr/>
            </p:nvGrpSpPr>
            <p:grpSpPr>
              <a:xfrm>
                <a:off x="4251600" y="4000680"/>
                <a:ext cx="150120" cy="106200"/>
                <a:chOff x="4251600" y="4000680"/>
                <a:chExt cx="150120" cy="106200"/>
              </a:xfrm>
            </p:grpSpPr>
            <p:sp>
              <p:nvSpPr>
                <p:cNvPr id="699" name="Oval 286"/>
                <p:cNvSpPr/>
                <p:nvPr/>
              </p:nvSpPr>
              <p:spPr>
                <a:xfrm flipH="1" rot="20077800">
                  <a:off x="4302720" y="4015440"/>
                  <a:ext cx="864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287"/>
                <p:cNvSpPr/>
                <p:nvPr/>
              </p:nvSpPr>
              <p:spPr>
                <a:xfrm flipH="1">
                  <a:off x="4251600" y="4054680"/>
                  <a:ext cx="471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288"/>
              <p:cNvGrpSpPr/>
              <p:nvPr/>
            </p:nvGrpSpPr>
            <p:grpSpPr>
              <a:xfrm>
                <a:off x="3749760" y="3898080"/>
                <a:ext cx="175680" cy="176040"/>
                <a:chOff x="3749760" y="3898080"/>
                <a:chExt cx="175680" cy="176040"/>
              </a:xfrm>
            </p:grpSpPr>
            <p:sp>
              <p:nvSpPr>
                <p:cNvPr id="702" name="Oval 289"/>
                <p:cNvSpPr/>
                <p:nvPr/>
              </p:nvSpPr>
              <p:spPr>
                <a:xfrm rot="20077800">
                  <a:off x="3765240" y="3948840"/>
                  <a:ext cx="129960" cy="1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290"/>
                <p:cNvSpPr/>
                <p:nvPr/>
              </p:nvSpPr>
              <p:spPr>
                <a:xfrm flipV="1">
                  <a:off x="3877920" y="3898080"/>
                  <a:ext cx="4752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291"/>
              <p:cNvGrpSpPr/>
              <p:nvPr/>
            </p:nvGrpSpPr>
            <p:grpSpPr>
              <a:xfrm>
                <a:off x="3922200" y="3958560"/>
                <a:ext cx="175680" cy="176040"/>
                <a:chOff x="3922200" y="3958560"/>
                <a:chExt cx="175680" cy="176040"/>
              </a:xfrm>
            </p:grpSpPr>
            <p:sp>
              <p:nvSpPr>
                <p:cNvPr id="705" name="Oval 292"/>
                <p:cNvSpPr/>
                <p:nvPr/>
              </p:nvSpPr>
              <p:spPr>
                <a:xfrm rot="20077800">
                  <a:off x="3937680" y="4009320"/>
                  <a:ext cx="129960" cy="10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293"/>
                <p:cNvSpPr/>
                <p:nvPr/>
              </p:nvSpPr>
              <p:spPr>
                <a:xfrm flipV="1">
                  <a:off x="4050360" y="3958560"/>
                  <a:ext cx="4752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294"/>
              <p:cNvGrpSpPr/>
              <p:nvPr/>
            </p:nvGrpSpPr>
            <p:grpSpPr>
              <a:xfrm>
                <a:off x="4070160" y="3989520"/>
                <a:ext cx="111600" cy="125280"/>
                <a:chOff x="4070160" y="3989520"/>
                <a:chExt cx="111600" cy="125280"/>
              </a:xfrm>
            </p:grpSpPr>
            <p:sp>
              <p:nvSpPr>
                <p:cNvPr id="708" name="Oval 295"/>
                <p:cNvSpPr/>
                <p:nvPr/>
              </p:nvSpPr>
              <p:spPr>
                <a:xfrm rot="17125800">
                  <a:off x="4091400" y="4020120"/>
                  <a:ext cx="68760" cy="9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296"/>
                <p:cNvSpPr/>
                <p:nvPr/>
              </p:nvSpPr>
              <p:spPr>
                <a:xfrm flipH="1" flipV="1">
                  <a:off x="4097160" y="3989520"/>
                  <a:ext cx="14040" cy="3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297"/>
              <p:cNvGrpSpPr/>
              <p:nvPr/>
            </p:nvGrpSpPr>
            <p:grpSpPr>
              <a:xfrm>
                <a:off x="4237200" y="4050360"/>
                <a:ext cx="115920" cy="121320"/>
                <a:chOff x="4237200" y="4050360"/>
                <a:chExt cx="115920" cy="121320"/>
              </a:xfrm>
            </p:grpSpPr>
            <p:sp>
              <p:nvSpPr>
                <p:cNvPr id="711" name="Oval 298"/>
                <p:cNvSpPr/>
                <p:nvPr/>
              </p:nvSpPr>
              <p:spPr>
                <a:xfrm rot="15984600">
                  <a:off x="4255920" y="4073400"/>
                  <a:ext cx="81000" cy="10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299"/>
                <p:cNvSpPr/>
                <p:nvPr/>
              </p:nvSpPr>
              <p:spPr>
                <a:xfrm flipH="1" flipV="1">
                  <a:off x="4237200" y="4050360"/>
                  <a:ext cx="2952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300"/>
              <p:cNvGrpSpPr/>
              <p:nvPr/>
            </p:nvGrpSpPr>
            <p:grpSpPr>
              <a:xfrm>
                <a:off x="4058280" y="3855240"/>
                <a:ext cx="218160" cy="159480"/>
                <a:chOff x="4058280" y="3855240"/>
                <a:chExt cx="218160" cy="159480"/>
              </a:xfrm>
            </p:grpSpPr>
            <p:sp>
              <p:nvSpPr>
                <p:cNvPr id="714" name="Oval 301"/>
                <p:cNvSpPr/>
                <p:nvPr/>
              </p:nvSpPr>
              <p:spPr>
                <a:xfrm flipH="1" rot="19434000">
                  <a:off x="4128480" y="3883320"/>
                  <a:ext cx="129960" cy="10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02"/>
                <p:cNvSpPr/>
                <p:nvPr/>
              </p:nvSpPr>
              <p:spPr>
                <a:xfrm flipH="1">
                  <a:off x="4058280" y="3952440"/>
                  <a:ext cx="67320" cy="1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Group 303"/>
              <p:cNvGrpSpPr/>
              <p:nvPr/>
            </p:nvGrpSpPr>
            <p:grpSpPr>
              <a:xfrm>
                <a:off x="4145400" y="4037400"/>
                <a:ext cx="111600" cy="151560"/>
                <a:chOff x="4145400" y="4037400"/>
                <a:chExt cx="111600" cy="151560"/>
              </a:xfrm>
            </p:grpSpPr>
            <p:sp>
              <p:nvSpPr>
                <p:cNvPr id="717" name="Oval 304"/>
                <p:cNvSpPr/>
                <p:nvPr/>
              </p:nvSpPr>
              <p:spPr>
                <a:xfrm rot="18213600">
                  <a:off x="4157640" y="4093200"/>
                  <a:ext cx="8712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05"/>
                <p:cNvSpPr/>
                <p:nvPr/>
              </p:nvSpPr>
              <p:spPr>
                <a:xfrm flipV="1">
                  <a:off x="4209480" y="4037400"/>
                  <a:ext cx="828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306"/>
              <p:cNvGrpSpPr/>
              <p:nvPr/>
            </p:nvGrpSpPr>
            <p:grpSpPr>
              <a:xfrm>
                <a:off x="3555000" y="3763800"/>
                <a:ext cx="234720" cy="227880"/>
                <a:chOff x="3555000" y="3763800"/>
                <a:chExt cx="234720" cy="227880"/>
              </a:xfrm>
            </p:grpSpPr>
            <p:sp>
              <p:nvSpPr>
                <p:cNvPr id="720" name="Oval 307"/>
                <p:cNvSpPr/>
                <p:nvPr/>
              </p:nvSpPr>
              <p:spPr>
                <a:xfrm rot="20077800">
                  <a:off x="3574080" y="3831840"/>
                  <a:ext cx="17316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08"/>
                <p:cNvSpPr/>
                <p:nvPr/>
              </p:nvSpPr>
              <p:spPr>
                <a:xfrm flipV="1">
                  <a:off x="3725280" y="3763800"/>
                  <a:ext cx="64440" cy="65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Freeform 309"/>
              <p:cNvSpPr/>
              <p:nvPr/>
            </p:nvSpPr>
            <p:spPr>
              <a:xfrm flipH="1" rot="9277800">
                <a:off x="3414240" y="3471120"/>
                <a:ext cx="487440" cy="256320"/>
              </a:xfrm>
              <a:prstGeom prst="pi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003300"/>
                  </a:gs>
                  <a:gs pos="100000">
                    <a:srgbClr val="00ff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Group 310"/>
              <p:cNvGrpSpPr/>
              <p:nvPr/>
            </p:nvGrpSpPr>
            <p:grpSpPr>
              <a:xfrm>
                <a:off x="3266280" y="3745080"/>
                <a:ext cx="264240" cy="330120"/>
                <a:chOff x="3266280" y="3745080"/>
                <a:chExt cx="264240" cy="330120"/>
              </a:xfrm>
            </p:grpSpPr>
            <p:sp>
              <p:nvSpPr>
                <p:cNvPr id="724" name="Oval 311"/>
                <p:cNvSpPr/>
                <p:nvPr/>
              </p:nvSpPr>
              <p:spPr>
                <a:xfrm rot="19083600">
                  <a:off x="3295440" y="3861000"/>
                  <a:ext cx="205560" cy="1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0066"/>
                    </a:gs>
                    <a:gs pos="100000">
                      <a:srgbClr val="66666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12"/>
                <p:cNvSpPr/>
                <p:nvPr/>
              </p:nvSpPr>
              <p:spPr>
                <a:xfrm flipV="1">
                  <a:off x="3447360" y="3745080"/>
                  <a:ext cx="4824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6" name="Group 313"/>
            <p:cNvGrpSpPr/>
            <p:nvPr/>
          </p:nvGrpSpPr>
          <p:grpSpPr>
            <a:xfrm>
              <a:off x="3426120" y="3867840"/>
              <a:ext cx="210600" cy="270720"/>
              <a:chOff x="3426120" y="3867840"/>
              <a:chExt cx="210600" cy="270720"/>
            </a:xfrm>
          </p:grpSpPr>
          <p:sp>
            <p:nvSpPr>
              <p:cNvPr id="727" name="Oval 314"/>
              <p:cNvSpPr/>
              <p:nvPr/>
            </p:nvSpPr>
            <p:spPr>
              <a:xfrm rot="7267200">
                <a:off x="3457440" y="3892680"/>
                <a:ext cx="147600" cy="156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15"/>
              <p:cNvSpPr/>
              <p:nvPr/>
            </p:nvSpPr>
            <p:spPr>
              <a:xfrm flipH="1">
                <a:off x="3522600" y="4055040"/>
                <a:ext cx="4680" cy="8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316"/>
            <p:cNvGrpSpPr/>
            <p:nvPr/>
          </p:nvGrpSpPr>
          <p:grpSpPr>
            <a:xfrm>
              <a:off x="3426120" y="3737880"/>
              <a:ext cx="210600" cy="270720"/>
              <a:chOff x="3426120" y="3737880"/>
              <a:chExt cx="210600" cy="270720"/>
            </a:xfrm>
          </p:grpSpPr>
          <p:sp>
            <p:nvSpPr>
              <p:cNvPr id="730" name="Oval 317"/>
              <p:cNvSpPr/>
              <p:nvPr/>
            </p:nvSpPr>
            <p:spPr>
              <a:xfrm rot="7267200">
                <a:off x="3457440" y="3762720"/>
                <a:ext cx="147600" cy="156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18"/>
              <p:cNvSpPr/>
              <p:nvPr/>
            </p:nvSpPr>
            <p:spPr>
              <a:xfrm flipH="1">
                <a:off x="3522600" y="3925080"/>
                <a:ext cx="4680" cy="8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319"/>
            <p:cNvGrpSpPr/>
            <p:nvPr/>
          </p:nvGrpSpPr>
          <p:grpSpPr>
            <a:xfrm>
              <a:off x="3279960" y="3672720"/>
              <a:ext cx="210240" cy="270720"/>
              <a:chOff x="3279960" y="3672720"/>
              <a:chExt cx="210240" cy="270720"/>
            </a:xfrm>
          </p:grpSpPr>
          <p:sp>
            <p:nvSpPr>
              <p:cNvPr id="733" name="Oval 320"/>
              <p:cNvSpPr/>
              <p:nvPr/>
            </p:nvSpPr>
            <p:spPr>
              <a:xfrm rot="7267200">
                <a:off x="3310920" y="369792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321"/>
              <p:cNvSpPr/>
              <p:nvPr/>
            </p:nvSpPr>
            <p:spPr>
              <a:xfrm flipH="1">
                <a:off x="3376080" y="386028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322"/>
            <p:cNvGrpSpPr/>
            <p:nvPr/>
          </p:nvGrpSpPr>
          <p:grpSpPr>
            <a:xfrm>
              <a:off x="3645360" y="3673080"/>
              <a:ext cx="210600" cy="270720"/>
              <a:chOff x="3645360" y="3673080"/>
              <a:chExt cx="210600" cy="270720"/>
            </a:xfrm>
          </p:grpSpPr>
          <p:sp>
            <p:nvSpPr>
              <p:cNvPr id="736" name="Oval 323"/>
              <p:cNvSpPr/>
              <p:nvPr/>
            </p:nvSpPr>
            <p:spPr>
              <a:xfrm rot="7267200">
                <a:off x="3676680" y="3697920"/>
                <a:ext cx="147600" cy="1569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24"/>
              <p:cNvSpPr/>
              <p:nvPr/>
            </p:nvSpPr>
            <p:spPr>
              <a:xfrm flipH="1">
                <a:off x="3741840" y="3860280"/>
                <a:ext cx="4680" cy="8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325"/>
            <p:cNvGrpSpPr/>
            <p:nvPr/>
          </p:nvGrpSpPr>
          <p:grpSpPr>
            <a:xfrm>
              <a:off x="3937320" y="3867480"/>
              <a:ext cx="210240" cy="270720"/>
              <a:chOff x="3937320" y="3867480"/>
              <a:chExt cx="210240" cy="270720"/>
            </a:xfrm>
          </p:grpSpPr>
          <p:sp>
            <p:nvSpPr>
              <p:cNvPr id="739" name="Oval 326"/>
              <p:cNvSpPr/>
              <p:nvPr/>
            </p:nvSpPr>
            <p:spPr>
              <a:xfrm rot="7267200">
                <a:off x="3968280" y="389268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27"/>
              <p:cNvSpPr/>
              <p:nvPr/>
            </p:nvSpPr>
            <p:spPr>
              <a:xfrm flipH="1">
                <a:off x="4033440" y="405504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328"/>
            <p:cNvGrpSpPr/>
            <p:nvPr/>
          </p:nvGrpSpPr>
          <p:grpSpPr>
            <a:xfrm>
              <a:off x="3060720" y="3867480"/>
              <a:ext cx="210240" cy="270720"/>
              <a:chOff x="3060720" y="3867480"/>
              <a:chExt cx="210240" cy="270720"/>
            </a:xfrm>
          </p:grpSpPr>
          <p:sp>
            <p:nvSpPr>
              <p:cNvPr id="742" name="Oval 329"/>
              <p:cNvSpPr/>
              <p:nvPr/>
            </p:nvSpPr>
            <p:spPr>
              <a:xfrm rot="7267200">
                <a:off x="3091680" y="3892680"/>
                <a:ext cx="147600" cy="15660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330"/>
              <p:cNvSpPr/>
              <p:nvPr/>
            </p:nvSpPr>
            <p:spPr>
              <a:xfrm flipH="1">
                <a:off x="3156840" y="4055040"/>
                <a:ext cx="468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331"/>
            <p:cNvGrpSpPr/>
            <p:nvPr/>
          </p:nvGrpSpPr>
          <p:grpSpPr>
            <a:xfrm>
              <a:off x="3505320" y="4001040"/>
              <a:ext cx="144360" cy="175320"/>
              <a:chOff x="3505320" y="4001040"/>
              <a:chExt cx="144360" cy="175320"/>
            </a:xfrm>
          </p:grpSpPr>
          <p:sp>
            <p:nvSpPr>
              <p:cNvPr id="745" name="Oval 332"/>
              <p:cNvSpPr/>
              <p:nvPr/>
            </p:nvSpPr>
            <p:spPr>
              <a:xfrm rot="7267200">
                <a:off x="3531960" y="4012200"/>
                <a:ext cx="90720" cy="1137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6666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333"/>
              <p:cNvSpPr/>
              <p:nvPr/>
            </p:nvSpPr>
            <p:spPr>
              <a:xfrm>
                <a:off x="3578760" y="4122720"/>
                <a:ext cx="720" cy="5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Box 413"/>
          <p:cNvSpPr/>
          <p:nvPr/>
        </p:nvSpPr>
        <p:spPr>
          <a:xfrm>
            <a:off x="428760" y="53578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Arial"/>
              </a:rPr>
              <a:t>Уравновесь математические в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Рисунок 414" descr="весы с дыней.jpg"/>
          <p:cNvPicPr/>
          <p:nvPr/>
        </p:nvPicPr>
        <p:blipFill>
          <a:blip r:embed="rId31"/>
          <a:stretch/>
        </p:blipFill>
        <p:spPr>
          <a:xfrm>
            <a:off x="4286160" y="5286240"/>
            <a:ext cx="4071960" cy="12859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415"/>
          <p:cNvSpPr/>
          <p:nvPr/>
        </p:nvSpPr>
        <p:spPr>
          <a:xfrm>
            <a:off x="6143760" y="5143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7-конечная звезда 416"/>
          <p:cNvSpPr/>
          <p:nvPr/>
        </p:nvSpPr>
        <p:spPr>
          <a:xfrm>
            <a:off x="4071960" y="5214960"/>
            <a:ext cx="500040" cy="428760"/>
          </a:xfrm>
          <a:prstGeom prst="pi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49e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7-конечная звезда 417"/>
          <p:cNvSpPr/>
          <p:nvPr/>
        </p:nvSpPr>
        <p:spPr>
          <a:xfrm>
            <a:off x="8072280" y="5214960"/>
            <a:ext cx="500400" cy="428760"/>
          </a:xfrm>
          <a:prstGeom prst="pi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7-конечная звезда 418"/>
          <p:cNvSpPr/>
          <p:nvPr/>
        </p:nvSpPr>
        <p:spPr>
          <a:xfrm>
            <a:off x="7500960" y="5214960"/>
            <a:ext cx="500040" cy="428760"/>
          </a:xfrm>
          <a:prstGeom prst="pi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49e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7-конечная звезда 419"/>
          <p:cNvSpPr/>
          <p:nvPr/>
        </p:nvSpPr>
        <p:spPr>
          <a:xfrm>
            <a:off x="6929280" y="5214960"/>
            <a:ext cx="500400" cy="428760"/>
          </a:xfrm>
          <a:prstGeom prst="pi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7-конечная звезда 420"/>
          <p:cNvSpPr/>
          <p:nvPr/>
        </p:nvSpPr>
        <p:spPr>
          <a:xfrm>
            <a:off x="4643280" y="5214960"/>
            <a:ext cx="500400" cy="428760"/>
          </a:xfrm>
          <a:prstGeom prst="pi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49e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7-конечная звезда 421"/>
          <p:cNvSpPr/>
          <p:nvPr/>
        </p:nvSpPr>
        <p:spPr>
          <a:xfrm>
            <a:off x="5214960" y="5214960"/>
            <a:ext cx="500040" cy="428760"/>
          </a:xfrm>
          <a:prstGeom prst="pie">
            <a:avLst/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49e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15:43:13Z</dcterms:created>
  <dc:creator>Admin</dc:creator>
  <dc:description/>
  <dc:language>en-US</dc:language>
  <cp:lastModifiedBy>metodist</cp:lastModifiedBy>
  <dcterms:modified xsi:type="dcterms:W3CDTF">2010-04-09T12:33:59Z</dcterms:modified>
  <cp:revision>65</cp:revision>
  <dc:subject/>
  <dc:title>Требования программы:</dc:title>
</cp:coreProperties>
</file>