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wind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8C57-564A-49A1-B015-366CF6D37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8CBA-5357-49C6-BBD2-4A7D823B65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9335-30D2-4FB3-8498-0268824689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6505-3A25-41C3-AD2C-55C2041244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B26-FDB3-45FC-B67C-4E2228D32B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2B4-65FA-487D-926D-E7875509D6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485A-30C7-4101-B085-1CD1EA84E9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0BAC-AAE8-4D76-9EC1-1F79E0039C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2284-0B4A-4724-AAAB-BBFF046EFA1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DEF2-114E-4F4E-A6B4-58DB9690FC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3CEC-A85A-451E-9CD0-CC2DC81B57C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EFB9-9FF2-41F2-829E-E99345BCEE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A61-B3EC-4187-85EF-60F362583C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E503-C1F7-41EE-BBE0-232F1C661B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314-579F-46CF-A55E-ACE2155DEB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C3D9-CD00-4A16-98B0-F56163C9F7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AC19-AF92-46A9-8A16-7320528BFE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807-A4C3-4D44-AF8E-C26AC14FB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133-D96F-4B5A-A8A1-E5BE6E59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EC16F-2C1B-4B19-8D96-22EA74C9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1E914-115E-4509-80BC-CB551AAA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F600A-7F89-4769-B808-53F817C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E3E6C-ABC7-48FA-AED1-E0A4D5C9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641C-BB63-43D2-B5DA-4095793F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3126-70C4-4B1F-A91A-4A8EBA1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E4654-3F38-4F29-BAAC-495B0376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48371-0E7E-489C-B89F-836C6449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19C4CC-9D9A-42F1-A477-C45A13E6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3AC94-E403-4A14-9A5D-FDCBEA4E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887-FECC-45CD-B6AB-4BDD17BF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08BC8-6A43-427F-A4B9-A2F52A51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BD0AB-BAFA-45F0-ADE4-ACD0FFD4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11CD0-9FD1-43AD-987A-38DF64FA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0A434-2FA1-416B-B3B6-AA6BBE00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3192E-8F27-4D07-9DD5-080CE28F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19ADA-3D30-4BFA-AFD3-6922AE1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FBA31-A3F5-4446-BCE1-7C305C14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44E68-001B-4339-A108-1E4C798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2DA7-8A20-47CA-A7DF-0D25163D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63BAE-3B20-47E2-8EF2-FC977D3E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2CA3-8C5E-49AF-89B3-8A80812A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25E1C-D65A-4935-B64F-5F98726B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EA84B-4902-4752-BD72-34D6598E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F564A-C222-476E-9A74-D794983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44AC5-1366-4F74-8883-4E19A93A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6FC9E-76CB-4773-9E29-A022A5D9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289E-7F29-499F-AFFF-8A978CE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5F14C-14B8-4C01-90F1-9FA8609B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E9080-A90B-4E9D-ABB7-333FA24D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6EB60-4925-4EBA-A611-7D2B0D39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78341-7AA3-40F8-A0D3-52DE8FB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314D-F255-4CA1-A323-96B0B329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008BC-BD6E-45B9-B4E9-8EBB8E6B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58794-50B1-44E5-8A77-E3826BB76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25E6-5FC4-456D-911D-E758939C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8461C9-0BFB-46AF-A491-723EDC1A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C3815-2026-46FF-9319-1EDCE5A0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9CB2D-9B33-42E0-910A-D2F207F7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9608E2-A6A5-4EC4-93C3-C85C3A74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F194F-550F-4E0C-AB03-89CBDCE3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86807-DD7E-414C-A9A8-04B8D881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275DF-E8CC-404C-B8CB-8E02F48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91CA-DFF6-47DD-9727-A92A528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B7A51-EA37-4182-AB7A-9C97033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04E1F-FA57-4F86-AB26-5E36756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6D240-6517-49FF-9EAB-6BEB69B4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14058-40E2-4D0F-9116-C252290B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DFC3E-D216-451A-85F9-FC031E9B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2C61-F960-4290-B103-0CFC7AAA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C8DD-8AC6-48EB-9325-A17DD8A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DF1-5DD0-4558-B3AE-C3510B09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F0B1-8A58-4316-B93E-F8FBDFC8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4DBC-CECC-4AAE-8027-8F28BA64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AD7-9EED-4041-B39D-CC6DBA21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8669-0180-4D68-B522-C85F1A9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0A28-D77D-443F-861D-4A287AF4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CC89-C86E-4609-AB27-F6A48B5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1927-007A-4A2F-8A38-D8EFF718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2DE1-403E-4076-B7AA-A383316F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D1B9-BA31-437D-B97D-940E341E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9410-A00B-4F03-9C99-4008CA3D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0E6B-FE29-410B-866B-266B6A56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329E-DFE2-4801-8EB0-404BAB47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2148-2B61-433D-8DEC-C24E2FBC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1E3-EE87-458D-934C-0BE01170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7D43-B67A-4958-B68A-9756B07B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057B-CF40-4B69-811D-0B5EFE36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5C6C-10E8-4068-BFA0-C6CB2C7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4BC84-94A0-4982-8319-5F0A935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5AD2-2D7D-4EC8-8EC3-99280BEB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4F05B-359A-4E1A-A12D-D8C18FE8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194A3-34F5-4711-86A1-17AA382A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24603-E9D8-467E-B6E1-3CEE5D62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88F9B-C927-4482-AB7F-7C9703A5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EF36-5924-4897-8DA1-4F20B58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F19-C864-4835-A563-C354F92A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535D-F75A-450E-89B6-9138FE8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A4FF3-0395-4C42-B2E4-48B052E6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D8FB-030A-4157-9493-A36C7C96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221CC-2CCE-439E-8770-0A0B71E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FEEA4-D86C-4734-85DC-C09C4F2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4437-F691-4167-A0E5-AD3DEFD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2EBF-3648-4726-8432-2C053DDE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9E0E1-EC69-457A-9BD5-A113DC4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AD37-4424-4F27-9CE1-94C27E6A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ED5A-1BEB-410D-95A8-D6F09BDA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290F-2B72-4221-8626-AC236FF3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41BED-FBD7-4B14-ABAE-E3BCF0C2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2B814-008A-4723-B385-C2A412B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0BCE2-9148-4885-853B-B8DEFC60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259D5-8C83-4EA5-9021-36988032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C41E-F6C0-4295-A1E1-121A5276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912F-F028-4CA6-B299-3581FA9B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55D4-A039-45D1-867D-4004DA69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C63F2-435D-4ED5-9034-4ED7844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2D499-B060-4A66-BB98-79BC85E3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E1CF-F8D2-4604-B18D-55E1A55D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EBFD-0494-46AA-9E3A-A1AEBF31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CC384-7302-41A7-91F0-EB875516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1B902-6987-4264-982D-42E25949F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57039-08F4-480A-BC1D-1B8AF5C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24A1E-CB44-4F91-9141-3BD1B7A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BDDA2-6AB1-411A-A2DC-CC778F6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E5C80-2FAA-46CC-B59B-CCBB3348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1EC39-0E93-4E3F-836F-C5B9412C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9C985-600C-4474-B62F-3754BBA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08848-6BFB-4CF3-99A7-2692BBF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648B8-96AE-4B89-B8C0-D4D3B163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A93-5101-4DB7-9480-AB43911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3B747-3A0C-49D4-A37E-E05F69F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C392-50FF-4E60-911A-AEB321B8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153A4-127B-4055-8067-5CCCC700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74C53-7B54-4201-97B7-72F66939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5B477-460C-44A5-AEB4-7BDBFC43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0400C-9585-4A26-9C3B-976A7FC7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1C0C3-01A2-4425-96AA-C9F3B1CA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D4E14-3562-4F18-8DC0-7C0BDC07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A7635-85CE-4D8C-8313-9D3EF459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7E26F-BA96-40A4-B753-DF3C9555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E5B-CCF3-4634-885A-CC8BE91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076B-B524-4429-8370-0A403FF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6687-6776-4846-AF63-4E3F883E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9CD01-38BD-45FB-B2EE-38F03519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F0D7-AFF3-472F-A9A0-31588400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4A8F7-99C4-4BFC-9A6B-7501BBEE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812C4-140A-4237-B339-7B474F51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D4FB-695F-4168-ABF9-0AE8BD11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8E29-F9C6-4DE2-B445-E76DFB6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6B035-F0D9-4E92-855B-02C41DA9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5078F-3B05-4BDD-9F8F-6212E72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78D-DE68-4DB3-A7D5-D069517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12BAF-3ECB-4E0C-8BD7-EF984A71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04AE3-29DE-483D-B461-34056060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7CADB-31F7-4AF6-A59A-CCE97DCA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8846F-7C3D-4A9D-A86F-6D721BD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CED35-A387-42E1-8729-D3508BB4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E360-6731-48B9-B91B-62681270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44A77-E20D-42F6-BB5C-B1A89CF2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0FA35-4180-4C9F-A8C4-D2A63313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4F3EF-0AF1-4C50-AC0F-1C73B892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4FD3C-5415-4D06-B6C0-8369AC34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2932-6AA5-4B1C-96DD-80359BFD01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7972-4F61-4CEF-8092-3BB89FFF38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8546-2463-478B-97C6-315BFEFF2FC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6419-2945-4D25-BFD2-D73EBCD002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CCC1-3E21-4A1A-9F0A-4293711AA6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548E-F672-40CB-9B8C-6B45DD9CE5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18FD-47A1-4C30-B59F-CF3713D72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4FA6-6410-4775-ABB6-B1381F2FC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D933-4A2A-497B-964E-3A7D66B7B6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874-E309-4964-801C-301334DC95F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B43-BE20-4B61-A24D-32179F1F66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E302-7E90-4EE2-AD59-5A28576A86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33"/>
                </a:solidFill>
                <a:latin typeface="Arial"/>
              </a:rPr>
              <a:t>Златоустовский педагогический колледж</a:t>
            </a:r>
            <a:endParaRPr b="0" lang="en-US" sz="2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b01c"/>
                </a:solidFill>
                <a:latin typeface="Tahoma"/>
              </a:rPr>
              <a:t>Решение задач с величинами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73907"/>
                </a:solidFill>
                <a:latin typeface="Tahoma"/>
              </a:rPr>
              <a:t>скорость</a:t>
            </a:r>
            <a:r>
              <a:rPr b="0" lang="ru-RU" sz="3200" spc="-1" strike="noStrike">
                <a:solidFill>
                  <a:srgbClr val="23b01c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время</a:t>
            </a:r>
            <a:r>
              <a:rPr b="0" lang="ru-RU" sz="3200" spc="-1" strike="noStrike">
                <a:solidFill>
                  <a:srgbClr val="23b01c"/>
                </a:solidFill>
                <a:latin typeface="Tahoma"/>
              </a:rPr>
              <a:t>,</a:t>
            </a:r>
            <a:r>
              <a:rPr b="0" lang="ru-RU" sz="3200" spc="-1" strike="noStrike">
                <a:solidFill>
                  <a:srgbClr val="d527d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ff99"/>
                </a:solidFill>
                <a:latin typeface="Tahoma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студентка 412«Д» групп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Топычканова Надежда Иван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Проверила:</a:t>
            </a:r>
            <a:r>
              <a:rPr b="0" lang="ru-RU" sz="3200" spc="-1" strike="noStrike">
                <a:solidFill>
                  <a:srgbClr val="23b01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                                </a:t>
            </a:r>
            <a:r>
              <a:rPr b="0" lang="ru-RU" sz="2400" spc="-1" strike="noStrike">
                <a:solidFill>
                  <a:srgbClr val="23b01c"/>
                </a:solidFill>
                <a:latin typeface="Tahoma"/>
              </a:rPr>
              <a:t>Копытова Татьяна Серге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5000">
    <p:push dir="l"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В этом случае следует обсудить, что значит </a:t>
            </a:r>
            <a:r>
              <a:rPr b="0" i="1" lang="ru-RU" sz="4400" spc="-1" strike="noStrike">
                <a:solidFill>
                  <a:srgbClr val="d73907"/>
                </a:solidFill>
                <a:latin typeface="CyrillicOld"/>
              </a:rPr>
              <a:t>быстрее</a:t>
            </a:r>
            <a:r>
              <a:rPr b="0" i="1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и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i="1" lang="ru-RU" sz="4400" spc="-1" strike="noStrike">
                <a:solidFill>
                  <a:srgbClr val="d73907"/>
                </a:solidFill>
                <a:latin typeface="CyrillicOld"/>
              </a:rPr>
              <a:t>медленнее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.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Дети обычно объясняют это так: быстрее, значит, меньше времени; медленнее, значит, больше времен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push dir="l"/>
    <p:sndAc>
      <p:stSnd>
        <p:snd r:embed="rId1" name="wind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2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2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2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263515"/>
                </a:solidFill>
                <a:latin typeface="CyrillicOld"/>
              </a:rPr>
              <a:t>Целесообразно предложить учащимся проблемное задание: «Боря идет до школы 10 минут, а Лена – 15. Подумайте, на какой вопрос вы можете ответить, а на какой нет: - Кто тратит на дорогу времени больше(меньше)?                                  - Кто идет быстрее, а кто медленнее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push dir="l"/>
    <p:sndAc>
      <p:stSnd>
        <p:snd r:embed="rId1" name="wind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2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2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2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3515"/>
                </a:solidFill>
                <a:latin typeface="Tahoma"/>
              </a:rPr>
              <a:t>  </a:t>
            </a:r>
            <a:r>
              <a:rPr b="0" lang="ru-RU" sz="3800" spc="-1" strike="noStrike">
                <a:solidFill>
                  <a:srgbClr val="263515"/>
                </a:solidFill>
                <a:latin typeface="CyrillicOld"/>
              </a:rPr>
              <a:t>В процессе обсуждения выясняется, что ответить можно только на первый вопрос. Для ответа на второй вопрос необходимо знать </a:t>
            </a:r>
            <a:r>
              <a:rPr b="0" i="1" lang="ru-RU" sz="3800" spc="-1" strike="noStrike">
                <a:solidFill>
                  <a:srgbClr val="263515"/>
                </a:solidFill>
                <a:latin typeface="CyrillicOld"/>
              </a:rPr>
              <a:t>расстояние</a:t>
            </a:r>
            <a:r>
              <a:rPr b="0" lang="ru-RU" sz="3800" spc="-1" strike="noStrike">
                <a:solidFill>
                  <a:srgbClr val="263515"/>
                </a:solidFill>
                <a:latin typeface="CyrillicOld"/>
              </a:rPr>
              <a:t>, которое проходят Боря и Лена.                                           Учитель дополняет условие: «Боря проходит расстояние 1 км, а Лена – 1500 м».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push dir="l"/>
    <p:sndAc>
      <p:stSnd>
        <p:snd r:embed="rId1" name="wind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2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2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2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3515"/>
                </a:solidFill>
                <a:latin typeface="Tahoma"/>
              </a:rPr>
              <a:t>  </a:t>
            </a:r>
            <a:r>
              <a:rPr b="0" lang="ru-RU" sz="4200" spc="-1" strike="noStrike">
                <a:solidFill>
                  <a:srgbClr val="263515"/>
                </a:solidFill>
                <a:latin typeface="CyrillicOld"/>
              </a:rPr>
              <a:t>Важно, чтобы дети осознали обобщенную характеристику скорости как расстояния, пройденного за единицу времени, и в процессе решения задач использовали разные единицы скорости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push dir="l"/>
    <p:sndAc>
      <p:stSnd>
        <p:snd r:embed="rId1" name="wind.wav"/>
      </p:stSnd>
    </p:sndAc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2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2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2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3515"/>
                </a:solidFill>
                <a:latin typeface="Tahoma"/>
              </a:rPr>
              <a:t>  </a:t>
            </a: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Так, в данном случае нужно 1 км выразить в метрах и после этого найти скорость Бори: 1000:10=100 (м/мин),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а затем скорость Лены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1500:15=100 (м/мин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Получается, что Боря и Лена идут в школу с одинаковой скорость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2000">
    <p:push dir="l"/>
    <p:sndAc>
      <p:stSnd>
        <p:snd r:embed="rId1" name="wind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2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2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2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40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2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2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2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1900"/>
                            </p:stCondLst>
                            <p:childTnLst>
                              <p:par>
                                <p:cTn id="24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2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2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2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4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2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2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2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2818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3f824"/>
                </a:solidFill>
                <a:latin typeface="CyrillicOld"/>
              </a:rPr>
              <a:t>     </a:t>
            </a:r>
            <a:r>
              <a:rPr b="0" lang="ru-RU" sz="3800" spc="-1" strike="noStrike">
                <a:solidFill>
                  <a:srgbClr val="263515"/>
                </a:solidFill>
                <a:latin typeface="CyrillicOld"/>
              </a:rPr>
              <a:t>С первых уроков изучения данной темы, основной целью которой является формирование у учащихся умения решать задачи с пропорциональными величинами </a:t>
            </a:r>
            <a:r>
              <a:rPr b="1" i="1" lang="ru-RU" sz="3800" spc="-1" strike="noStrike">
                <a:solidFill>
                  <a:srgbClr val="ff1d1d"/>
                </a:solidFill>
                <a:latin typeface="CyrillicOld"/>
              </a:rPr>
              <a:t>скорость</a:t>
            </a:r>
            <a:r>
              <a:rPr b="1" i="1" lang="ru-RU" sz="3800" spc="-1" strike="noStrike">
                <a:solidFill>
                  <a:srgbClr val="f3f824"/>
                </a:solidFill>
                <a:latin typeface="CyrillicOld"/>
              </a:rPr>
              <a:t>, </a:t>
            </a:r>
            <a:r>
              <a:rPr b="1" i="1" lang="ru-RU" sz="3800" spc="-1" strike="noStrike">
                <a:solidFill>
                  <a:srgbClr val="0000ff"/>
                </a:solidFill>
                <a:latin typeface="CyrillicOld"/>
              </a:rPr>
              <a:t>время</a:t>
            </a:r>
            <a:r>
              <a:rPr b="1" i="1" lang="ru-RU" sz="3800" spc="-1" strike="noStrike">
                <a:solidFill>
                  <a:srgbClr val="f3f824"/>
                </a:solidFill>
                <a:latin typeface="CyrillicOld"/>
              </a:rPr>
              <a:t>, </a:t>
            </a:r>
            <a:r>
              <a:rPr b="1" i="1" lang="ru-RU" sz="3800" spc="-1" strike="noStrike">
                <a:solidFill>
                  <a:srgbClr val="00ffcc"/>
                </a:solidFill>
                <a:latin typeface="CyrillicOld"/>
              </a:rPr>
              <a:t>расстояние</a:t>
            </a:r>
            <a:r>
              <a:rPr b="1" i="1" lang="ru-RU" sz="3800" spc="-1" strike="noStrike">
                <a:solidFill>
                  <a:srgbClr val="f3f824"/>
                </a:solidFill>
                <a:latin typeface="CyrillicOld"/>
              </a:rPr>
              <a:t>,</a:t>
            </a:r>
            <a:r>
              <a:rPr b="0" lang="ru-RU" sz="38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3800" spc="-1" strike="noStrike">
                <a:solidFill>
                  <a:srgbClr val="263515"/>
                </a:solidFill>
                <a:latin typeface="CyrillicOld"/>
              </a:rPr>
              <a:t>следует включать задания(задачи), требующие перевода одних единиц скорости в другие. 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0000">
    <p:push dir="l"/>
    <p:sndAc>
      <p:stSnd>
        <p:snd r:embed="rId1" name="wind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6" dur="2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7" dur="2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2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3515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263515"/>
                </a:solidFill>
                <a:latin typeface="Decor"/>
              </a:rPr>
              <a:t>Скорость одного пешехода </a:t>
            </a:r>
            <a:br>
              <a:rPr sz="3600"/>
            </a:br>
            <a:r>
              <a:rPr b="1" lang="ru-RU" sz="3600" spc="-1" strike="noStrike">
                <a:solidFill>
                  <a:srgbClr val="263515"/>
                </a:solidFill>
                <a:latin typeface="Decor"/>
              </a:rPr>
              <a:t>50 м/мин, а другого – 4 км/ч. </a:t>
            </a:r>
            <a:br>
              <a:rPr sz="3600"/>
            </a:br>
            <a:r>
              <a:rPr b="1" lang="ru-RU" sz="3600" spc="-1" strike="noStrike">
                <a:solidFill>
                  <a:srgbClr val="263515"/>
                </a:solidFill>
                <a:latin typeface="Decor"/>
              </a:rPr>
              <a:t>За какое время первый пешеход пройдет 12 км? За какое время это расстояние пройдет второй пешеход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8000">
    <p:push dir="l"/>
    <p:sndAc>
      <p:stSnd>
        <p:snd r:embed="rId1" name="wind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2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2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2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600" spc="-1" strike="noStrike">
                <a:solidFill>
                  <a:srgbClr val="660066"/>
                </a:solidFill>
                <a:latin typeface="Tahoma"/>
              </a:rPr>
              <a:t>Решение задач на движение является традиционной темой для школьного курса математики и, в частности, для курса начальной математики. Значимость ее определяется не только практической целесообразностью в связи с широкой распространенностью  различных видов движения в. </a:t>
            </a:r>
            <a:br>
              <a:rPr sz="2600"/>
            </a:br>
            <a:r>
              <a:rPr b="0" lang="ru-RU" sz="2600" spc="-1" strike="noStrike">
                <a:solidFill>
                  <a:srgbClr val="660066"/>
                </a:solidFill>
                <a:latin typeface="Tahoma"/>
              </a:rPr>
              <a:t>Зависимости между величинами, </a:t>
            </a:r>
            <a:br>
              <a:rPr sz="2600"/>
            </a:br>
            <a:r>
              <a:rPr b="0" lang="ru-RU" sz="2600" spc="-1" strike="noStrike">
                <a:solidFill>
                  <a:srgbClr val="660066"/>
                </a:solidFill>
                <a:latin typeface="Tahoma"/>
              </a:rPr>
              <a:t>характеризующими равномерное движение тел, допускают использование таблиц, наглядную графическую интерпретацию и потому удобны для создания общей рамки, в которую вписываются аналогичные процессы. На этой основе в дальнейшем развивается функциональное мышление детей и проводится систематизация различных видов текстовых задач, что является важнейшим этапом в обучении их решению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5000">
    <p:push dir="l"/>
    <p:sndAc>
      <p:stSnd>
        <p:snd r:embed="rId1" name="wind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66ff66"/>
                </a:solidFill>
                <a:latin typeface="Zanesennyj"/>
              </a:rPr>
              <a:t>Величины</a:t>
            </a:r>
            <a:endParaRPr b="0" lang="en-US" sz="88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73907"/>
                </a:solidFill>
                <a:latin typeface="Book Antiqua"/>
              </a:rPr>
              <a:t>→</a:t>
            </a:r>
            <a:r>
              <a:rPr b="1" i="1" lang="ru-RU" sz="4800" spc="-1" strike="noStrike">
                <a:solidFill>
                  <a:srgbClr val="d73907"/>
                </a:solidFill>
                <a:latin typeface="Arbat"/>
              </a:rPr>
              <a:t>Скорост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a20f8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a20f8"/>
                </a:solidFill>
                <a:latin typeface="GothicRus"/>
              </a:rPr>
              <a:t> </a:t>
            </a:r>
            <a:r>
              <a:rPr b="1" lang="ru-RU" sz="5400" spc="-1" strike="noStrike">
                <a:solidFill>
                  <a:srgbClr val="3a20f8"/>
                </a:solidFill>
                <a:latin typeface="GothicRus"/>
              </a:rPr>
              <a:t>Врем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ff99"/>
                </a:solidFill>
                <a:latin typeface="Book Antiqua"/>
              </a:rPr>
              <a:t>↔</a:t>
            </a:r>
            <a:r>
              <a:rPr b="0" lang="ru-RU" sz="4800" spc="-1" strike="noStrike">
                <a:solidFill>
                  <a:srgbClr val="66ff99"/>
                </a:solidFill>
                <a:latin typeface="Nadejda"/>
              </a:rPr>
              <a:t>Расстоя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push dir="l"/>
    <p:sndAc>
      <p:stSnd>
        <p:snd r:embed="rId1" name="wind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750"/>
                            </p:stCondLst>
                            <p:childTnLst>
                              <p:par>
                                <p:cTn id="73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25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C 0.00538 0.00763 0.00261 0.00255 0.00625 0.01688 C 0.01267 0.0296 0.01493 0.04116 0.02691 0.04648 C 0.03455 0.05665 0.02483 0.04463 0.03646 0.05503 C 0.04774 0.06498 0.05851 0.07492 0.06979 0.08463 C 0.07205 0.08648 0.07413 0.08856 0.07622 0.09087 C 0.07743 0.09226 0.07813 0.09411 0.07934 0.09526 C 0.0974 0.11145 0.07604 0.08902 0.09045 0.10359 C 0.10851 0.12185 0.12656 0.13896 0.14601 0.15445 C 0.15886 0.16463 0.17014 0.17758 0.18247 0.18821 C 0.18976 0.19469 0.19583 0.20208 0.20469 0.20509 C 0.2132 0.21642 0.22153 0.22151 0.23333 0.22405 C 0.23802 0.22636 0.24757 0.23052 0.24757 0.23052 C 0.29636 0.22613 0.3592 0.21642 0.4 0.1755 C 0.40625 0.15885 0.40052 0.13203 0.39514 0.11422 C 0.39392 0.11052 0.39184 0.10729 0.39045 0.10359 C 0.38976 0.10151 0.38941 0.09943 0.38889 0.09735 C 0.39184 0.06937 0.40226 0.05526 0.41267 0.03168 C 0.4132 0.02891 0.41302 0.02567 0.41424 0.02336 C 0.41528 0.02128 0.41892 0.02174 0.4191 0.01919 C 0.42031 0 0.42066 -0.04277 0.40469 -0.05711 C 0.40104 -0.0719 0.39306 -0.0726 0.38576 -0.08231 C 0.38316 -0.08578 0.38125 -0.08878 0.37778 -0.09086 C 0.37274 -0.09387 0.36719 -0.09549 0.36181 -0.09711 C 0.34931 -0.10867 0.33299 -0.10936 0.3191 -0.1163 C 0.29688 -0.11491 0.27465 -0.11445 0.25243 -0.1119 C 0.24219 -0.11075 0.22899 -0.10173 0.2191 -0.09711 C 0.20382 -0.09017 0.18802 -0.08531 0.17292 -0.07815 C 0.15556 -0.06982 0.13889 -0.06011 0.12066 -0.05479 C 0.11215 -0.04924 0.10608 -0.04693 0.09688 -0.04439 C 0.08698 -0.0363 0.07622 -0.03375 0.06511 -0.02959 C 0.05486 -0.01919 0.04254 -0.01872 0.03021 -0.01479 C 0.01979 -0.01133 0.0099 -0.00555 0 0 Z">
                                      <p:cBhvr>
                                        <p:cTn id="91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500"/>
                            </p:stCondLst>
                            <p:childTnLst>
                              <p:par>
                                <p:cTn id="9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0052 0.00138 L 0.25 3.69942E-006 E">
                                      <p:cBhvr>
                                        <p:cTn id="108" dur="20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1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5 -3.58382E-006 L -2.5E-006 -3.58382E-006 E">
                                      <p:cBhvr>
                                        <p:cTn id="111" dur="20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d73907"/>
                </a:solidFill>
                <a:latin typeface="Arbat"/>
              </a:rPr>
              <a:t>Скорость</a:t>
            </a:r>
            <a:endParaRPr b="0" lang="en-US" sz="6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8400" y="1428840"/>
            <a:ext cx="82803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– </a:t>
            </a: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характеристика движения точки (тела), при равномерном движении численно равная отношению пройденного пути  </a:t>
            </a:r>
            <a:r>
              <a:rPr b="0" i="1" lang="en-US" sz="4000" spc="-1" strike="noStrike">
                <a:solidFill>
                  <a:srgbClr val="25381a"/>
                </a:solidFill>
                <a:latin typeface="CyrillicOld"/>
              </a:rPr>
              <a:t>S</a:t>
            </a: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  к промежутку времени  </a:t>
            </a:r>
            <a:r>
              <a:rPr b="1" i="1" lang="ru-RU" sz="4000" spc="-1" strike="noStrike">
                <a:solidFill>
                  <a:srgbClr val="25381a"/>
                </a:solidFill>
                <a:latin typeface="CyrillicOld"/>
              </a:rPr>
              <a:t>t</a:t>
            </a: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, т. 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824"/>
                </a:solidFill>
                <a:latin typeface="CyrillicOld"/>
              </a:rPr>
              <a:t>           </a:t>
            </a:r>
            <a:r>
              <a:rPr b="0" lang="ru-RU" sz="40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1" lang="en-US" sz="4000" spc="-1" strike="noStrike">
                <a:solidFill>
                  <a:srgbClr val="d73907"/>
                </a:solidFill>
                <a:latin typeface="CyrillicOld"/>
              </a:rPr>
              <a:t>V</a:t>
            </a:r>
            <a:r>
              <a:rPr b="0" lang="ru-RU" sz="40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000" spc="-1" strike="noStrike">
                <a:solidFill>
                  <a:srgbClr val="d73907"/>
                </a:solidFill>
                <a:latin typeface="CyrillicOld"/>
              </a:rPr>
              <a:t>=  </a:t>
            </a:r>
            <a:r>
              <a:rPr b="0" i="1" lang="en-US" sz="4000" spc="-1" strike="noStrike">
                <a:solidFill>
                  <a:srgbClr val="d73907"/>
                </a:solidFill>
                <a:latin typeface="CyrillicOld"/>
              </a:rPr>
              <a:t>S</a:t>
            </a:r>
            <a:r>
              <a:rPr b="0" i="1" lang="ru-RU" sz="4000" spc="-1" strike="noStrike">
                <a:solidFill>
                  <a:srgbClr val="d73907"/>
                </a:solidFill>
                <a:latin typeface="CyrillicOld"/>
              </a:rPr>
              <a:t> / t</a:t>
            </a:r>
            <a:r>
              <a:rPr b="0" lang="ru-RU" sz="4000" spc="-1" strike="noStrike">
                <a:solidFill>
                  <a:srgbClr val="d73907"/>
                </a:solidFill>
                <a:latin typeface="CyrillicOl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push dir="l"/>
    <p:sndAc>
      <p:stSnd>
        <p:snd r:embed="rId1" name="wind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2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33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a20f8"/>
                </a:solidFill>
                <a:latin typeface="GothicRus"/>
              </a:rPr>
              <a:t>Время</a:t>
            </a:r>
            <a:endParaRPr b="0" lang="en-US" sz="7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– </a:t>
            </a:r>
            <a:r>
              <a:rPr b="0" lang="ru-RU" sz="4000" spc="-1" strike="noStrike">
                <a:solidFill>
                  <a:srgbClr val="25381a"/>
                </a:solidFill>
                <a:latin typeface="CyrillicOld"/>
              </a:rPr>
              <a:t>это длительность какого-либо события. Например от начала движения до его завершения. Измерение времени основано на наблюдении или осуществлении периодически повторяющихся процессов одинаковой длительност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5000">
    <p:push dir="l"/>
    <p:sndAc>
      <p:stSnd>
        <p:snd r:embed="rId1" name="wind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6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6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2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66ff99"/>
                </a:solidFill>
                <a:latin typeface="Nadejda"/>
              </a:rPr>
              <a:t>Расстояние</a:t>
            </a:r>
            <a:endParaRPr b="0" lang="en-US" sz="66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515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-</a:t>
            </a: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 геометрическое понятие, содержание которого зависит от того, для каких объектов оно определяется. Например, расстояние между двумя точками — длина соединяющего их отрезка прямой. Расстояние от точки до прямой (или плоскости) — длина отрезка перпендикуляра, опущенного на данную прямую (плоскость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35000">
    <p:push dir="l"/>
    <p:sndAc>
      <p:stSnd>
        <p:snd r:embed="rId1" name="wind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4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6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90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2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2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2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Опираясь на опыт ребёнка при разъяснении понятия </a:t>
            </a:r>
            <a:r>
              <a:rPr b="0" i="1" lang="ru-RU" sz="4400" spc="-1" strike="noStrike">
                <a:solidFill>
                  <a:srgbClr val="d73907"/>
                </a:solidFill>
                <a:latin typeface="CyrillicOld"/>
              </a:rPr>
              <a:t>скорость движения,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следует иметь в виду, что употребляя в своей речи слова </a:t>
            </a:r>
            <a:r>
              <a:rPr b="0" lang="ru-RU" sz="4400" spc="-1" strike="noStrike">
                <a:solidFill>
                  <a:srgbClr val="d73907"/>
                </a:solidFill>
                <a:latin typeface="CyrillicOld"/>
              </a:rPr>
              <a:t>«быстрее»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и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d73907"/>
                </a:solidFill>
                <a:latin typeface="CyrillicOld"/>
              </a:rPr>
              <a:t>«медленнее»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,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дети связывают их смысл с такой величиной, как </a:t>
            </a:r>
            <a:r>
              <a:rPr b="0" i="1" lang="ru-RU" sz="4400" spc="-1" strike="noStrike">
                <a:solidFill>
                  <a:srgbClr val="3a20f8"/>
                </a:solidFill>
                <a:latin typeface="CyrillicOld"/>
              </a:rPr>
              <a:t>время</a:t>
            </a:r>
            <a:r>
              <a:rPr b="0" i="1" lang="ru-RU" sz="4400" spc="-1" strike="noStrike">
                <a:solidFill>
                  <a:srgbClr val="f3f824"/>
                </a:solidFill>
                <a:latin typeface="CyrillicOl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push dir="l"/>
    <p:sndAc>
      <p:stSnd>
        <p:snd r:embed="rId1" name="wind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2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539280" y="76464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Поэтому знакомство с понятием </a:t>
            </a:r>
            <a:r>
              <a:rPr b="0" lang="ru-RU" sz="4400" spc="-1" strike="noStrike">
                <a:solidFill>
                  <a:srgbClr val="d73907"/>
                </a:solidFill>
                <a:latin typeface="CyrillicOld"/>
              </a:rPr>
              <a:t>«скорость движения»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можно начать с вопроса: «Как вы понимаете такую фразу: автомобилист едет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d73907"/>
                </a:solidFill>
                <a:latin typeface="CyrillicOld"/>
              </a:rPr>
              <a:t>быстрее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, чем велосипедист; пешеход идет </a:t>
            </a:r>
            <a:r>
              <a:rPr b="0" lang="ru-RU" sz="4400" spc="-1" strike="noStrike">
                <a:solidFill>
                  <a:srgbClr val="d73907"/>
                </a:solidFill>
                <a:latin typeface="CyrillicOld"/>
              </a:rPr>
              <a:t>медленнее</a:t>
            </a:r>
            <a:r>
              <a:rPr b="0" lang="ru-RU" sz="4400" spc="-1" strike="noStrike">
                <a:solidFill>
                  <a:srgbClr val="f3f824"/>
                </a:solidFill>
                <a:latin typeface="CyrillicOld"/>
              </a:rPr>
              <a:t>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чем лыжник?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push dir="l"/>
    <p:sndAc>
      <p:stSnd>
        <p:snd r:embed="rId1" name="wind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2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2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2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79930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3515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   </a:t>
            </a: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Возможно, отвечая на этот вопрос, некоторые дети используют понятие </a:t>
            </a:r>
            <a:r>
              <a:rPr b="0" lang="ru-RU" sz="4000" spc="-1" strike="noStrike">
                <a:solidFill>
                  <a:srgbClr val="d73907"/>
                </a:solidFill>
                <a:latin typeface="CyrillicOld"/>
              </a:rPr>
              <a:t>«скорость»</a:t>
            </a: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, но, разъясняя его смысл, они так или иначе обратятся к словам: быстрее, - медленнее. (У одного скорость больше – он идет быстрее,</a:t>
            </a:r>
            <a:r>
              <a:rPr b="0" lang="ru-RU" sz="4400" spc="-1" strike="noStrike">
                <a:solidFill>
                  <a:srgbClr val="263515"/>
                </a:solidFill>
                <a:latin typeface="CyrillicOld"/>
              </a:rPr>
              <a:t> </a:t>
            </a:r>
            <a:r>
              <a:rPr b="0" lang="ru-RU" sz="4000" spc="-1" strike="noStrike">
                <a:solidFill>
                  <a:srgbClr val="263515"/>
                </a:solidFill>
                <a:latin typeface="CyrillicOld"/>
              </a:rPr>
              <a:t>у другого меньше – он идёт медленнее)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1000">
    <p:push dir="l"/>
    <p:sndAc>
      <p:stSnd>
        <p:snd r:embed="rId1" name="wind.wav"/>
      </p:stSnd>
    </p:sndAc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2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2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8,124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0,-3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2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5:13:30Z</dcterms:created>
  <dc:creator>Striker</dc:creator>
  <dc:description/>
  <dc:language>en-US</dc:language>
  <cp:lastModifiedBy>John Do</cp:lastModifiedBy>
  <dcterms:modified xsi:type="dcterms:W3CDTF">2010-06-17T03:31:47Z</dcterms:modified>
  <cp:revision>42</cp:revision>
  <dc:subject/>
  <dc:title>Знакомство с величинами</dc:title>
</cp:coreProperties>
</file>