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png" ContentType="image/png"/>
  <Override PartName="/ppt/media/image28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2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26.gif" ContentType="image/gif"/>
  <Override PartName="/ppt/media/image29.png" ContentType="image/png"/>
  <Override PartName="/ppt/media/image5.jpeg" ContentType="image/jpeg"/>
  <Override PartName="/ppt/media/image24.wmf" ContentType="image/x-wmf"/>
  <Override PartName="/ppt/media/image22.wmf" ContentType="image/x-wmf"/>
  <Override PartName="/ppt/media/image20.gif" ContentType="image/gif"/>
  <Override PartName="/ppt/media/image18.png" ContentType="image/png"/>
  <Override PartName="/ppt/media/image15.jpeg" ContentType="image/jpeg"/>
  <Override PartName="/ppt/media/image21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23.gif" ContentType="image/gif"/>
  <Override PartName="/ppt/media/image25.png" ContentType="image/png"/>
  <Override PartName="/ppt/media/image4.jpeg" ContentType="image/jpeg"/>
  <Override PartName="/ppt/media/image13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992-944A-4C40-B44A-9461D8F7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259-2D2E-4EF7-AF3A-5CAFF42B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DE4-AC2A-4C19-BAC2-CDB55B7D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62C-96A1-4A23-8350-09969D80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14B1-9A56-4EA9-B728-3617056C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6426-17AD-4135-A5AC-79F805AE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28F2-2CC9-4089-8712-7D697B37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6BBA-6E3E-4FB6-BC9E-B26025F4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AB35-76D5-444B-B374-D9821CC7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ED77-F7A5-4D01-883E-A1446827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BFAD-F46C-46CD-8333-A34D0BF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163-4856-430D-ADED-D85CFE6C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6EA7-CE05-4A57-8B4C-2715B51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F394-99A4-47BC-8D4D-3742AE87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579B-1C5E-441B-9386-57B854B8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1806-3F93-4D30-905A-102BF910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2E21-A3F4-4CBA-A612-20215B32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6A009-81A9-4050-B349-74BA2A47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F0FB-0B21-447D-A936-D8551F2C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F6C2-0973-4840-AC75-0C230861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5FF0B-6E44-4DE6-AD7B-F23E8423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13BB-2AF4-4E12-BB9B-970173F3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0F5-69C8-4D3C-A1FD-610C5E1B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039C-93DD-4455-88E4-24A38A2B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67E5-7460-4AE1-B70E-E27417BB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BE80-FF34-4EAA-A2AD-D9C9278B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EF3FD-EDEB-4788-A3FA-65FC24B2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19CB-FEFC-4BD2-9D18-9B28973B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8E48-A761-4054-8D9D-029E4837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000F-1A3A-43D1-9BDC-F09E3911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746E13-86FB-41B7-BFF1-A50FADAE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CF65D-77C1-496A-BFDA-540A00E0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A0949-BFF8-42E1-AE1F-520E4BE0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E4D-1A1C-49A1-9E89-B84514BB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D535E2-9189-44CC-8784-53F43BC3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917F5-3031-467B-87DE-E3E29CD3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A8E958-C9EF-4E15-B36B-9350ABF9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160AC-3771-4749-8AF7-B71DB682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786EB-E323-4FF0-AB98-800E51D1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0F55A-7D4A-415A-A748-96544805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8EC42-9E7A-4A6A-9E3B-B7860C98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A14349-3706-49C5-9A95-F44C0447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72946-7DA8-444E-A0C5-8A8A57B1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D0B-1C0D-4464-B833-45A18D7B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C04-0EA6-4224-B97E-5707DADC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9C2E-6508-4937-A6F4-DF8E2764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F72-D4A2-4F55-92A7-45D892FD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E85-BD09-412F-AFDF-046C3CD2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b652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b6523e"/>
          </a:solidFill>
          <a:ln w="9360">
            <a:solidFill>
              <a:srgbClr val="b652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b65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A666-D870-4FC0-8144-BDE1E5332F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BCED-385B-4F68-8353-1B1D64A7C3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b6523e"/>
          </a:solidFill>
          <a:ln w="9360">
            <a:solidFill>
              <a:srgbClr val="b652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b652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CE41-D726-462B-AA4C-714481302AA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7ED0-9033-4566-8D53-E7CFC86639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971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ДВИЖЕНИЕ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скорость, время, расстоя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car13"/>
          <p:cNvPicPr/>
          <p:nvPr/>
        </p:nvPicPr>
        <p:blipFill>
          <a:blip r:embed="rId1"/>
          <a:stretch/>
        </p:blipFill>
        <p:spPr>
          <a:xfrm>
            <a:off x="6172200" y="3429000"/>
            <a:ext cx="2216160" cy="2438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5000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3392640" y="4343400"/>
            <a:ext cx="2466720" cy="1008360"/>
          </a:xfrm>
          <a:prstGeom prst="rect">
            <a:avLst/>
          </a:prstGeom>
          <a:solidFill>
            <a:srgbClr val="ff99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t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=S</a:t>
            </a:r>
            <a:r>
              <a:rPr b="1" lang="ru-RU" sz="6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533520" y="1905120"/>
            <a:ext cx="8229600" cy="1218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ы узнать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врем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ужно расстояние разделить на скор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ff"/>
                </a:solidFill>
                <a:uFillTx/>
                <a:latin typeface="Verdana"/>
              </a:rPr>
              <a:t>Основные формулы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8229600" y="57150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3240000" y="4495680"/>
            <a:ext cx="2466720" cy="100836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S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=V·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371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ы узнать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расстояние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ужно скорость умножить на врем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4168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fffff"/>
                </a:solidFill>
                <a:uFillTx/>
                <a:latin typeface="Verdana"/>
              </a:rPr>
              <a:t>Основные формулы и правила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7000">
    <p:push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6"/>
          <p:cNvSpPr txBox="1"/>
          <p:nvPr/>
        </p:nvSpPr>
        <p:spPr>
          <a:xfrm>
            <a:off x="762120" y="2133720"/>
            <a:ext cx="76197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аем задачи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3" name="Picture 7" descr="j0254500"/>
          <p:cNvPicPr/>
          <p:nvPr/>
        </p:nvPicPr>
        <p:blipFill>
          <a:blip r:embed="rId1"/>
          <a:stretch/>
        </p:blipFill>
        <p:spPr>
          <a:xfrm>
            <a:off x="137160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j0282747"/>
          <p:cNvPicPr/>
          <p:nvPr/>
        </p:nvPicPr>
        <p:blipFill>
          <a:blip r:embed="rId2"/>
          <a:stretch/>
        </p:blipFill>
        <p:spPr>
          <a:xfrm>
            <a:off x="617220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Черепаха двигалась со скоростью  5 м/мин. Какое расстояние она прошла она за 3 мин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85800" y="2057400"/>
          <a:ext cx="7881840" cy="1981080"/>
        </p:xfrm>
        <a:graphic>
          <a:graphicData uri="http://schemas.openxmlformats.org/drawingml/2006/table">
            <a:tbl>
              <a:tblPr/>
              <a:tblGrid>
                <a:gridCol w="2627280"/>
                <a:gridCol w="2627280"/>
                <a:gridCol w="262728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46"/>
          <p:cNvSpPr/>
          <p:nvPr/>
        </p:nvSpPr>
        <p:spPr>
          <a:xfrm>
            <a:off x="6934320" y="17524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7"/>
          <p:cNvSpPr/>
          <p:nvPr/>
        </p:nvSpPr>
        <p:spPr>
          <a:xfrm>
            <a:off x="1676520" y="1752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V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8"/>
          <p:cNvSpPr/>
          <p:nvPr/>
        </p:nvSpPr>
        <p:spPr>
          <a:xfrm>
            <a:off x="4267080" y="17524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9" descr="черепаха"/>
          <p:cNvPicPr/>
          <p:nvPr/>
        </p:nvPicPr>
        <p:blipFill>
          <a:blip r:embed="rId1"/>
          <a:stretch/>
        </p:blipFill>
        <p:spPr>
          <a:xfrm flipH="1">
            <a:off x="-360" y="4724280"/>
            <a:ext cx="1676520" cy="11606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0"/>
          <p:cNvSpPr/>
          <p:nvPr/>
        </p:nvSpPr>
        <p:spPr>
          <a:xfrm>
            <a:off x="99072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1"/>
          <p:cNvSpPr/>
          <p:nvPr/>
        </p:nvSpPr>
        <p:spPr>
          <a:xfrm>
            <a:off x="365760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2"/>
          <p:cNvSpPr/>
          <p:nvPr/>
        </p:nvSpPr>
        <p:spPr>
          <a:xfrm>
            <a:off x="7010280" y="28954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3"/>
          <p:cNvSpPr/>
          <p:nvPr/>
        </p:nvSpPr>
        <p:spPr>
          <a:xfrm>
            <a:off x="1752480" y="5410080"/>
            <a:ext cx="5943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4"/>
          <p:cNvSpPr/>
          <p:nvPr/>
        </p:nvSpPr>
        <p:spPr>
          <a:xfrm>
            <a:off x="1752480" y="49528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5"/>
          <p:cNvSpPr/>
          <p:nvPr/>
        </p:nvSpPr>
        <p:spPr>
          <a:xfrm>
            <a:off x="7696080" y="49528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6"/>
          <p:cNvSpPr/>
          <p:nvPr/>
        </p:nvSpPr>
        <p:spPr>
          <a:xfrm>
            <a:off x="175248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7"/>
          <p:cNvSpPr/>
          <p:nvPr/>
        </p:nvSpPr>
        <p:spPr>
          <a:xfrm>
            <a:off x="1676520" y="43434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8"/>
          <p:cNvSpPr/>
          <p:nvPr/>
        </p:nvSpPr>
        <p:spPr>
          <a:xfrm>
            <a:off x="6477120" y="4267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9"/>
          <p:cNvSpPr/>
          <p:nvPr/>
        </p:nvSpPr>
        <p:spPr>
          <a:xfrm rot="19161600">
            <a:off x="7315200" y="4723920"/>
            <a:ext cx="744480" cy="698760"/>
          </a:xfrm>
          <a:custGeom>
            <a:avLst/>
            <a:gdLst>
              <a:gd name="textAreaLeft" fmla="*/ 362520 w 744480"/>
              <a:gd name="textAreaRight" fmla="*/ 381960 w 744480"/>
              <a:gd name="textAreaTop" fmla="*/ 340200 h 698760"/>
              <a:gd name="textAreaBottom" fmla="*/ 3585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19" y="10519"/>
                </a:lnTo>
                <a:lnTo>
                  <a:pt x="10800" y="0"/>
                </a:lnTo>
                <a:lnTo>
                  <a:pt x="11081" y="10519"/>
                </a:lnTo>
                <a:lnTo>
                  <a:pt x="21600" y="10800"/>
                </a:lnTo>
                <a:lnTo>
                  <a:pt x="11081" y="11081"/>
                </a:lnTo>
                <a:lnTo>
                  <a:pt x="10800" y="21600"/>
                </a:lnTo>
                <a:lnTo>
                  <a:pt x="10519" y="11081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0"/>
          <p:cNvSpPr/>
          <p:nvPr/>
        </p:nvSpPr>
        <p:spPr>
          <a:xfrm rot="5400000">
            <a:off x="4533480" y="2628720"/>
            <a:ext cx="381240" cy="5943600"/>
          </a:xfrm>
          <a:custGeom>
            <a:avLst/>
            <a:gdLst>
              <a:gd name="textAreaLeft" fmla="*/ 0 w 381240"/>
              <a:gd name="textAreaRight" fmla="*/ 267480 w 38124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1"/>
          <p:cNvSpPr/>
          <p:nvPr/>
        </p:nvSpPr>
        <p:spPr>
          <a:xfrm>
            <a:off x="4572000" y="5638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push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Решение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3809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Courier New"/>
              </a:rPr>
              <a:t>3=15(м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725400" y="2133720"/>
            <a:ext cx="2466720" cy="100836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S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=V·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459000" y="5334120"/>
            <a:ext cx="841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urier New"/>
              </a:rPr>
              <a:t>Ответ:</a:t>
            </a: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 черепаха прошла 15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черепаха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6910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Черепаха двигалась со скоростью  5 м/мин. Через какое время она пройдет 15 м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85800" y="2057400"/>
          <a:ext cx="7881840" cy="1981080"/>
        </p:xfrm>
        <a:graphic>
          <a:graphicData uri="http://schemas.openxmlformats.org/drawingml/2006/table">
            <a:tbl>
              <a:tblPr/>
              <a:tblGrid>
                <a:gridCol w="2627280"/>
                <a:gridCol w="2627280"/>
                <a:gridCol w="262728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17"/>
          <p:cNvSpPr/>
          <p:nvPr/>
        </p:nvSpPr>
        <p:spPr>
          <a:xfrm>
            <a:off x="6934320" y="17524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8"/>
          <p:cNvSpPr/>
          <p:nvPr/>
        </p:nvSpPr>
        <p:spPr>
          <a:xfrm>
            <a:off x="1676520" y="1752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V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9"/>
          <p:cNvSpPr/>
          <p:nvPr/>
        </p:nvSpPr>
        <p:spPr>
          <a:xfrm>
            <a:off x="4267080" y="17524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0" descr="черепаха"/>
          <p:cNvPicPr/>
          <p:nvPr/>
        </p:nvPicPr>
        <p:blipFill>
          <a:blip r:embed="rId1"/>
          <a:stretch/>
        </p:blipFill>
        <p:spPr>
          <a:xfrm flipH="1">
            <a:off x="-360" y="4724280"/>
            <a:ext cx="1676520" cy="11606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1"/>
          <p:cNvSpPr/>
          <p:nvPr/>
        </p:nvSpPr>
        <p:spPr>
          <a:xfrm>
            <a:off x="99072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2"/>
          <p:cNvSpPr/>
          <p:nvPr/>
        </p:nvSpPr>
        <p:spPr>
          <a:xfrm>
            <a:off x="4343400" y="28195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3"/>
          <p:cNvSpPr/>
          <p:nvPr/>
        </p:nvSpPr>
        <p:spPr>
          <a:xfrm>
            <a:off x="6477120" y="28954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4"/>
          <p:cNvSpPr/>
          <p:nvPr/>
        </p:nvSpPr>
        <p:spPr>
          <a:xfrm>
            <a:off x="1752480" y="5410080"/>
            <a:ext cx="5943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5"/>
          <p:cNvSpPr/>
          <p:nvPr/>
        </p:nvSpPr>
        <p:spPr>
          <a:xfrm>
            <a:off x="1752480" y="49528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6"/>
          <p:cNvSpPr/>
          <p:nvPr/>
        </p:nvSpPr>
        <p:spPr>
          <a:xfrm>
            <a:off x="7696080" y="49528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7"/>
          <p:cNvSpPr/>
          <p:nvPr/>
        </p:nvSpPr>
        <p:spPr>
          <a:xfrm>
            <a:off x="175248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8"/>
          <p:cNvSpPr/>
          <p:nvPr/>
        </p:nvSpPr>
        <p:spPr>
          <a:xfrm>
            <a:off x="1676520" y="43434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9"/>
          <p:cNvSpPr/>
          <p:nvPr/>
        </p:nvSpPr>
        <p:spPr>
          <a:xfrm>
            <a:off x="7391520" y="4267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0"/>
          <p:cNvSpPr/>
          <p:nvPr/>
        </p:nvSpPr>
        <p:spPr>
          <a:xfrm rot="19161600">
            <a:off x="7315200" y="4723920"/>
            <a:ext cx="744480" cy="698760"/>
          </a:xfrm>
          <a:custGeom>
            <a:avLst/>
            <a:gdLst>
              <a:gd name="textAreaLeft" fmla="*/ 362520 w 744480"/>
              <a:gd name="textAreaRight" fmla="*/ 381960 w 744480"/>
              <a:gd name="textAreaTop" fmla="*/ 340200 h 698760"/>
              <a:gd name="textAreaBottom" fmla="*/ 3585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19" y="10519"/>
                </a:lnTo>
                <a:lnTo>
                  <a:pt x="10800" y="0"/>
                </a:lnTo>
                <a:lnTo>
                  <a:pt x="11081" y="10519"/>
                </a:lnTo>
                <a:lnTo>
                  <a:pt x="21600" y="10800"/>
                </a:lnTo>
                <a:lnTo>
                  <a:pt x="11081" y="11081"/>
                </a:lnTo>
                <a:lnTo>
                  <a:pt x="10800" y="21600"/>
                </a:lnTo>
                <a:lnTo>
                  <a:pt x="10519" y="11081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1"/>
          <p:cNvSpPr/>
          <p:nvPr/>
        </p:nvSpPr>
        <p:spPr>
          <a:xfrm rot="5400000">
            <a:off x="4533480" y="2628720"/>
            <a:ext cx="381240" cy="5943600"/>
          </a:xfrm>
          <a:custGeom>
            <a:avLst/>
            <a:gdLst>
              <a:gd name="textAreaLeft" fmla="*/ 0 w 381240"/>
              <a:gd name="textAreaRight" fmla="*/ 267480 w 38124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2"/>
          <p:cNvSpPr/>
          <p:nvPr/>
        </p:nvSpPr>
        <p:spPr>
          <a:xfrm>
            <a:off x="4343400" y="5638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push dir="r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7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Решение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3809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urier New"/>
              </a:rPr>
              <a:t>15:5=3(мин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71720" y="5181480"/>
            <a:ext cx="89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Ответ: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 черепаха прошла 15 м за 3 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" descr="черепаха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691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649440" y="2057400"/>
            <a:ext cx="2466720" cy="1008360"/>
          </a:xfrm>
          <a:prstGeom prst="rect">
            <a:avLst/>
          </a:prstGeom>
          <a:solidFill>
            <a:srgbClr val="ff99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t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=S</a:t>
            </a:r>
            <a:r>
              <a:rPr b="1" lang="ru-RU" sz="6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Черепаха прошла расстояние 15м за 3 мин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С какой скоростью она двигалась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85800" y="2057400"/>
          <a:ext cx="7881840" cy="1981080"/>
        </p:xfrm>
        <a:graphic>
          <a:graphicData uri="http://schemas.openxmlformats.org/drawingml/2006/table">
            <a:tbl>
              <a:tblPr/>
              <a:tblGrid>
                <a:gridCol w="2627280"/>
                <a:gridCol w="2627280"/>
                <a:gridCol w="262728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17"/>
          <p:cNvSpPr/>
          <p:nvPr/>
        </p:nvSpPr>
        <p:spPr>
          <a:xfrm>
            <a:off x="6934320" y="17524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8"/>
          <p:cNvSpPr/>
          <p:nvPr/>
        </p:nvSpPr>
        <p:spPr>
          <a:xfrm>
            <a:off x="1676520" y="1752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V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4267080" y="17524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0" descr="черепаха"/>
          <p:cNvPicPr/>
          <p:nvPr/>
        </p:nvPicPr>
        <p:blipFill>
          <a:blip r:embed="rId1"/>
          <a:stretch/>
        </p:blipFill>
        <p:spPr>
          <a:xfrm flipH="1">
            <a:off x="-360" y="4724280"/>
            <a:ext cx="1676520" cy="116064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1"/>
          <p:cNvSpPr/>
          <p:nvPr/>
        </p:nvSpPr>
        <p:spPr>
          <a:xfrm>
            <a:off x="1752480" y="28195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2"/>
          <p:cNvSpPr/>
          <p:nvPr/>
        </p:nvSpPr>
        <p:spPr>
          <a:xfrm>
            <a:off x="365760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3"/>
          <p:cNvSpPr/>
          <p:nvPr/>
        </p:nvSpPr>
        <p:spPr>
          <a:xfrm>
            <a:off x="6629400" y="28195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1752480" y="5410080"/>
            <a:ext cx="5943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52480" y="49528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>
            <a:off x="7696080" y="49528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7"/>
          <p:cNvSpPr/>
          <p:nvPr/>
        </p:nvSpPr>
        <p:spPr>
          <a:xfrm>
            <a:off x="175248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8"/>
          <p:cNvSpPr/>
          <p:nvPr/>
        </p:nvSpPr>
        <p:spPr>
          <a:xfrm>
            <a:off x="2362320" y="4191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9"/>
          <p:cNvSpPr/>
          <p:nvPr/>
        </p:nvSpPr>
        <p:spPr>
          <a:xfrm>
            <a:off x="6477120" y="4267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0"/>
          <p:cNvSpPr/>
          <p:nvPr/>
        </p:nvSpPr>
        <p:spPr>
          <a:xfrm rot="19161600">
            <a:off x="7315200" y="4723920"/>
            <a:ext cx="744480" cy="698760"/>
          </a:xfrm>
          <a:custGeom>
            <a:avLst/>
            <a:gdLst>
              <a:gd name="textAreaLeft" fmla="*/ 362520 w 744480"/>
              <a:gd name="textAreaRight" fmla="*/ 381960 w 744480"/>
              <a:gd name="textAreaTop" fmla="*/ 340200 h 698760"/>
              <a:gd name="textAreaBottom" fmla="*/ 3585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19" y="10519"/>
                </a:lnTo>
                <a:lnTo>
                  <a:pt x="10800" y="0"/>
                </a:lnTo>
                <a:lnTo>
                  <a:pt x="11081" y="10519"/>
                </a:lnTo>
                <a:lnTo>
                  <a:pt x="21600" y="10800"/>
                </a:lnTo>
                <a:lnTo>
                  <a:pt x="11081" y="11081"/>
                </a:lnTo>
                <a:lnTo>
                  <a:pt x="10800" y="21600"/>
                </a:lnTo>
                <a:lnTo>
                  <a:pt x="10519" y="11081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1"/>
          <p:cNvSpPr/>
          <p:nvPr/>
        </p:nvSpPr>
        <p:spPr>
          <a:xfrm rot="5400000">
            <a:off x="4533480" y="2628720"/>
            <a:ext cx="381240" cy="5943600"/>
          </a:xfrm>
          <a:custGeom>
            <a:avLst/>
            <a:gdLst>
              <a:gd name="textAreaLeft" fmla="*/ 0 w 381240"/>
              <a:gd name="textAreaRight" fmla="*/ 267480 w 38124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2"/>
          <p:cNvSpPr/>
          <p:nvPr/>
        </p:nvSpPr>
        <p:spPr>
          <a:xfrm>
            <a:off x="4343400" y="5638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push dir="r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75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9500"/>
                            </p:stCondLst>
                            <p:childTnLst>
                              <p:par>
                                <p:cTn id="6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Решение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3809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Courier New"/>
              </a:rPr>
              <a:t>3=5(м/мин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439920" y="541008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urier New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 черепаха шла со скоростью 5 м/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6" descr="черепаха"/>
          <p:cNvPicPr/>
          <p:nvPr/>
        </p:nvPicPr>
        <p:blipFill>
          <a:blip r:embed="rId1"/>
          <a:stretch/>
        </p:blipFill>
        <p:spPr>
          <a:xfrm>
            <a:off x="5105520" y="2209680"/>
            <a:ext cx="3809880" cy="26910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7"/>
          <p:cNvSpPr/>
          <p:nvPr/>
        </p:nvSpPr>
        <p:spPr>
          <a:xfrm>
            <a:off x="725400" y="2133720"/>
            <a:ext cx="2466720" cy="100836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V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=S</a:t>
            </a:r>
            <a:r>
              <a:rPr b="1" lang="ru-RU" sz="6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5"/>
          <p:cNvSpPr txBox="1"/>
          <p:nvPr/>
        </p:nvSpPr>
        <p:spPr>
          <a:xfrm>
            <a:off x="838080" y="2666880"/>
            <a:ext cx="7315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d6009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играем: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ccff"/>
                  </a:gs>
                  <a:gs pos="100000">
                    <a:srgbClr val="d60093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3" descr="golub14"/>
          <p:cNvPicPr/>
          <p:nvPr/>
        </p:nvPicPr>
        <p:blipFill>
          <a:blip r:embed="rId1"/>
          <a:stretch/>
        </p:blipFill>
        <p:spPr>
          <a:xfrm>
            <a:off x="0" y="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>
            <a:off x="0" y="3886200"/>
            <a:ext cx="9144000" cy="18288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457200" y="4724280"/>
            <a:ext cx="762120" cy="7632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1600200" y="4724280"/>
            <a:ext cx="762120" cy="7632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2743200" y="4724280"/>
            <a:ext cx="762120" cy="7632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4038480" y="4724280"/>
            <a:ext cx="762120" cy="7632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5257800" y="4724280"/>
            <a:ext cx="762120" cy="7632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0" y="4724280"/>
            <a:ext cx="228600" cy="7632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8763120" y="4724280"/>
            <a:ext cx="380880" cy="7632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7543800" y="4724280"/>
            <a:ext cx="762120" cy="7632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6400800" y="4724280"/>
            <a:ext cx="762120" cy="7632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Облака"/>
          <p:cNvPicPr/>
          <p:nvPr/>
        </p:nvPicPr>
        <p:blipFill>
          <a:blip r:embed="rId2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0" descr="самолет"/>
          <p:cNvPicPr/>
          <p:nvPr/>
        </p:nvPicPr>
        <p:blipFill>
          <a:blip r:embed="rId3"/>
          <a:stretch/>
        </p:blipFill>
        <p:spPr>
          <a:xfrm>
            <a:off x="3657600" y="0"/>
            <a:ext cx="2133720" cy="855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1" descr="улитка"/>
          <p:cNvPicPr/>
          <p:nvPr/>
        </p:nvPicPr>
        <p:blipFill>
          <a:blip r:embed="rId4"/>
          <a:stretch/>
        </p:blipFill>
        <p:spPr>
          <a:xfrm>
            <a:off x="2666880" y="6407280"/>
            <a:ext cx="457200" cy="450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2" descr="машина"/>
          <p:cNvPicPr/>
          <p:nvPr/>
        </p:nvPicPr>
        <p:blipFill>
          <a:blip r:embed="rId5"/>
          <a:stretch/>
        </p:blipFill>
        <p:spPr>
          <a:xfrm>
            <a:off x="0" y="4648320"/>
            <a:ext cx="2057400" cy="833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" descr="мото"/>
          <p:cNvPicPr/>
          <p:nvPr/>
        </p:nvPicPr>
        <p:blipFill>
          <a:blip r:embed="rId6"/>
          <a:stretch/>
        </p:blipFill>
        <p:spPr>
          <a:xfrm>
            <a:off x="9144000" y="3733920"/>
            <a:ext cx="1752480" cy="811080"/>
          </a:xfrm>
          <a:prstGeom prst="rect">
            <a:avLst/>
          </a:prstGeom>
          <a:ln w="0">
            <a:noFill/>
          </a:ln>
        </p:spPr>
      </p:pic>
      <p:sp>
        <p:nvSpPr>
          <p:cNvPr id="187" name="WordArt 27"/>
          <p:cNvSpPr txBox="1"/>
          <p:nvPr/>
        </p:nvSpPr>
        <p:spPr>
          <a:xfrm>
            <a:off x="1447920" y="1371600"/>
            <a:ext cx="5867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8000">
                  <a:solidFill>
                    <a:srgbClr val="ce4226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скорость движения</a:t>
            </a:r>
            <a:endParaRPr b="1" lang="en-US" sz="1800" spc="1" strike="noStrike">
              <a:ln w="18000">
                <a:solidFill>
                  <a:srgbClr val="ce4226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9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6 L -0.625 0.00439 E">
                                      <p:cBhvr>
                                        <p:cTn id="11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4.07407E-006 L 1.02917 0.00601 E">
                                      <p:cBhvr>
                                        <p:cTn id="20" dur="3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1.20416 -0.00347 E">
                                      <p:cBhvr>
                                        <p:cTn id="22" dur="3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ourier New"/>
              </a:rPr>
              <a:t>Соединить картинку со значением скорости.</a:t>
            </a: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981080" y="1219320"/>
          <a:ext cx="6858000" cy="4190760"/>
        </p:xfrm>
        <a:graphic>
          <a:graphicData uri="http://schemas.openxmlformats.org/drawingml/2006/table">
            <a:tbl>
              <a:tblPr/>
              <a:tblGrid>
                <a:gridCol w="3048120"/>
                <a:gridCol w="3809880"/>
              </a:tblGrid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1981080" y="5410080"/>
          <a:ext cx="6858000" cy="1143000"/>
        </p:xfrm>
        <a:graphic>
          <a:graphicData uri="http://schemas.openxmlformats.org/drawingml/2006/table">
            <a:tbl>
              <a:tblPr/>
              <a:tblGrid>
                <a:gridCol w="3048120"/>
                <a:gridCol w="38098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ff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358" name="Picture 10" descr="j0336328"/>
          <p:cNvPicPr/>
          <p:nvPr/>
        </p:nvPicPr>
        <p:blipFill>
          <a:blip r:embed="rId1"/>
          <a:stretch/>
        </p:blipFill>
        <p:spPr>
          <a:xfrm>
            <a:off x="2895480" y="5486400"/>
            <a:ext cx="1400400" cy="933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CRCTR432"/>
          <p:cNvPicPr/>
          <p:nvPr/>
        </p:nvPicPr>
        <p:blipFill>
          <a:blip r:embed="rId2"/>
          <a:stretch/>
        </p:blipFill>
        <p:spPr>
          <a:xfrm flipH="1">
            <a:off x="2971800" y="3352680"/>
            <a:ext cx="914400" cy="90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4" descr="самолет"/>
          <p:cNvPicPr/>
          <p:nvPr/>
        </p:nvPicPr>
        <p:blipFill>
          <a:blip r:embed="rId3"/>
          <a:stretch/>
        </p:blipFill>
        <p:spPr>
          <a:xfrm>
            <a:off x="2590920" y="4343400"/>
            <a:ext cx="1904760" cy="855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6" descr="gif077"/>
          <p:cNvPicPr/>
          <p:nvPr/>
        </p:nvPicPr>
        <p:blipFill>
          <a:blip r:embed="rId4"/>
          <a:stretch/>
        </p:blipFill>
        <p:spPr>
          <a:xfrm>
            <a:off x="2743200" y="2209680"/>
            <a:ext cx="1447920" cy="8780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3" descr="j0336322"/>
          <p:cNvPicPr/>
          <p:nvPr/>
        </p:nvPicPr>
        <p:blipFill>
          <a:blip r:embed="rId5"/>
          <a:stretch/>
        </p:blipFill>
        <p:spPr>
          <a:xfrm>
            <a:off x="2590920" y="1386000"/>
            <a:ext cx="1676160" cy="74772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6172920" y="23623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urier New"/>
              </a:rPr>
              <a:t>4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6020280" y="13716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urier New"/>
              </a:rPr>
              <a:t>1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5943960" y="55627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urier New"/>
              </a:rPr>
              <a:t>90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6096600" y="33526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urier New"/>
              </a:rPr>
              <a:t>9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6096600" y="44197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urier New"/>
              </a:rPr>
              <a:t>6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7" descr="CRCTR222"/>
          <p:cNvPicPr/>
          <p:nvPr/>
        </p:nvPicPr>
        <p:blipFill>
          <a:blip r:embed="rId6"/>
          <a:stretch/>
        </p:blipFill>
        <p:spPr>
          <a:xfrm flipH="1">
            <a:off x="228600" y="1981080"/>
            <a:ext cx="1371600" cy="3048120"/>
          </a:xfrm>
          <a:prstGeom prst="rect">
            <a:avLst/>
          </a:prstGeom>
          <a:ln w="0">
            <a:noFill/>
          </a:ln>
        </p:spPr>
      </p:pic>
    </p:spTree>
  </p:cSld>
  <p:transition advTm="19000">
    <p:push dir="r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5607E-007 L 0.00017 0.14428 E">
                                      <p:cBhvr>
                                        <p:cTn id="666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42775E-006 L 0 0.14428 E">
                                      <p:cBhvr>
                                        <p:cTn id="668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4.9711E-006 L -0.01476 -0.28856 E">
                                      <p:cBhvr>
                                        <p:cTn id="670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51445E-007 L 0.00347 0.16647 E">
                                      <p:cBhvr>
                                        <p:cTn id="672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73988E-006 L -0.00833 -0.16647 E">
                                      <p:cBhvr>
                                        <p:cTn id="674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ship_azzy6"/>
          <p:cNvPicPr/>
          <p:nvPr/>
        </p:nvPicPr>
        <p:blipFill>
          <a:blip r:embed="rId1"/>
          <a:stretch/>
        </p:blipFill>
        <p:spPr>
          <a:xfrm>
            <a:off x="0" y="1981080"/>
            <a:ext cx="3048120" cy="20732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urier New"/>
              </a:rPr>
              <a:t>Составь задачу по рисункам и реши их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Line 7"/>
          <p:cNvSpPr/>
          <p:nvPr/>
        </p:nvSpPr>
        <p:spPr>
          <a:xfrm>
            <a:off x="533520" y="4343400"/>
            <a:ext cx="7848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6324480" y="4114800"/>
            <a:ext cx="3812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 flipH="1">
            <a:off x="6324120" y="4114800"/>
            <a:ext cx="3812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5943600" y="32767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urier New"/>
              </a:rPr>
              <a:t>8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1"/>
          <p:cNvSpPr/>
          <p:nvPr/>
        </p:nvSpPr>
        <p:spPr>
          <a:xfrm rot="5400000">
            <a:off x="3314160" y="1714320"/>
            <a:ext cx="457200" cy="6019560"/>
          </a:xfrm>
          <a:custGeom>
            <a:avLst/>
            <a:gdLst>
              <a:gd name="textAreaLeft" fmla="*/ 0 w 457200"/>
              <a:gd name="textAreaRight" fmla="*/ 320760 w 457200"/>
              <a:gd name="textAreaTop" fmla="*/ 250560 h 6019560"/>
              <a:gd name="textAreaBottom" fmla="*/ 5769000 h 601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2"/>
          <p:cNvSpPr/>
          <p:nvPr/>
        </p:nvSpPr>
        <p:spPr>
          <a:xfrm>
            <a:off x="3352680" y="5181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urier New"/>
              </a:rPr>
              <a:t>160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sh dir="r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2775E-006 C 0.00434 0.02821 0.02014 0.04878 0.03576 0.04878 C 0.05156 0.04878 0.0651 0.02821 0.07014 2.42775E-006 C 0.07673 0.02821 0.0901 0.04878 0.10625 0.04878 C 0.12187 0.04878 0.13576 0.02821 0.1401 2.42775E-006 C 0.14687 0.02821 0.16041 0.04878 0.17639 0.04878 C 0.19218 0.04878 0.20816 0.02821 0.2125 2.42775E-006 C 0.21701 0.02821 0.2309 0.04878 0.24878 0.04878 C 0.2625 0.04878 0.27812 0.02821 0.28333 2.42775E-006 C 0.28767 0.02821 0.30347 0.04878 0.31909 0.04878 C 0.33489 0.04878 0.34843 0.02821 0.35347 2.42775E-006 C 0.36007 0.02821 0.37326 0.04878 0.38958 0.04878 C 0.40521 0.04878 0.41892 0.02821 0.42569 2.42775E-006 C 0.43021 0.02821 0.44392 0.04878 0.45972 0.04878 C 0.47586 0.04878 0.49149 0.02821 0.49583 2.42775E-006 C 0.50034 0.02821 0.51423 0.04878 0.53211 0.04878 C 0.54826 0.04878 0.56146 0.02821 0.56666 2.42775E-006 E">
                                      <p:cBhvr>
                                        <p:cTn id="687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5"/>
          <p:cNvSpPr txBox="1"/>
          <p:nvPr/>
        </p:nvSpPr>
        <p:spPr>
          <a:xfrm>
            <a:off x="762120" y="2819520"/>
            <a:ext cx="7772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одведем итог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2000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3000" spc="-1" strike="noStrike">
                <a:solidFill>
                  <a:srgbClr val="660033"/>
                </a:solidFill>
                <a:latin typeface="Verdana"/>
              </a:rPr>
              <a:t>Скорость</a:t>
            </a:r>
            <a:r>
              <a:rPr b="0" lang="ru-RU" sz="3000" spc="-1" strike="noStrike">
                <a:solidFill>
                  <a:srgbClr val="660033"/>
                </a:solidFill>
                <a:latin typeface="Verdana"/>
              </a:rPr>
              <a:t> – это расстояние между двумя точк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3000" spc="-1" strike="noStrike">
                <a:solidFill>
                  <a:srgbClr val="660033"/>
                </a:solidFill>
                <a:latin typeface="Verdana"/>
              </a:rPr>
              <a:t>Скорость</a:t>
            </a:r>
            <a:r>
              <a:rPr b="0" lang="ru-RU" sz="3000" spc="-1" strike="noStrike">
                <a:solidFill>
                  <a:srgbClr val="660033"/>
                </a:solidFill>
                <a:latin typeface="Verdana"/>
              </a:rPr>
              <a:t> – это расстояние, пройденное телом за единицу времени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3000" spc="-1" strike="noStrike">
                <a:solidFill>
                  <a:srgbClr val="660033"/>
                </a:solidFill>
                <a:latin typeface="Verdana"/>
              </a:rPr>
              <a:t>Скорость</a:t>
            </a:r>
            <a:r>
              <a:rPr b="0" lang="ru-RU" sz="3000" spc="-1" strike="noStrike">
                <a:solidFill>
                  <a:srgbClr val="660033"/>
                </a:solidFill>
                <a:latin typeface="Verdana"/>
              </a:rPr>
              <a:t> – это быстрая ез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304920" y="228600"/>
            <a:ext cx="85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1. Выбери правильное утвержд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и подчеркн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push dir="r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200"/>
                            </p:stCondLst>
                            <p:childTnLst>
                              <p:par>
                                <p:cTn id="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304920" y="53352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2. Соедини части правила-формулы.</a:t>
            </a:r>
            <a:r>
              <a:rPr b="0" lang="ru-RU" sz="4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5068800" y="1752480"/>
            <a:ext cx="1552320" cy="100836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V·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5068800" y="3200400"/>
            <a:ext cx="1552320" cy="100836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6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5068800" y="4800600"/>
            <a:ext cx="1552320" cy="1008360"/>
          </a:xfrm>
          <a:prstGeom prst="rect">
            <a:avLst/>
          </a:prstGeom>
          <a:solidFill>
            <a:srgbClr val="ff99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6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1219320" y="304812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33"/>
                </a:solidFill>
                <a:latin typeface="Courier New"/>
              </a:rPr>
              <a:t>S</a:t>
            </a:r>
            <a:r>
              <a:rPr b="1" lang="ru-RU" sz="9600" spc="-1" strike="noStrike">
                <a:solidFill>
                  <a:srgbClr val="660033"/>
                </a:solidFill>
                <a:latin typeface="Courier New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1295280" y="46483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33"/>
                </a:solidFill>
                <a:latin typeface="Courier New"/>
              </a:rPr>
              <a:t>V</a:t>
            </a:r>
            <a:r>
              <a:rPr b="1" lang="ru-RU" sz="9600" spc="-1" strike="noStrike">
                <a:solidFill>
                  <a:srgbClr val="660033"/>
                </a:solidFill>
                <a:latin typeface="Courier New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1219320" y="15238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33"/>
                </a:solidFill>
                <a:latin typeface="Courier New"/>
              </a:rPr>
              <a:t>t</a:t>
            </a:r>
            <a:r>
              <a:rPr b="1" lang="ru-RU" sz="9600" spc="-1" strike="noStrike">
                <a:solidFill>
                  <a:srgbClr val="660033"/>
                </a:solidFill>
                <a:latin typeface="Courier New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ush dir="r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56647E-006 L 0.19583 -0.22428 E">
                                      <p:cBhvr>
                                        <p:cTn id="771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9.82659E-007 L 0.19167 -0.24647 E">
                                      <p:cBhvr>
                                        <p:cTn id="775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5607E-007 L 0.20833 0.44162 E">
                                      <p:cBhvr>
                                        <p:cTn id="779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р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ксенова Нина Вадимовна,                     учитель начальных классов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У «СОШ № 26» г. Энгельс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914400" y="419112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3352680" y="4038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aks1967.67@b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5" descr="golub14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0" y="4648320"/>
            <a:ext cx="9144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0" y="579132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2    3    4    5    6    7    8    9    10   11    12   13   14   15  16  17  18  19  20  21  22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1522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5335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9144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12952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16765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20574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24382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28195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32004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36576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41148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45720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50292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2"/>
          <p:cNvSpPr/>
          <p:nvPr/>
        </p:nvSpPr>
        <p:spPr>
          <a:xfrm>
            <a:off x="54864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58672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62485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66294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>
            <a:off x="70102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73915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77724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>
            <a:off x="81532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85345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1"/>
          <p:cNvSpPr/>
          <p:nvPr/>
        </p:nvSpPr>
        <p:spPr>
          <a:xfrm>
            <a:off x="89154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2" descr="машина"/>
          <p:cNvPicPr/>
          <p:nvPr/>
        </p:nvPicPr>
        <p:blipFill>
          <a:blip r:embed="rId2"/>
          <a:stretch/>
        </p:blipFill>
        <p:spPr>
          <a:xfrm>
            <a:off x="0" y="3886200"/>
            <a:ext cx="2057400" cy="833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34"/>
          <p:cNvSpPr/>
          <p:nvPr/>
        </p:nvSpPr>
        <p:spPr>
          <a:xfrm rot="5400000">
            <a:off x="646920" y="4381560"/>
            <a:ext cx="762120" cy="53316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4.07407E-006 L 1.02917 0.00601 E">
                                      <p:cBhvr>
                                        <p:cTn id="50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1.10416 2.22222E-006 E">
                                      <p:cBhvr>
                                        <p:cTn id="52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5" descr="golub14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5029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golub14"/>
          <p:cNvPicPr/>
          <p:nvPr/>
        </p:nvPicPr>
        <p:blipFill>
          <a:blip r:embed="rId2"/>
          <a:stretch/>
        </p:blipFill>
        <p:spPr>
          <a:xfrm>
            <a:off x="0" y="0"/>
            <a:ext cx="4495680" cy="50292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467a8c"/>
                </a:solidFill>
                <a:latin typeface="Courier New"/>
              </a:rPr>
              <a:t>Движение </a:t>
            </a:r>
            <a:r>
              <a:rPr b="1" lang="ru-RU" sz="3400" spc="-1" strike="noStrike">
                <a:solidFill>
                  <a:srgbClr val="467a8c"/>
                </a:solidFill>
                <a:latin typeface="Courier New"/>
              </a:rPr>
              <a:t>- езда, ходьба в разном направлении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990720" y="5029200"/>
            <a:ext cx="71625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3352680" y="5334120"/>
            <a:ext cx="381240" cy="7596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4038480" y="5334120"/>
            <a:ext cx="381240" cy="7596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4724280" y="5334120"/>
            <a:ext cx="381240" cy="7596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7315200" y="5334120"/>
            <a:ext cx="380880" cy="7596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6705720" y="5334120"/>
            <a:ext cx="380880" cy="7596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7"/>
          <p:cNvSpPr/>
          <p:nvPr/>
        </p:nvSpPr>
        <p:spPr>
          <a:xfrm>
            <a:off x="5410080" y="5334120"/>
            <a:ext cx="457200" cy="7596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дом 2"/>
          <p:cNvPicPr/>
          <p:nvPr/>
        </p:nvPicPr>
        <p:blipFill>
          <a:blip r:embed="rId3"/>
          <a:stretch/>
        </p:blipFill>
        <p:spPr>
          <a:xfrm>
            <a:off x="7819920" y="4572000"/>
            <a:ext cx="1324080" cy="1266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дом1"/>
          <p:cNvPicPr/>
          <p:nvPr/>
        </p:nvPicPr>
        <p:blipFill>
          <a:blip r:embed="rId4"/>
          <a:stretch/>
        </p:blipFill>
        <p:spPr>
          <a:xfrm>
            <a:off x="228600" y="4114800"/>
            <a:ext cx="1206360" cy="1647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9"/>
          <p:cNvSpPr/>
          <p:nvPr/>
        </p:nvSpPr>
        <p:spPr>
          <a:xfrm>
            <a:off x="6095880" y="5334120"/>
            <a:ext cx="381240" cy="7596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1"/>
          <p:cNvSpPr/>
          <p:nvPr/>
        </p:nvSpPr>
        <p:spPr>
          <a:xfrm>
            <a:off x="1295280" y="5334120"/>
            <a:ext cx="228600" cy="7596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2"/>
          <p:cNvSpPr/>
          <p:nvPr/>
        </p:nvSpPr>
        <p:spPr>
          <a:xfrm>
            <a:off x="1752480" y="5334120"/>
            <a:ext cx="381240" cy="7596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2286000" y="5334120"/>
            <a:ext cx="380880" cy="7596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4"/>
          <p:cNvSpPr/>
          <p:nvPr/>
        </p:nvSpPr>
        <p:spPr>
          <a:xfrm>
            <a:off x="2819520" y="5334120"/>
            <a:ext cx="380880" cy="75960"/>
          </a:xfrm>
          <a:prstGeom prst="rect">
            <a:avLst/>
          </a:prstGeom>
          <a:solidFill>
            <a:srgbClr val="61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5" descr="j0336906"/>
          <p:cNvPicPr/>
          <p:nvPr/>
        </p:nvPicPr>
        <p:blipFill>
          <a:blip r:embed="rId5"/>
          <a:stretch/>
        </p:blipFill>
        <p:spPr>
          <a:xfrm>
            <a:off x="1981080" y="4572000"/>
            <a:ext cx="1067040" cy="10350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27"/>
          <p:cNvSpPr/>
          <p:nvPr/>
        </p:nvSpPr>
        <p:spPr>
          <a:xfrm rot="5400000">
            <a:off x="4343040" y="2057040"/>
            <a:ext cx="381240" cy="7543800"/>
          </a:xfrm>
          <a:custGeom>
            <a:avLst/>
            <a:gdLst>
              <a:gd name="textAreaLeft" fmla="*/ 0 w 381240"/>
              <a:gd name="textAreaRight" fmla="*/ 267480 w 381240"/>
              <a:gd name="textAreaTop" fmla="*/ 314280 h 7543800"/>
              <a:gd name="textAreaBottom" fmla="*/ 7229520 h 754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4114800" y="594684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3886200" y="2133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259092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3429000" y="3276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2"/>
          <p:cNvSpPr/>
          <p:nvPr/>
        </p:nvSpPr>
        <p:spPr>
          <a:xfrm>
            <a:off x="838188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3"/>
          <p:cNvSpPr/>
          <p:nvPr/>
        </p:nvSpPr>
        <p:spPr>
          <a:xfrm>
            <a:off x="60948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6" descr="j0336904"/>
          <p:cNvPicPr/>
          <p:nvPr/>
        </p:nvPicPr>
        <p:blipFill>
          <a:blip r:embed="rId6"/>
          <a:stretch/>
        </p:blipFill>
        <p:spPr>
          <a:xfrm>
            <a:off x="7238880" y="4419720"/>
            <a:ext cx="924120" cy="990360"/>
          </a:xfrm>
          <a:prstGeom prst="rect">
            <a:avLst/>
          </a:prstGeom>
          <a:ln w="0">
            <a:noFill/>
          </a:ln>
        </p:spPr>
      </p:pic>
      <p:sp>
        <p:nvSpPr>
          <p:cNvPr id="243" name="Line 37"/>
          <p:cNvSpPr/>
          <p:nvPr/>
        </p:nvSpPr>
        <p:spPr>
          <a:xfrm>
            <a:off x="914400" y="4343400"/>
            <a:ext cx="7391520" cy="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8"/>
          <p:cNvSpPr/>
          <p:nvPr/>
        </p:nvSpPr>
        <p:spPr>
          <a:xfrm>
            <a:off x="537120" y="21337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Расстояние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9"/>
          <p:cNvSpPr/>
          <p:nvPr/>
        </p:nvSpPr>
        <p:spPr>
          <a:xfrm>
            <a:off x="536040" y="2743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Время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0"/>
          <p:cNvSpPr/>
          <p:nvPr/>
        </p:nvSpPr>
        <p:spPr>
          <a:xfrm>
            <a:off x="536760" y="33526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Скорость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62428E-006 L 0.69167 0.00209 E">
                                      <p:cBhvr>
                                        <p:cTn id="64" dur="3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4971E-006 L -0.81719 -0.00555 E">
                                      <p:cBhvr>
                                        <p:cTn id="74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31214E-007 L 0.775 -0.00231 E">
                                      <p:cBhvr>
                                        <p:cTn id="117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urier New"/>
              </a:rPr>
              <a:t>Расстояние</a:t>
            </a:r>
            <a:r>
              <a:rPr b="1" lang="en-US" sz="4400" spc="-1" strike="noStrike">
                <a:solidFill>
                  <a:srgbClr val="ff0000"/>
                </a:solidFill>
                <a:latin typeface="Courier New"/>
              </a:rPr>
              <a:t> (s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419360" y="18288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7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ourier New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- это пространство разделяющее два пункта; промежуток между чем-либ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7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Обозначение -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7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Единицы измере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мм, см, м, км, шагах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6" descr="лин"/>
          <p:cNvPicPr/>
          <p:nvPr/>
        </p:nvPicPr>
        <p:blipFill>
          <a:blip r:embed="rId1"/>
          <a:stretch/>
        </p:blipFill>
        <p:spPr>
          <a:xfrm>
            <a:off x="228600" y="1905120"/>
            <a:ext cx="3809880" cy="2698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ро"/>
          <p:cNvPicPr/>
          <p:nvPr/>
        </p:nvPicPr>
        <p:blipFill>
          <a:blip r:embed="rId2"/>
          <a:stretch/>
        </p:blipFill>
        <p:spPr>
          <a:xfrm>
            <a:off x="3138480" y="3962520"/>
            <a:ext cx="1379520" cy="2514600"/>
          </a:xfrm>
          <a:prstGeom prst="rect">
            <a:avLst/>
          </a:prstGeom>
          <a:ln w="0">
            <a:noFill/>
          </a:ln>
        </p:spPr>
      </p:pic>
    </p:spTree>
  </p:cSld>
  <p:transition advTm="12000"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88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44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16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84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84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urier New"/>
              </a:rPr>
              <a:t>Время</a:t>
            </a:r>
            <a:r>
              <a:rPr b="1" lang="en-US" sz="4400" spc="-1" strike="noStrike">
                <a:solidFill>
                  <a:srgbClr val="ff0000"/>
                </a:solidFill>
                <a:latin typeface="Courier New"/>
              </a:rPr>
              <a:t> (t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95320" y="2286000"/>
            <a:ext cx="4148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675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Courier New"/>
              </a:rPr>
              <a:t>Время</a:t>
            </a:r>
            <a:r>
              <a:rPr b="0" lang="ru-RU" sz="2700" spc="-1" strike="noStrike">
                <a:solidFill>
                  <a:srgbClr val="000000"/>
                </a:solidFill>
                <a:latin typeface="Courier New"/>
              </a:rPr>
              <a:t> – процесс смены явлений, вещей, событий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675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urier New"/>
              </a:rPr>
              <a:t>Обозначение - </a:t>
            </a:r>
            <a:r>
              <a:rPr b="1" lang="en-US" sz="2700" spc="-1" strike="noStrike">
                <a:solidFill>
                  <a:srgbClr val="ff0000"/>
                </a:solidFill>
                <a:latin typeface="Courier New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675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urier New"/>
              </a:rPr>
              <a:t>Единицы измерения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Courier New"/>
              </a:rPr>
              <a:t>мин, сек, ч, сутках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6" descr="BS00935_"/>
          <p:cNvPicPr/>
          <p:nvPr/>
        </p:nvPicPr>
        <p:blipFill>
          <a:blip r:embed="rId1"/>
          <a:stretch/>
        </p:blipFill>
        <p:spPr>
          <a:xfrm rot="510000">
            <a:off x="2057400" y="3733560"/>
            <a:ext cx="1895400" cy="1981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CLOCK"/>
          <p:cNvPicPr/>
          <p:nvPr/>
        </p:nvPicPr>
        <p:blipFill>
          <a:blip r:embed="rId2"/>
          <a:stretch/>
        </p:blipFill>
        <p:spPr>
          <a:xfrm>
            <a:off x="457200" y="1752480"/>
            <a:ext cx="2597040" cy="266724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64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2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92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640"/>
                            </p:stCondLst>
                            <p:childTnLst>
                              <p:par>
                                <p:cTn id="1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640"/>
                            </p:stCondLst>
                            <p:childTnLst>
                              <p:par>
                                <p:cTn id="1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urier New"/>
              </a:rPr>
              <a:t>Скорость</a:t>
            </a:r>
            <a:r>
              <a:rPr b="1" lang="en-US" sz="4400" spc="-1" strike="noStrike">
                <a:solidFill>
                  <a:srgbClr val="ff0000"/>
                </a:solidFill>
                <a:latin typeface="Courier New"/>
              </a:rPr>
              <a:t> (V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038480" y="1752480"/>
            <a:ext cx="4910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ourier New"/>
              </a:rPr>
              <a:t>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- называется расстояние, пройденное в единицу времени (за какое-то время – час, минуту, секунду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ctr">
              <a:lnSpc>
                <a:spcPct val="90000"/>
              </a:lnSpc>
              <a:spcBef>
                <a:spcPts val="7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Обозначение -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ctr">
              <a:lnSpc>
                <a:spcPct val="90000"/>
              </a:lnSpc>
              <a:spcBef>
                <a:spcPts val="7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Единицы измере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км/ч, м/с, км/м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581280" cy="339552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76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32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4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680"/>
                            </p:stCondLst>
                            <p:childTnLst>
                              <p:par>
                                <p:cTn id="2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Группа 13"/>
          <p:cNvGrpSpPr/>
          <p:nvPr/>
        </p:nvGrpSpPr>
        <p:grpSpPr>
          <a:xfrm>
            <a:off x="1371600" y="685080"/>
            <a:ext cx="6324480" cy="5791320"/>
            <a:chOff x="1371600" y="685080"/>
            <a:chExt cx="6324480" cy="5791320"/>
          </a:xfrm>
        </p:grpSpPr>
        <p:sp>
          <p:nvSpPr>
            <p:cNvPr id="259" name="AutoShape 18"/>
            <p:cNvSpPr/>
            <p:nvPr/>
          </p:nvSpPr>
          <p:spPr>
            <a:xfrm flipV="1" rot="10800000">
              <a:off x="1371600" y="684720"/>
              <a:ext cx="6324480" cy="57913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V="1">
              <a:off x="2438280" y="4495680"/>
              <a:ext cx="4114800" cy="45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>
              <a:off x="4526280" y="685800"/>
              <a:ext cx="45720" cy="3810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Группа 11"/>
          <p:cNvGrpSpPr/>
          <p:nvPr/>
        </p:nvGrpSpPr>
        <p:grpSpPr>
          <a:xfrm>
            <a:off x="4800600" y="2395440"/>
            <a:ext cx="1371600" cy="1981440"/>
            <a:chOff x="4800600" y="2395440"/>
            <a:chExt cx="1371600" cy="1981440"/>
          </a:xfrm>
        </p:grpSpPr>
        <p:sp>
          <p:nvSpPr>
            <p:cNvPr id="263" name="AutoShape 21"/>
            <p:cNvSpPr/>
            <p:nvPr/>
          </p:nvSpPr>
          <p:spPr>
            <a:xfrm>
              <a:off x="4800600" y="2395440"/>
              <a:ext cx="1371600" cy="1981440"/>
            </a:xfrm>
            <a:custGeom>
              <a:avLst/>
              <a:gdLst>
                <a:gd name="textAreaLeft" fmla="*/ 88560 w 1371600"/>
                <a:gd name="textAreaRight" fmla="*/ 1283040 w 1371600"/>
                <a:gd name="textAreaTop" fmla="*/ 88560 h 1981440"/>
                <a:gd name="textAreaBottom" fmla="*/ 1892880 h 1981440"/>
              </a:gdLst>
              <a:ahLst/>
              <a:rect l="textAreaLeft" t="textAreaTop" r="textAreaRight" b="textAreaBottom"/>
              <a:pathLst>
                <a:path w="21600" h="31201">
                  <a:moveTo>
                    <a:pt x="0" y="0"/>
                  </a:moveTo>
                  <a:lnTo>
                    <a:pt x="21600" y="0"/>
                  </a:lnTo>
                  <a:lnTo>
                    <a:pt x="21600" y="31201"/>
                  </a:lnTo>
                  <a:lnTo>
                    <a:pt x="0" y="31201"/>
                  </a:lnTo>
                  <a:close/>
                </a:path>
                <a:path fill="lightenLess" w="21600" h="3120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1201">
                  <a:moveTo>
                    <a:pt x="21600" y="0"/>
                  </a:moveTo>
                  <a:lnTo>
                    <a:pt x="21600" y="31201"/>
                  </a:lnTo>
                  <a:lnTo>
                    <a:pt x="20200" y="29801"/>
                  </a:lnTo>
                  <a:lnTo>
                    <a:pt x="20200" y="1400"/>
                  </a:lnTo>
                  <a:close/>
                </a:path>
                <a:path fill="darkenLess" w="21600" h="31201">
                  <a:moveTo>
                    <a:pt x="21600" y="31201"/>
                  </a:moveTo>
                  <a:lnTo>
                    <a:pt x="0" y="31201"/>
                  </a:lnTo>
                  <a:lnTo>
                    <a:pt x="1400" y="29801"/>
                  </a:lnTo>
                  <a:lnTo>
                    <a:pt x="20200" y="29801"/>
                  </a:lnTo>
                  <a:close/>
                </a:path>
                <a:path fill="lighten" w="21600" h="31201">
                  <a:moveTo>
                    <a:pt x="0" y="3120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980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876560" y="2624040"/>
              <a:ext cx="990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660033"/>
                  </a:solidFill>
                  <a:latin typeface="Courier New"/>
                </a:rPr>
                <a:t>t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Группа 12"/>
          <p:cNvGrpSpPr/>
          <p:nvPr/>
        </p:nvGrpSpPr>
        <p:grpSpPr>
          <a:xfrm>
            <a:off x="3048120" y="2438280"/>
            <a:ext cx="1447560" cy="1981440"/>
            <a:chOff x="3048120" y="2438280"/>
            <a:chExt cx="1447560" cy="1981440"/>
          </a:xfrm>
        </p:grpSpPr>
        <p:sp>
          <p:nvSpPr>
            <p:cNvPr id="266" name="AutoShape 20"/>
            <p:cNvSpPr/>
            <p:nvPr/>
          </p:nvSpPr>
          <p:spPr>
            <a:xfrm>
              <a:off x="3048120" y="2438280"/>
              <a:ext cx="1447560" cy="1981440"/>
            </a:xfrm>
            <a:custGeom>
              <a:avLst/>
              <a:gdLst>
                <a:gd name="textAreaLeft" fmla="*/ 93600 w 1447560"/>
                <a:gd name="textAreaRight" fmla="*/ 1353960 w 1447560"/>
                <a:gd name="textAreaTop" fmla="*/ 93600 h 1981440"/>
                <a:gd name="textAreaBottom" fmla="*/ 1887840 h 1981440"/>
              </a:gdLst>
              <a:ahLst/>
              <a:rect l="textAreaLeft" t="textAreaTop" r="textAreaRight" b="textAreaBottom"/>
              <a:pathLst>
                <a:path w="21600" h="29564">
                  <a:moveTo>
                    <a:pt x="0" y="0"/>
                  </a:moveTo>
                  <a:lnTo>
                    <a:pt x="21600" y="0"/>
                  </a:lnTo>
                  <a:lnTo>
                    <a:pt x="21600" y="29564"/>
                  </a:lnTo>
                  <a:lnTo>
                    <a:pt x="0" y="29564"/>
                  </a:lnTo>
                  <a:close/>
                </a:path>
                <a:path fill="lightenLess" w="21600" h="2956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9564">
                  <a:moveTo>
                    <a:pt x="21600" y="0"/>
                  </a:moveTo>
                  <a:lnTo>
                    <a:pt x="21600" y="29564"/>
                  </a:lnTo>
                  <a:lnTo>
                    <a:pt x="20200" y="28164"/>
                  </a:lnTo>
                  <a:lnTo>
                    <a:pt x="20200" y="1400"/>
                  </a:lnTo>
                  <a:close/>
                </a:path>
                <a:path fill="darkenLess" w="21600" h="29564">
                  <a:moveTo>
                    <a:pt x="21600" y="29564"/>
                  </a:moveTo>
                  <a:lnTo>
                    <a:pt x="0" y="29564"/>
                  </a:lnTo>
                  <a:lnTo>
                    <a:pt x="1400" y="28164"/>
                  </a:lnTo>
                  <a:lnTo>
                    <a:pt x="20200" y="28164"/>
                  </a:lnTo>
                  <a:close/>
                </a:path>
                <a:path fill="lighten" w="21600" h="29564">
                  <a:moveTo>
                    <a:pt x="0" y="2956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16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3276720" y="2666880"/>
              <a:ext cx="99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660033"/>
                  </a:solidFill>
                  <a:latin typeface="Courier New"/>
                </a:rPr>
                <a:t>V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Группа 10"/>
          <p:cNvGrpSpPr/>
          <p:nvPr/>
        </p:nvGrpSpPr>
        <p:grpSpPr>
          <a:xfrm>
            <a:off x="3962520" y="4648320"/>
            <a:ext cx="1295280" cy="1676160"/>
            <a:chOff x="3962520" y="4648320"/>
            <a:chExt cx="1295280" cy="1676160"/>
          </a:xfrm>
        </p:grpSpPr>
        <p:sp>
          <p:nvSpPr>
            <p:cNvPr id="269" name="AutoShape 22"/>
            <p:cNvSpPr/>
            <p:nvPr/>
          </p:nvSpPr>
          <p:spPr>
            <a:xfrm>
              <a:off x="3962520" y="4648320"/>
              <a:ext cx="1295280" cy="1676160"/>
            </a:xfrm>
            <a:custGeom>
              <a:avLst/>
              <a:gdLst>
                <a:gd name="textAreaLeft" fmla="*/ 83880 w 1295280"/>
                <a:gd name="textAreaRight" fmla="*/ 1211400 w 1295280"/>
                <a:gd name="textAreaTop" fmla="*/ 83880 h 1676160"/>
                <a:gd name="textAreaBottom" fmla="*/ 1592280 h 1676160"/>
              </a:gdLst>
              <a:ahLst/>
              <a:rect l="textAreaLeft" t="textAreaTop" r="textAreaRight" b="textAreaBottom"/>
              <a:pathLst>
                <a:path w="21600" h="27950">
                  <a:moveTo>
                    <a:pt x="0" y="0"/>
                  </a:moveTo>
                  <a:lnTo>
                    <a:pt x="21600" y="0"/>
                  </a:lnTo>
                  <a:lnTo>
                    <a:pt x="21600" y="27950"/>
                  </a:lnTo>
                  <a:lnTo>
                    <a:pt x="0" y="27950"/>
                  </a:lnTo>
                  <a:close/>
                </a:path>
                <a:path fill="lightenLess" w="21600" h="2795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950">
                  <a:moveTo>
                    <a:pt x="21600" y="0"/>
                  </a:moveTo>
                  <a:lnTo>
                    <a:pt x="21600" y="27950"/>
                  </a:lnTo>
                  <a:lnTo>
                    <a:pt x="20200" y="26550"/>
                  </a:lnTo>
                  <a:lnTo>
                    <a:pt x="20200" y="1400"/>
                  </a:lnTo>
                  <a:close/>
                </a:path>
                <a:path fill="darkenLess" w="21600" h="27950">
                  <a:moveTo>
                    <a:pt x="21600" y="27950"/>
                  </a:moveTo>
                  <a:lnTo>
                    <a:pt x="0" y="27950"/>
                  </a:lnTo>
                  <a:lnTo>
                    <a:pt x="1400" y="26550"/>
                  </a:lnTo>
                  <a:lnTo>
                    <a:pt x="20200" y="26550"/>
                  </a:lnTo>
                  <a:close/>
                </a:path>
                <a:path fill="lighten" w="21600" h="27950">
                  <a:moveTo>
                    <a:pt x="0" y="2795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655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4191120" y="4724280"/>
              <a:ext cx="914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660033"/>
                  </a:solidFill>
                  <a:latin typeface="Courier New"/>
                </a:rPr>
                <a:t>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7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3392640" y="3886200"/>
            <a:ext cx="2466720" cy="100836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V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=S</a:t>
            </a:r>
            <a:r>
              <a:rPr b="1" lang="ru-RU" sz="6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533520" y="1828800"/>
            <a:ext cx="822960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ы узнать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скор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ужно расстояние разделить на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ff"/>
                </a:solidFill>
                <a:uFillTx/>
                <a:latin typeface="Verdana"/>
              </a:rPr>
              <a:t>Основные формулы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229600" y="57150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push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odist</cp:lastModifiedBy>
  <dcterms:modified xsi:type="dcterms:W3CDTF">2010-04-09T07:41:0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